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8C4-C0B8-472A-B0B3-F8A80184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E4C-368E-4A1C-A74C-280CD7B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E91-0764-4EFD-8BF7-B6C4EC5B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D92-9EA2-41F7-9436-BB0D8DDF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7CB-ABC9-4499-B9FF-CB5EF010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7A8-06A6-4D5A-A14E-8D87E512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136-6E71-4551-9285-304504F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1A6-DC69-4CDB-BF0F-C2FE3F44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530-585B-4543-8189-5D7AA2E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45C-D63E-4E29-952A-C502BFA3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B53-9EA2-4370-A19B-F8895E9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43F-F500-4358-B342-300E8B4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5c36b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95c36b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95c36b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95c36b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95c36b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83BA-610A-4376-9EF6-92B1CFF3A62E}" type="datetime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61F-88C7-4470-A872-A1A920353F4A}" type="slidenum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221000"/>
            <a:ext cx="9144000" cy="18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661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898989"/>
              </a:solidFill>
              <a:latin typeface="Palatino Linotype"/>
            </a:endParaRPr>
          </a:p>
        </p:txBody>
      </p:sp>
      <p:sp>
        <p:nvSpPr>
          <p:cNvPr id="44" name=""/>
          <p:cNvSpPr/>
          <p:nvPr/>
        </p:nvSpPr>
        <p:spPr>
          <a:xfrm>
            <a:off x="6242040" y="651672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Palatino Linotype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5c26a"/>
              </a:buClr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Palatino Linotype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Palatino Linotype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Palatino Linotype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Palatino Linotype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55:00Z</dcterms:created>
  <dc:creator>果因PPT工作室</dc:creator>
  <dc:description/>
  <cp:keywords>XS-普屏 4：3;SC-淡绿色;BG-浅色;DH-静态</cp:keywords>
  <dc:language>en-US</dc:language>
  <cp:lastModifiedBy>田士庆</cp:lastModifiedBy>
  <dcterms:modified xsi:type="dcterms:W3CDTF">2015-01-10T12:17:48Z</dcterms:modified>
  <cp:revision>10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