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6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1945800"/>
            <a:ext cx="48258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Georgia"/>
                <a:ea typeface="宋体"/>
              </a:rPr>
              <a:t>Happy Birthday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20560" y="636444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812520"/>
            <a:ext cx="48258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ave a very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appy Birthday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95000" y="1976040"/>
            <a:ext cx="484164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May all your dreams come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9"/>
          <p:cNvSpPr/>
          <p:nvPr/>
        </p:nvSpPr>
        <p:spPr>
          <a:xfrm>
            <a:off x="495360" y="812880"/>
            <a:ext cx="4825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ave a very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appy Birth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"/>
          <p:cNvSpPr/>
          <p:nvPr/>
        </p:nvSpPr>
        <p:spPr>
          <a:xfrm>
            <a:off x="495360" y="1976400"/>
            <a:ext cx="484164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81080" indent="-181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May all your dreams come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40505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40505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40505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/>
  <dc:language>en-US</dc:language>
  <cp:lastModifiedBy>微软中国</cp:lastModifiedBy>
  <dcterms:modified xsi:type="dcterms:W3CDTF">2015-01-10T09:01:15Z</dcterms:modified>
  <cp:revision>7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