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9B9-006B-4E04-AEDB-5D89BDB6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65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067-7914-4B83-9BAB-DE5A2470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65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5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6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9BF8-958F-44D3-9380-83A14066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65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90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14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5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90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14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E01-F6F2-4142-B3C5-AD92A574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65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5B4-B97B-4192-A074-434E7BDE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5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129-198B-413A-B278-A1BAF144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65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36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DBD-1803-4795-8A4D-3E3610B6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331-78EA-4B63-B2F3-C2CB9CC7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25A6-FFAC-4E2F-A816-11033800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65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5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4974-44B9-4CDB-83AC-81A7E700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65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196-16AC-4A53-8A98-A0C6E87A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65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625-5D40-4211-8E16-E31F06E1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5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604360" y="6732720"/>
            <a:ext cx="504720" cy="144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 rot="7140000">
            <a:off x="8373960" y="6626160"/>
            <a:ext cx="216000" cy="187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87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06E4-A9E1-4983-B920-2F6389D81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08360" y="2130120"/>
            <a:ext cx="474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00000"/>
                </a:solidFill>
                <a:latin typeface="Arial"/>
              </a:rPr>
              <a:t>四色拼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es-UY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151840" y="6562800"/>
            <a:ext cx="988920" cy="28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Mariajose</cp:lastModifiedBy>
  <dcterms:modified xsi:type="dcterms:W3CDTF">2015-01-10T12:05:24Z</dcterms:modified>
  <cp:revision>8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