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898-D9E4-4E09-9138-7A8F1420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98E-307B-47C5-87A7-C319ABF7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180-E1DF-41A6-967B-9F43DE33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41A-CF67-4A25-A5D6-954E6421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6ACF-9D5B-45AF-9BE1-FED80844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3FDE-3B88-4D57-A8A5-FFFF54EC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C201-CCAA-4D62-A601-AA2BEB6F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2C57-EA75-45B7-9BCE-89F9F183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7760-BCFC-4A78-AD10-5C8864BC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6B7B-E726-4876-84DE-7A753144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671C-3C5D-40DD-977E-E7911F00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B09-EA84-48C6-AB82-0A7A1F70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B473-E2FA-4C50-9DDB-C95B2CE2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3DB5-6D45-4C23-8372-43DE2C34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C99B-5DF7-4B82-B19C-07BD19D8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FAA5-F3E3-41C8-AD92-6C1470AE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4A42-510D-417D-A53D-D7F3DCFC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B58-E0C3-4323-9D05-8ED33BF9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AFF-B7A9-4104-A68E-3384E125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085-1BA4-46BA-BD2B-2C50F564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48B-8EF2-4060-8365-6917F478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BC4-5EFC-4D59-B1D2-8CC97ABD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5DB-A21B-4FE7-839D-1281EB5F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A0C-9021-4CF5-B421-541F11E9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5f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5f2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f5f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5f2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f5f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5f2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5f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5f2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f5f2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5f2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5f2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5f2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8711-86A7-4B47-95B3-3FC5919EB9BA}" type="slidenum">
              <a:rPr b="0" lang="en-US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1628280"/>
            <a:ext cx="6553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F575-C130-474D-9067-43D645E4BA5E}" type="slidenum">
              <a:rPr b="0" lang="en-US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5f2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f5f2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5f2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f5f2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f5f2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5f2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f5f2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f5f2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5f2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f5f2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f5f2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5f2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f5f2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5f2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f5f2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5f2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f5f2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560" y="1628280"/>
            <a:ext cx="6553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23e26"/>
                </a:solidFill>
                <a:latin typeface="Arial"/>
              </a:rPr>
              <a:t>商务办公</a:t>
            </a:r>
            <a:r>
              <a:rPr b="1" lang="zh-CN" sz="4400" spc="-1" strike="noStrike">
                <a:solidFill>
                  <a:srgbClr val="523e26"/>
                </a:solidFill>
                <a:latin typeface="Arial"/>
              </a:rPr>
              <a:t>PPT</a:t>
            </a:r>
            <a:r>
              <a:rPr b="1" lang="en-US" sz="4400" spc="-1" strike="noStrike">
                <a:solidFill>
                  <a:srgbClr val="523e26"/>
                </a:solidFill>
                <a:latin typeface="Arial"/>
              </a:rPr>
              <a:t>模板</a:t>
            </a:r>
            <a:endParaRPr b="1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848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5f2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c08d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5f2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5f2f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19:08Z</dcterms:created>
  <dc:creator/>
  <dc:description/>
  <dc:language>en-US</dc:language>
  <cp:lastModifiedBy/>
  <dcterms:modified xsi:type="dcterms:W3CDTF">2015-01-10T12:45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