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AEA2-C887-43AA-9067-E42DA49E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2342-04C9-43C4-B1BE-E53721EA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AD42-8EC7-4261-95A6-C76441DB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43D-6D04-4EF1-B9A3-868D8D3A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DA4E-CB96-44EA-97FA-21E3FC3E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F7C4-C834-40CB-BC05-44C42CBA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8703-4EB6-4589-B215-8E29BFD4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76D2-9162-4FE1-AB3F-E31F56A2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452E-55E2-4AAE-B3B1-651EBFC9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0CFF-E425-488C-AA69-9F7DCD7D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9B22-2B88-4223-88A1-4838D8FD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170E-022B-4930-84E5-1E022AE4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9D53A4-ADFF-4F7B-B208-A11E88507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728840" y="6948360"/>
            <a:ext cx="23252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en-GB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GB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GB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0"/>
          <p:cNvSpPr/>
          <p:nvPr/>
        </p:nvSpPr>
        <p:spPr>
          <a:xfrm>
            <a:off x="360360" y="108000"/>
            <a:ext cx="91090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504720" y="745920"/>
            <a:ext cx="907092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334440" cy="7559280"/>
            <a:chOff x="0" y="0"/>
            <a:chExt cx="9334440" cy="7559280"/>
          </a:xfrm>
        </p:grpSpPr>
        <p:sp>
          <p:nvSpPr>
            <p:cNvPr id="45" name="矩形 4"/>
            <p:cNvSpPr/>
            <p:nvPr/>
          </p:nvSpPr>
          <p:spPr>
            <a:xfrm>
              <a:off x="983160" y="0"/>
              <a:ext cx="6742440" cy="6606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889640"/>
              <a:ext cx="9334440" cy="56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Box 7"/>
            <p:cNvSpPr/>
            <p:nvPr/>
          </p:nvSpPr>
          <p:spPr>
            <a:xfrm rot="20926800">
              <a:off x="2098080" y="3939840"/>
              <a:ext cx="5145840" cy="11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8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5:58:11Z</dcterms:created>
  <dc:creator>17ppt.com</dc:creator>
  <dc:description/>
  <dc:language>en-US</dc:language>
  <cp:lastModifiedBy>微软用户</cp:lastModifiedBy>
  <dcterms:modified xsi:type="dcterms:W3CDTF">2015-01-10T12:46:12Z</dcterms:modified>
  <cp:revision>7</cp:revision>
  <dc:subject/>
  <dc:title> 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License">
    <vt:lpwstr>&lt;a href="http://templates.services.openoffice.org/bsd-license"&gt;BSD&lt;/a&gt;</vt:lpwstr>
  </property>
</Properties>
</file>