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05D-1A78-4F06-B668-85EFC0A4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8750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872160"/>
            <a:ext cx="8750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A2A-9A9C-4B74-8B5A-A7CF3C5A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7216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87216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2888-EEA8-4895-9B66-B96ECEB6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3840" y="152352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2680" y="152352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87216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3840" y="387216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2680" y="387216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65A8-E192-4051-96AB-E28B4190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B127-90B4-40F3-AAAD-D1D16240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360" y="1523520"/>
            <a:ext cx="87501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C4F7-9C30-4669-A62E-2C1C940C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8750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EFA2-E09C-41F6-B6DD-198E972C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4269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9160" y="1523520"/>
            <a:ext cx="4269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160B-9637-41DA-84CA-D27DEF07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0FE7-281D-49B6-A441-66521E68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182160"/>
            <a:ext cx="87501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A6A2-DABC-4FBF-9F2E-52B346DF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9160" y="1523520"/>
            <a:ext cx="4269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360" y="387216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35F3-573A-419C-A5D5-517C2C46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523520"/>
            <a:ext cx="87501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B93B-26D1-4F6F-9E5A-6DF978FE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4269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91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9160" y="387216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15D0-C5C0-4967-B2C6-3A1EA4C0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91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872160"/>
            <a:ext cx="8750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43BF-A40C-4E4B-B12E-CFF2BCE1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8750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360" y="3872160"/>
            <a:ext cx="8750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BF07-EB93-4B12-A9B8-113E685A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91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87216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9160" y="387216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90BC-AC3F-42A6-A119-9C291512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53840" y="152352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12680" y="152352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360" y="387216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53840" y="387216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12680" y="387216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EA21-6BF0-4E3E-A681-79F9F672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8750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D05B-8DDA-4BCF-98DF-5DD6EF79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4269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523520"/>
            <a:ext cx="4269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E9A-E4DB-4CB8-AB4F-853378CE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152F-4318-4312-8FB2-5F42240D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182160"/>
            <a:ext cx="87501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673-65DF-4B65-82C8-D7E5F5E0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523520"/>
            <a:ext cx="4269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87216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16A7-66DB-4A1E-BC9F-C1046708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4269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87216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4875-7883-493B-A8AE-68AA1AA2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872160"/>
            <a:ext cx="8750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81D-7C39-4B5E-816E-EFE508D3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aabc4"/>
                </a:solidFill>
                <a:latin typeface="华文楷体"/>
              </a:rPr>
              <a:t>Click to edit the title text format</a:t>
            </a: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23520"/>
            <a:ext cx="8750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Click to edit the outline text format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1" marL="743040" indent="-285840">
              <a:spcBef>
                <a:spcPts val="799"/>
              </a:spcBef>
              <a:buClr>
                <a:srgbClr val="91919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econd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2" marL="1143000" indent="-228600">
              <a:spcBef>
                <a:spcPts val="799"/>
              </a:spcBef>
              <a:buClr>
                <a:srgbClr val="91919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Third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3" marL="1600200" indent="-228600">
              <a:spcBef>
                <a:spcPts val="799"/>
              </a:spcBef>
              <a:buClr>
                <a:srgbClr val="919191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Four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4" marL="2057400" indent="-228600">
              <a:spcBef>
                <a:spcPts val="799"/>
              </a:spcBef>
              <a:buClr>
                <a:srgbClr val="91919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Fif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5" marL="2057400" indent="-228600">
              <a:spcBef>
                <a:spcPts val="799"/>
              </a:spcBef>
              <a:buClr>
                <a:srgbClr val="91919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ix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6" marL="2057400" indent="-228600">
              <a:spcBef>
                <a:spcPts val="799"/>
              </a:spcBef>
              <a:buClr>
                <a:srgbClr val="91919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even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140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63880" y="6248520"/>
            <a:ext cx="561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2240" y="6248520"/>
            <a:ext cx="140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5E63-4A96-4188-9137-A58D89D1153C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aabc4"/>
                </a:solidFill>
                <a:latin typeface="华文楷体"/>
              </a:rPr>
              <a:t>Click to edit the title text format</a:t>
            </a: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523520"/>
            <a:ext cx="8750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Click to edit the outline text format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1" marL="743040" indent="-285840">
              <a:spcBef>
                <a:spcPts val="799"/>
              </a:spcBef>
              <a:buClr>
                <a:srgbClr val="91919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econd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2" marL="1143000" indent="-228600">
              <a:spcBef>
                <a:spcPts val="799"/>
              </a:spcBef>
              <a:buClr>
                <a:srgbClr val="91919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Third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3" marL="1600200" indent="-228600">
              <a:spcBef>
                <a:spcPts val="799"/>
              </a:spcBef>
              <a:buClr>
                <a:srgbClr val="919191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Four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4" marL="2057400" indent="-228600">
              <a:spcBef>
                <a:spcPts val="799"/>
              </a:spcBef>
              <a:buClr>
                <a:srgbClr val="91919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Fif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5" marL="2057400" indent="-228600">
              <a:spcBef>
                <a:spcPts val="799"/>
              </a:spcBef>
              <a:buClr>
                <a:srgbClr val="91919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ix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6" marL="2057400" indent="-228600">
              <a:spcBef>
                <a:spcPts val="799"/>
              </a:spcBef>
              <a:buClr>
                <a:srgbClr val="91919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even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47320" y="647712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58520" y="6477120"/>
            <a:ext cx="4705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94200" y="647712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919191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585F-61D0-4E43-BC1A-B5B60215CD52}" type="slidenum">
              <a:rPr b="1" lang="zh-CN" sz="1200" spc="-1" strike="noStrike">
                <a:solidFill>
                  <a:srgbClr val="919191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7320" y="243000"/>
            <a:ext cx="932796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aabc4"/>
                </a:solidFill>
                <a:latin typeface="华文楷体"/>
              </a:rPr>
              <a:t>商务图片背景</a:t>
            </a:r>
            <a:r>
              <a:rPr b="1" lang="zh-CN" sz="4800" spc="-1" strike="noStrike">
                <a:solidFill>
                  <a:srgbClr val="8aabc4"/>
                </a:solidFill>
                <a:latin typeface="华文楷体"/>
              </a:rPr>
              <a:t>PPT</a:t>
            </a:r>
            <a:r>
              <a:rPr b="1" lang="en-US" sz="4800" spc="-1" strike="noStrike">
                <a:solidFill>
                  <a:srgbClr val="8aabc4"/>
                </a:solidFill>
                <a:latin typeface="华文楷体"/>
              </a:rPr>
              <a:t>模板</a:t>
            </a:r>
            <a:endParaRPr b="1" i="1" lang="en-US" sz="48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83" name=""/>
          <p:cNvSpPr/>
          <p:nvPr/>
        </p:nvSpPr>
        <p:spPr>
          <a:xfrm>
            <a:off x="7836840" y="64771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91919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95360" y="1523520"/>
            <a:ext cx="8750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9172440" cy="6858000"/>
            <a:chOff x="0" y="0"/>
            <a:chExt cx="9172440" cy="6858000"/>
          </a:xfrm>
        </p:grpSpPr>
        <p:sp>
          <p:nvSpPr>
            <p:cNvPr id="87" name="矩形 4"/>
            <p:cNvSpPr/>
            <p:nvPr/>
          </p:nvSpPr>
          <p:spPr>
            <a:xfrm>
              <a:off x="9075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19191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919191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919191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919191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919191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917244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2080080" y="3572280"/>
              <a:ext cx="505656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91af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91af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91af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91919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03:39:00Z</dcterms:created>
  <dc:creator/>
  <dc:description/>
  <dc:language>en-US</dc:language>
  <cp:lastModifiedBy>秋叶</cp:lastModifiedBy>
  <dcterms:modified xsi:type="dcterms:W3CDTF">2015-01-10T08:39:16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010721562052</vt:lpwstr>
  </property>
</Properties>
</file>