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C29B-A10A-4ED7-9DCD-C2C5B6E3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6B41-0DFB-4277-8B9B-16E0B109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68BF-90A2-4811-A172-81E4114F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069-1244-4BF6-946B-CBD4891E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7E35-DA7F-4D73-9763-B42046AC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F320-426D-4AE2-BE5A-73CF84E6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E5F4-2B37-43DE-9742-788C1A25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D927-28C8-49A0-9ACA-E70B43BB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23D3-893F-4E87-AC74-10FB4214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0C80-52FE-4EA6-AF93-3A0438F9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A72D-75BE-4DB1-AAE0-2B3204C4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32EA-3558-45BD-8685-3D90EACE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2C62-B7D6-4B1E-B683-E02D6CC2D34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9D4D-3D89-468C-998F-13C281F2C79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0" t="18690" r="0" b="5192"/>
          <a:stretch/>
        </p:blipFill>
        <p:spPr>
          <a:xfrm>
            <a:off x="0" y="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627280" y="2820960"/>
            <a:ext cx="6516720" cy="248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482920" y="3068640"/>
            <a:ext cx="66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550d"/>
                </a:solidFill>
                <a:latin typeface="经典行书简"/>
                <a:ea typeface="经典行书简"/>
              </a:rPr>
              <a:t>生</a:t>
            </a:r>
            <a:r>
              <a:rPr b="1" lang="zh-CN" sz="8000" spc="-1" strike="noStrike">
                <a:solidFill>
                  <a:srgbClr val="ff550d"/>
                </a:solidFill>
                <a:latin typeface="经典行书简"/>
                <a:ea typeface="经典行书简"/>
              </a:rPr>
              <a:t>物预防药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2916360" y="46432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作者：      玉碎琉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0"/>
          <p:cNvSpPr/>
          <p:nvPr/>
        </p:nvSpPr>
        <p:spPr>
          <a:xfrm>
            <a:off x="2627280" y="4581360"/>
            <a:ext cx="6581880" cy="0"/>
          </a:xfrm>
          <a:prstGeom prst="line">
            <a:avLst/>
          </a:prstGeom>
          <a:ln w="19080">
            <a:solidFill>
              <a:srgbClr val="9bbb5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8588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24" name="矩形 2"/>
          <p:cNvSpPr/>
          <p:nvPr/>
        </p:nvSpPr>
        <p:spPr>
          <a:xfrm>
            <a:off x="324000" y="4365720"/>
            <a:ext cx="606564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存在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疫苗由于具有生命，可以恢复治病活性，仍然可以导致免疫功能低下的人（如艾滋病患者、感冒患者）患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死疫苗虽然没有这方面的风险，但对于某些疾病，不能产生特定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反应，并可能无法正常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5120" y="1036800"/>
            <a:ext cx="8553600" cy="1099440"/>
            <a:chOff x="195120" y="1036800"/>
            <a:chExt cx="8553600" cy="1099440"/>
          </a:xfrm>
        </p:grpSpPr>
        <p:sp>
          <p:nvSpPr>
            <p:cNvPr id="226" name="TextBox 1"/>
            <p:cNvSpPr/>
            <p:nvPr/>
          </p:nvSpPr>
          <p:spPr>
            <a:xfrm>
              <a:off x="195120" y="103680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直接连接符 4"/>
            <p:cNvSpPr/>
            <p:nvPr/>
          </p:nvSpPr>
          <p:spPr>
            <a:xfrm>
              <a:off x="797760" y="190332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矩形 5"/>
          <p:cNvSpPr/>
          <p:nvPr/>
        </p:nvSpPr>
        <p:spPr>
          <a:xfrm>
            <a:off x="459720" y="866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0"/>
          <p:cNvSpPr/>
          <p:nvPr/>
        </p:nvSpPr>
        <p:spPr>
          <a:xfrm>
            <a:off x="7062840" y="137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生物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1"/>
          <p:cNvSpPr/>
          <p:nvPr/>
        </p:nvSpPr>
        <p:spPr>
          <a:xfrm>
            <a:off x="4773600" y="23130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麻疹疫苗、鼠疫疫苗、卡介苗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量少，副作用小，只需接种一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缺点是不易保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2"/>
          <p:cNvSpPr/>
          <p:nvPr/>
        </p:nvSpPr>
        <p:spPr>
          <a:xfrm>
            <a:off x="304920" y="2854440"/>
            <a:ext cx="5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包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左大括号 13"/>
          <p:cNvSpPr/>
          <p:nvPr/>
        </p:nvSpPr>
        <p:spPr>
          <a:xfrm>
            <a:off x="743040" y="2266920"/>
            <a:ext cx="385560" cy="1882800"/>
          </a:xfrm>
          <a:custGeom>
            <a:avLst/>
            <a:gdLst>
              <a:gd name="textAreaLeft" fmla="*/ 246240 w 385560"/>
              <a:gd name="textAreaRight" fmla="*/ 385920 w 385560"/>
              <a:gd name="textAreaTop" fmla="*/ 0 h 1882800"/>
              <a:gd name="textAreaBottom" fmla="*/ 1883160 h 188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4"/>
          <p:cNvSpPr/>
          <p:nvPr/>
        </p:nvSpPr>
        <p:spPr>
          <a:xfrm>
            <a:off x="1128600" y="2421000"/>
            <a:ext cx="15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活疫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5"/>
          <p:cNvSpPr/>
          <p:nvPr/>
        </p:nvSpPr>
        <p:spPr>
          <a:xfrm>
            <a:off x="1356480" y="335916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灭活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死疫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8"/>
          <p:cNvSpPr/>
          <p:nvPr/>
        </p:nvSpPr>
        <p:spPr>
          <a:xfrm>
            <a:off x="2671920" y="2421000"/>
            <a:ext cx="20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毒力弱的活的病原微生物制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9"/>
          <p:cNvSpPr/>
          <p:nvPr/>
        </p:nvSpPr>
        <p:spPr>
          <a:xfrm>
            <a:off x="2671920" y="3249720"/>
            <a:ext cx="21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物理或化学方法杀死人工培养的病原微生物制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21"/>
          <p:cNvSpPr/>
          <p:nvPr/>
        </p:nvSpPr>
        <p:spPr>
          <a:xfrm>
            <a:off x="1128600" y="3208320"/>
            <a:ext cx="7620120" cy="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6"/>
          <p:cNvSpPr/>
          <p:nvPr/>
        </p:nvSpPr>
        <p:spPr>
          <a:xfrm>
            <a:off x="4773600" y="3249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伤寒疫苗、霍乱疫苗、乙型脑炎疫苗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量大，副作用大，一般少量多次接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优点是容易保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27"/>
          <p:cNvSpPr/>
          <p:nvPr/>
        </p:nvSpPr>
        <p:spPr>
          <a:xfrm>
            <a:off x="9345600" y="22669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种后，能在一定部位繁殖一段时期，但由于毒力弱，不会引起疾病，而能使人体或动物体产生免疫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32"/>
          <p:cNvSpPr/>
          <p:nvPr/>
        </p:nvSpPr>
        <p:spPr>
          <a:xfrm>
            <a:off x="6389640" y="487188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50d"/>
                </a:solidFill>
                <a:latin typeface="华文行楷"/>
                <a:ea typeface="华文行楷"/>
              </a:rPr>
              <a:t>→</a:t>
            </a:r>
            <a:r>
              <a:rPr b="0" lang="zh-CN" sz="3600" spc="-1" strike="noStrike">
                <a:solidFill>
                  <a:srgbClr val="ff550d"/>
                </a:solidFill>
                <a:latin typeface="华文行楷"/>
                <a:ea typeface="华文行楷"/>
              </a:rPr>
              <a:t>风险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33"/>
          <p:cNvSpPr/>
          <p:nvPr/>
        </p:nvSpPr>
        <p:spPr>
          <a:xfrm>
            <a:off x="6367320" y="5492880"/>
            <a:ext cx="21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50d"/>
                </a:solidFill>
                <a:latin typeface="华文行楷"/>
                <a:ea typeface="华文行楷"/>
              </a:rPr>
              <a:t>→</a:t>
            </a:r>
            <a:r>
              <a:rPr b="0" lang="zh-CN" sz="2400" spc="-1" strike="noStrike">
                <a:solidFill>
                  <a:srgbClr val="ff550d"/>
                </a:solidFill>
                <a:latin typeface="华文行楷"/>
                <a:ea typeface="华文行楷"/>
              </a:rPr>
              <a:t>诱发免疫反应能力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195120" y="1036800"/>
            <a:ext cx="8553600" cy="1099440"/>
            <a:chOff x="195120" y="1036800"/>
            <a:chExt cx="8553600" cy="1099440"/>
          </a:xfrm>
        </p:grpSpPr>
        <p:sp>
          <p:nvSpPr>
            <p:cNvPr id="244" name="TextBox 8"/>
            <p:cNvSpPr/>
            <p:nvPr/>
          </p:nvSpPr>
          <p:spPr>
            <a:xfrm>
              <a:off x="195120" y="103680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直接连接符 9"/>
            <p:cNvSpPr/>
            <p:nvPr/>
          </p:nvSpPr>
          <p:spPr>
            <a:xfrm>
              <a:off x="797760" y="190332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矩形 10"/>
          <p:cNvSpPr/>
          <p:nvPr/>
        </p:nvSpPr>
        <p:spPr>
          <a:xfrm>
            <a:off x="553320" y="866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1"/>
          <p:cNvSpPr/>
          <p:nvPr/>
        </p:nvSpPr>
        <p:spPr>
          <a:xfrm>
            <a:off x="7062840" y="137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亚单位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2"/>
          <p:cNvSpPr/>
          <p:nvPr/>
        </p:nvSpPr>
        <p:spPr>
          <a:xfrm>
            <a:off x="695160" y="21286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微生物的天然成分及其产物，或者将免疫作用成分重组而产生的疫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14"/>
          <p:cNvSpPr/>
          <p:nvPr/>
        </p:nvSpPr>
        <p:spPr>
          <a:xfrm>
            <a:off x="3851280" y="2708280"/>
            <a:ext cx="1440" cy="397044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5"/>
          <p:cNvSpPr/>
          <p:nvPr/>
        </p:nvSpPr>
        <p:spPr>
          <a:xfrm>
            <a:off x="695160" y="2708280"/>
            <a:ext cx="30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类毒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于变性或化学修饰而失去毒性的毒素，但仍保留其抗原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理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菌外毒素用甲醛等处理，得到脱毒的制品。毒性虽消失，但免疫原性不变，故仍然具有刺激人体产生抗毒素，以起到机体从此对某疾病具有自动免疫的作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点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体内吸收较慢，能较长时间刺激机体，使机体产生高滴度抗体，增强免疫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6"/>
          <p:cNvSpPr/>
          <p:nvPr/>
        </p:nvSpPr>
        <p:spPr>
          <a:xfrm>
            <a:off x="4095720" y="270828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亚基疫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百度百科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含有病原体的一种或几种抗原，而不含有病原体的其他遗传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麦格劳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尔科技字典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整个病毒中剥离非感染性的免疫原性病毒蛋白，然后从其他不相关的组件纯化，组成疫苗。从而降低不良反应和残留的传染性病毒的风险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用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型肝炎病毒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乳头状瘤病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鼠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艾滋病毒（研究中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FAEE-A56D-4B59-BAC0-D6BCDAFF808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grpSp>
        <p:nvGrpSpPr>
          <p:cNvPr id="253" name=""/>
          <p:cNvGrpSpPr/>
          <p:nvPr/>
        </p:nvGrpSpPr>
        <p:grpSpPr>
          <a:xfrm>
            <a:off x="190440" y="1025640"/>
            <a:ext cx="8553600" cy="1099440"/>
            <a:chOff x="190440" y="1025640"/>
            <a:chExt cx="8553600" cy="1099440"/>
          </a:xfrm>
        </p:grpSpPr>
        <p:sp>
          <p:nvSpPr>
            <p:cNvPr id="254" name="TextBox 5"/>
            <p:cNvSpPr/>
            <p:nvPr/>
          </p:nvSpPr>
          <p:spPr>
            <a:xfrm>
              <a:off x="190440" y="102564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  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6"/>
            <p:cNvSpPr/>
            <p:nvPr/>
          </p:nvSpPr>
          <p:spPr>
            <a:xfrm>
              <a:off x="793080" y="189216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矩形 7"/>
          <p:cNvSpPr/>
          <p:nvPr/>
        </p:nvSpPr>
        <p:spPr>
          <a:xfrm>
            <a:off x="589680" y="83196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8"/>
          <p:cNvSpPr/>
          <p:nvPr/>
        </p:nvSpPr>
        <p:spPr>
          <a:xfrm>
            <a:off x="7086960" y="1343160"/>
            <a:ext cx="14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"/>
          <p:cNvSpPr/>
          <p:nvPr/>
        </p:nvSpPr>
        <p:spPr>
          <a:xfrm>
            <a:off x="469800" y="2239920"/>
            <a:ext cx="82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称基因疫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将编码外源性抗原的基因插入到含真核表达系统的质粒上，然后将质粒直接导入人或动物体内，让其在宿主细胞中表达抗原蛋白，诱导机体产生免疫应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基因在一定时限内的持续表达，不断刺激机体免疫系统，使之达到防病的目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574560" y="4005360"/>
          <a:ext cx="7994520" cy="2017440"/>
        </p:xfrm>
        <a:graphic>
          <a:graphicData uri="http://schemas.openxmlformats.org/drawingml/2006/table">
            <a:tbl>
              <a:tblPr/>
              <a:tblGrid>
                <a:gridCol w="3584520"/>
                <a:gridCol w="4410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优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缺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接种没有感染的危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疫苗稳定，储存和运输方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长期持久的免疫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确保在体内表达的蛋白质更接近于正常的生理的蛋白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只能限制于蛋白类的免疫原（而不是非蛋白抗原，如细菌的多糖免疫原）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基因的引入，在控制细胞生长方面存在风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D5CC-9612-4BE9-B0BB-CE9189F7D5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61" name="椭圆 10"/>
          <p:cNvSpPr/>
          <p:nvPr/>
        </p:nvSpPr>
        <p:spPr>
          <a:xfrm>
            <a:off x="-1432080" y="-344520"/>
            <a:ext cx="5932800" cy="5932440"/>
          </a:xfrm>
          <a:prstGeom prst="ellipse">
            <a:avLst/>
          </a:prstGeom>
          <a:noFill/>
          <a:ln w="25560">
            <a:solidFill>
              <a:srgbClr val="ff550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57120" y="1601640"/>
            <a:ext cx="2035080" cy="2033640"/>
            <a:chOff x="357120" y="1601640"/>
            <a:chExt cx="2035080" cy="2033640"/>
          </a:xfrm>
        </p:grpSpPr>
        <p:sp>
          <p:nvSpPr>
            <p:cNvPr id="263" name="椭圆 3"/>
            <p:cNvSpPr/>
            <p:nvPr/>
          </p:nvSpPr>
          <p:spPr>
            <a:xfrm>
              <a:off x="357120" y="1601640"/>
              <a:ext cx="2035080" cy="203364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矩形 2"/>
            <p:cNvSpPr/>
            <p:nvPr/>
          </p:nvSpPr>
          <p:spPr>
            <a:xfrm>
              <a:off x="857160" y="214164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疫苗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发展趋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211640" y="1268280"/>
            <a:ext cx="4932360" cy="505440"/>
            <a:chOff x="4211640" y="1268280"/>
            <a:chExt cx="4932360" cy="505440"/>
          </a:xfrm>
        </p:grpSpPr>
        <p:sp>
          <p:nvSpPr>
            <p:cNvPr id="266" name="矩形 6"/>
            <p:cNvSpPr/>
            <p:nvPr/>
          </p:nvSpPr>
          <p:spPr>
            <a:xfrm>
              <a:off x="4390560" y="1268280"/>
              <a:ext cx="4753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针对人群：青少年和成年人（之前：婴儿和儿童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椭圆 9"/>
            <p:cNvSpPr/>
            <p:nvPr/>
          </p:nvSpPr>
          <p:spPr>
            <a:xfrm>
              <a:off x="4211640" y="1441440"/>
              <a:ext cx="180360" cy="19872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334040" y="2941560"/>
            <a:ext cx="4644720" cy="505440"/>
            <a:chOff x="4334040" y="2941560"/>
            <a:chExt cx="4644720" cy="505440"/>
          </a:xfrm>
        </p:grpSpPr>
        <p:sp>
          <p:nvSpPr>
            <p:cNvPr id="269" name="矩形 8"/>
            <p:cNvSpPr/>
            <p:nvPr/>
          </p:nvSpPr>
          <p:spPr>
            <a:xfrm>
              <a:off x="4515120" y="2941560"/>
              <a:ext cx="4463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给药方式：皮肤贴剂，通过食用植物的基因工程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椭圆 12"/>
            <p:cNvSpPr/>
            <p:nvPr/>
          </p:nvSpPr>
          <p:spPr>
            <a:xfrm>
              <a:off x="4334040" y="3118680"/>
              <a:ext cx="198720" cy="19836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581280" y="4411800"/>
            <a:ext cx="5238720" cy="1328400"/>
            <a:chOff x="3581280" y="4411800"/>
            <a:chExt cx="5238720" cy="1328400"/>
          </a:xfrm>
        </p:grpSpPr>
        <p:sp>
          <p:nvSpPr>
            <p:cNvPr id="272" name="矩形 1"/>
            <p:cNvSpPr/>
            <p:nvPr/>
          </p:nvSpPr>
          <p:spPr>
            <a:xfrm>
              <a:off x="3780000" y="4411800"/>
              <a:ext cx="5040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针对疾病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椭圆 11"/>
            <p:cNvSpPr/>
            <p:nvPr/>
          </p:nvSpPr>
          <p:spPr>
            <a:xfrm>
              <a:off x="3581280" y="4581720"/>
              <a:ext cx="198720" cy="19872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15"/>
            <p:cNvSpPr/>
            <p:nvPr/>
          </p:nvSpPr>
          <p:spPr>
            <a:xfrm>
              <a:off x="4932000" y="4411800"/>
              <a:ext cx="3888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慢性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生物恐怖袭击（如炭疽，鼠疫，天花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非感染性的人类疾病（如癌症、高血压和自身免疫性疾病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5" name="图片 1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708588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"/>
          <p:cNvSpPr/>
          <p:nvPr/>
        </p:nvSpPr>
        <p:spPr>
          <a:xfrm>
            <a:off x="1150920" y="2217600"/>
            <a:ext cx="684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550d"/>
                </a:solidFill>
                <a:latin typeface="Tahoma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直接连接符 2"/>
          <p:cNvSpPr/>
          <p:nvPr/>
        </p:nvSpPr>
        <p:spPr>
          <a:xfrm>
            <a:off x="1281240" y="3781440"/>
            <a:ext cx="6581520" cy="0"/>
          </a:xfrm>
          <a:prstGeom prst="line">
            <a:avLst/>
          </a:prstGeom>
          <a:ln w="19080">
            <a:solidFill>
              <a:srgbClr val="9bbb5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1800360" y="3938760"/>
            <a:ext cx="572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2" descr=""/>
          <p:cNvPicPr/>
          <p:nvPr/>
        </p:nvPicPr>
        <p:blipFill>
          <a:blip r:embed="rId2"/>
          <a:stretch/>
        </p:blipFill>
        <p:spPr>
          <a:xfrm>
            <a:off x="-4875120" y="-1901880"/>
            <a:ext cx="18600480" cy="13446360"/>
          </a:xfrm>
          <a:prstGeom prst="rect">
            <a:avLst/>
          </a:prstGeom>
          <a:ln w="0">
            <a:noFill/>
          </a:ln>
        </p:spPr>
      </p:pic>
      <p:sp>
        <p:nvSpPr>
          <p:cNvPr id="49" name="TextBox 9"/>
          <p:cNvSpPr/>
          <p:nvPr/>
        </p:nvSpPr>
        <p:spPr>
          <a:xfrm>
            <a:off x="0" y="3740040"/>
            <a:ext cx="9144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疾病的发生   流行病的扩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3276720" y="3740040"/>
            <a:ext cx="58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550d"/>
                </a:solidFill>
                <a:latin typeface="微软雅黑"/>
                <a:ea typeface="微软雅黑"/>
              </a:rPr>
              <a:t>流行病的扩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650880" y="2876400"/>
            <a:ext cx="193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防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病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生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行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用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体预防接种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物制品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370320" y="2235240"/>
            <a:ext cx="28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泛指所有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杀死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9"/>
          <p:cNvSpPr/>
          <p:nvPr/>
        </p:nvSpPr>
        <p:spPr>
          <a:xfrm>
            <a:off x="291960" y="1917720"/>
            <a:ext cx="2652840" cy="4390920"/>
          </a:xfrm>
          <a:custGeom>
            <a:avLst/>
            <a:gdLst>
              <a:gd name="textAreaLeft" fmla="*/ 63000 w 2652840"/>
              <a:gd name="textAreaRight" fmla="*/ 2589840 w 2652840"/>
              <a:gd name="textAreaTop" fmla="*/ 63000 h 4390920"/>
              <a:gd name="textAreaBottom" fmla="*/ 4327920 h 4390920"/>
            </a:gdLst>
            <a:ahLst/>
            <a:rect l="textAreaLeft" t="textAreaTop" r="textAreaRight" b="textAreaBottom"/>
            <a:pathLst>
              <a:path w="21600" h="35750">
                <a:moveTo>
                  <a:pt x="1757" y="0"/>
                </a:moveTo>
                <a:arcTo wR="1757" hR="1757" stAng="16200000" swAng="-5400000"/>
                <a:lnTo>
                  <a:pt x="0" y="33993"/>
                </a:lnTo>
                <a:arcTo wR="1757" hR="1757" stAng="10800000" swAng="-5400000"/>
                <a:lnTo>
                  <a:pt x="19843" y="35750"/>
                </a:lnTo>
                <a:arcTo wR="1757" hR="1757" stAng="5400000" swAng="-5400000"/>
                <a:lnTo>
                  <a:pt x="21600" y="1757"/>
                </a:lnTo>
                <a:arcTo wR="1757" hR="1757" stAng="0" swAng="-5400000"/>
                <a:close/>
              </a:path>
            </a:pathLst>
          </a:cu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10"/>
          <p:cNvSpPr/>
          <p:nvPr/>
        </p:nvSpPr>
        <p:spPr>
          <a:xfrm>
            <a:off x="3276720" y="1917720"/>
            <a:ext cx="5472000" cy="4390920"/>
          </a:xfrm>
          <a:prstGeom prst="roundRect">
            <a:avLst>
              <a:gd name="adj" fmla="val 4611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2700360" y="3826440"/>
            <a:ext cx="799920" cy="703440"/>
          </a:xfrm>
          <a:prstGeom prst="rect">
            <a:avLst/>
          </a:prstGeom>
          <a:solidFill>
            <a:srgbClr val="ff5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疫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1022400" y="1700280"/>
            <a:ext cx="957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3749760" y="3276720"/>
            <a:ext cx="11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原生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3749760" y="4297320"/>
            <a:ext cx="19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其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性物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3370320" y="5172120"/>
            <a:ext cx="282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制成，用于预防接种的生物制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5"/>
          <p:cNvSpPr/>
          <p:nvPr/>
        </p:nvSpPr>
        <p:spPr>
          <a:xfrm>
            <a:off x="6397560" y="278928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菌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6"/>
          <p:cNvSpPr/>
          <p:nvPr/>
        </p:nvSpPr>
        <p:spPr>
          <a:xfrm>
            <a:off x="6877080" y="3321000"/>
            <a:ext cx="7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7"/>
          <p:cNvSpPr/>
          <p:nvPr/>
        </p:nvSpPr>
        <p:spPr>
          <a:xfrm>
            <a:off x="6397560" y="4297320"/>
            <a:ext cx="14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毒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8"/>
          <p:cNvSpPr/>
          <p:nvPr/>
        </p:nvSpPr>
        <p:spPr>
          <a:xfrm>
            <a:off x="7667640" y="3038400"/>
            <a:ext cx="9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c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9"/>
          <p:cNvSpPr/>
          <p:nvPr/>
        </p:nvSpPr>
        <p:spPr>
          <a:xfrm>
            <a:off x="7778160" y="430524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x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21"/>
          <p:cNvSpPr/>
          <p:nvPr/>
        </p:nvSpPr>
        <p:spPr>
          <a:xfrm>
            <a:off x="6197760" y="2178000"/>
            <a:ext cx="0" cy="3843360"/>
          </a:xfrm>
          <a:prstGeom prst="line">
            <a:avLst/>
          </a:prstGeom>
          <a:ln w="9360">
            <a:solidFill>
              <a:srgbClr val="ff550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2"/>
          <p:cNvSpPr/>
          <p:nvPr/>
        </p:nvSpPr>
        <p:spPr>
          <a:xfrm>
            <a:off x="4367160" y="1700280"/>
            <a:ext cx="925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本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3"/>
          <p:cNvSpPr/>
          <p:nvPr/>
        </p:nvSpPr>
        <p:spPr>
          <a:xfrm>
            <a:off x="6948360" y="1700280"/>
            <a:ext cx="93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左大括号 33"/>
          <p:cNvSpPr/>
          <p:nvPr/>
        </p:nvSpPr>
        <p:spPr>
          <a:xfrm>
            <a:off x="4802040" y="2836800"/>
            <a:ext cx="238320" cy="1149480"/>
          </a:xfrm>
          <a:custGeom>
            <a:avLst/>
            <a:gdLst>
              <a:gd name="textAreaLeft" fmla="*/ 152280 w 238320"/>
              <a:gd name="textAreaRight" fmla="*/ 238680 w 238320"/>
              <a:gd name="textAreaTop" fmla="*/ 360 h 1149480"/>
              <a:gd name="textAreaBottom" fmla="*/ 1149120 h 114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"/>
                  <a:pt x="10800" y="33"/>
                </a:cubicBezTo>
                <a:lnTo>
                  <a:pt x="10800" y="11824"/>
                </a:lnTo>
                <a:cubicBezTo>
                  <a:pt x="10800" y="11841"/>
                  <a:pt x="5400" y="11857"/>
                  <a:pt x="0" y="11857"/>
                </a:cubicBezTo>
                <a:cubicBezTo>
                  <a:pt x="5400" y="11857"/>
                  <a:pt x="10800" y="11874"/>
                  <a:pt x="10800" y="11890"/>
                </a:cubicBezTo>
                <a:lnTo>
                  <a:pt x="10800" y="21567"/>
                </a:lnTo>
                <a:cubicBezTo>
                  <a:pt x="10800" y="2158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5"/>
          <p:cNvSpPr/>
          <p:nvPr/>
        </p:nvSpPr>
        <p:spPr>
          <a:xfrm>
            <a:off x="5054760" y="28116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立克次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螺旋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右大括号 37"/>
          <p:cNvSpPr/>
          <p:nvPr/>
        </p:nvSpPr>
        <p:spPr>
          <a:xfrm>
            <a:off x="6516720" y="3139920"/>
            <a:ext cx="258840" cy="846360"/>
          </a:xfrm>
          <a:custGeom>
            <a:avLst/>
            <a:gdLst>
              <a:gd name="textAreaLeft" fmla="*/ 0 w 258840"/>
              <a:gd name="textAreaRight" fmla="*/ 93600 w 25884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039"/>
                </a:lnTo>
                <a:cubicBezTo>
                  <a:pt x="10800" y="10039"/>
                  <a:pt x="16200" y="10039"/>
                  <a:pt x="21600" y="10039"/>
                </a:cubicBezTo>
                <a:cubicBezTo>
                  <a:pt x="16200" y="10039"/>
                  <a:pt x="10800" y="10039"/>
                  <a:pt x="10800" y="10039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73" name="TextBox 2"/>
          <p:cNvSpPr/>
          <p:nvPr/>
        </p:nvSpPr>
        <p:spPr>
          <a:xfrm>
            <a:off x="1506600" y="1701720"/>
            <a:ext cx="17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源于拉丁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31800" y="1542960"/>
            <a:ext cx="1031760" cy="684720"/>
            <a:chOff x="631800" y="1542960"/>
            <a:chExt cx="1031760" cy="684720"/>
          </a:xfrm>
        </p:grpSpPr>
        <p:sp>
          <p:nvSpPr>
            <p:cNvPr id="75" name="TextBox 3"/>
            <p:cNvSpPr/>
            <p:nvPr/>
          </p:nvSpPr>
          <p:spPr>
            <a:xfrm>
              <a:off x="671760" y="15429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疫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4"/>
            <p:cNvSpPr/>
            <p:nvPr/>
          </p:nvSpPr>
          <p:spPr>
            <a:xfrm>
              <a:off x="631800" y="1859400"/>
              <a:ext cx="10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25a66"/>
                  </a:solidFill>
                  <a:latin typeface="Tahoma"/>
                </a:rPr>
                <a:t>vacc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179880" y="1542960"/>
            <a:ext cx="1031760" cy="959040"/>
            <a:chOff x="3179880" y="1542960"/>
            <a:chExt cx="1031760" cy="959040"/>
          </a:xfrm>
        </p:grpSpPr>
        <p:sp>
          <p:nvSpPr>
            <p:cNvPr id="78" name="TextBox 7"/>
            <p:cNvSpPr/>
            <p:nvPr/>
          </p:nvSpPr>
          <p:spPr>
            <a:xfrm>
              <a:off x="3219840" y="15429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牛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8"/>
            <p:cNvSpPr/>
            <p:nvPr/>
          </p:nvSpPr>
          <p:spPr>
            <a:xfrm>
              <a:off x="3179880" y="1859400"/>
              <a:ext cx="103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25a66"/>
                  </a:solidFill>
                  <a:latin typeface="Tahoma"/>
                </a:rPr>
                <a:t>vacci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直接连接符 10"/>
          <p:cNvSpPr/>
          <p:nvPr/>
        </p:nvSpPr>
        <p:spPr>
          <a:xfrm>
            <a:off x="324000" y="2421000"/>
            <a:ext cx="6624360" cy="468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1"/>
          <p:cNvSpPr/>
          <p:nvPr/>
        </p:nvSpPr>
        <p:spPr>
          <a:xfrm>
            <a:off x="6553080" y="1874880"/>
            <a:ext cx="122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d050"/>
                </a:solidFill>
                <a:latin typeface="微软雅黑"/>
                <a:ea typeface="微软雅黑"/>
              </a:rPr>
              <a:t>天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3"/>
          <p:cNvSpPr/>
          <p:nvPr/>
        </p:nvSpPr>
        <p:spPr>
          <a:xfrm>
            <a:off x="6858000" y="3308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能因角膜溃疡而导致眼盲，绝大部份亦会在皮肤上留下永久的瘢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4"/>
          <p:cNvSpPr/>
          <p:nvPr/>
        </p:nvSpPr>
        <p:spPr>
          <a:xfrm>
            <a:off x="6886440" y="5037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死因多数是因为内脏出血、感染其他并发症、或是多种器官衰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7667640" y="2154240"/>
            <a:ext cx="134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5a66"/>
                </a:solidFill>
                <a:latin typeface="Calibri"/>
                <a:ea typeface="宋体"/>
              </a:rPr>
              <a:t>烈性传染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20"/>
          <p:cNvSpPr/>
          <p:nvPr/>
        </p:nvSpPr>
        <p:spPr>
          <a:xfrm>
            <a:off x="7667640" y="2100240"/>
            <a:ext cx="147636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79280" y="2495520"/>
            <a:ext cx="8832960" cy="368280"/>
            <a:chOff x="179280" y="2495520"/>
            <a:chExt cx="8832960" cy="368280"/>
          </a:xfrm>
        </p:grpSpPr>
        <p:sp>
          <p:nvSpPr>
            <p:cNvPr id="87" name="TextBox 21"/>
            <p:cNvSpPr/>
            <p:nvPr/>
          </p:nvSpPr>
          <p:spPr>
            <a:xfrm>
              <a:off x="179280" y="2495520"/>
              <a:ext cx="291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传染方式：空气中的液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22"/>
            <p:cNvSpPr/>
            <p:nvPr/>
          </p:nvSpPr>
          <p:spPr>
            <a:xfrm>
              <a:off x="2922120" y="2495520"/>
              <a:ext cx="292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自然感染器官：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23"/>
            <p:cNvSpPr/>
            <p:nvPr/>
          </p:nvSpPr>
          <p:spPr>
            <a:xfrm>
              <a:off x="4935240" y="2495520"/>
              <a:ext cx="40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表现症状：病毒血症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+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皮疹 高烧 剧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27160" y="3284640"/>
            <a:ext cx="1223640" cy="1224000"/>
            <a:chOff x="227160" y="3284640"/>
            <a:chExt cx="1223640" cy="1224000"/>
          </a:xfrm>
        </p:grpSpPr>
        <p:sp>
          <p:nvSpPr>
            <p:cNvPr id="91" name="椭圆 24"/>
            <p:cNvSpPr/>
            <p:nvPr/>
          </p:nvSpPr>
          <p:spPr>
            <a:xfrm>
              <a:off x="227160" y="3284640"/>
              <a:ext cx="122364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25"/>
            <p:cNvSpPr/>
            <p:nvPr/>
          </p:nvSpPr>
          <p:spPr>
            <a:xfrm>
              <a:off x="334800" y="3573360"/>
              <a:ext cx="100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潜伏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27160" y="5006880"/>
            <a:ext cx="1223640" cy="1224000"/>
            <a:chOff x="227160" y="5006880"/>
            <a:chExt cx="1223640" cy="1224000"/>
          </a:xfrm>
        </p:grpSpPr>
        <p:sp>
          <p:nvSpPr>
            <p:cNvPr id="94" name="椭圆 28"/>
            <p:cNvSpPr/>
            <p:nvPr/>
          </p:nvSpPr>
          <p:spPr>
            <a:xfrm>
              <a:off x="227160" y="5006880"/>
              <a:ext cx="122364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29"/>
            <p:cNvSpPr/>
            <p:nvPr/>
          </p:nvSpPr>
          <p:spPr>
            <a:xfrm>
              <a:off x="334800" y="5295600"/>
              <a:ext cx="100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初期症状感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004840" y="5006880"/>
            <a:ext cx="1224000" cy="1224000"/>
            <a:chOff x="2004840" y="5006880"/>
            <a:chExt cx="1224000" cy="1224000"/>
          </a:xfrm>
        </p:grpSpPr>
        <p:sp>
          <p:nvSpPr>
            <p:cNvPr id="97" name="椭圆 33"/>
            <p:cNvSpPr/>
            <p:nvPr/>
          </p:nvSpPr>
          <p:spPr>
            <a:xfrm>
              <a:off x="2004840" y="500688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34"/>
            <p:cNvSpPr/>
            <p:nvPr/>
          </p:nvSpPr>
          <p:spPr>
            <a:xfrm>
              <a:off x="205884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4-15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出现皮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004840" y="3284640"/>
            <a:ext cx="1224000" cy="1224000"/>
            <a:chOff x="2004840" y="3284640"/>
            <a:chExt cx="1224000" cy="1224000"/>
          </a:xfrm>
        </p:grpSpPr>
        <p:sp>
          <p:nvSpPr>
            <p:cNvPr id="100" name="椭圆 36"/>
            <p:cNvSpPr/>
            <p:nvPr/>
          </p:nvSpPr>
          <p:spPr>
            <a:xfrm>
              <a:off x="200484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37"/>
            <p:cNvSpPr/>
            <p:nvPr/>
          </p:nvSpPr>
          <p:spPr>
            <a:xfrm>
              <a:off x="2058840" y="34347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5-16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皮疹转成脓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784680" y="3284640"/>
            <a:ext cx="1224000" cy="1224000"/>
            <a:chOff x="3784680" y="3284640"/>
            <a:chExt cx="1224000" cy="1224000"/>
          </a:xfrm>
        </p:grpSpPr>
        <p:sp>
          <p:nvSpPr>
            <p:cNvPr id="103" name="椭圆 39"/>
            <p:cNvSpPr/>
            <p:nvPr/>
          </p:nvSpPr>
          <p:spPr>
            <a:xfrm>
              <a:off x="378468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40"/>
            <p:cNvSpPr/>
            <p:nvPr/>
          </p:nvSpPr>
          <p:spPr>
            <a:xfrm>
              <a:off x="3838680" y="35733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脓包收缩转干脱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562720" y="3284640"/>
            <a:ext cx="1224000" cy="1224000"/>
            <a:chOff x="5562720" y="3284640"/>
            <a:chExt cx="1224000" cy="1224000"/>
          </a:xfrm>
        </p:grpSpPr>
        <p:sp>
          <p:nvSpPr>
            <p:cNvPr id="106" name="椭圆 42"/>
            <p:cNvSpPr/>
            <p:nvPr/>
          </p:nvSpPr>
          <p:spPr>
            <a:xfrm>
              <a:off x="556272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43"/>
            <p:cNvSpPr/>
            <p:nvPr/>
          </p:nvSpPr>
          <p:spPr>
            <a:xfrm>
              <a:off x="5616720" y="35733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8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左右痊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784680" y="5006880"/>
            <a:ext cx="1224000" cy="1224000"/>
            <a:chOff x="3784680" y="5006880"/>
            <a:chExt cx="1224000" cy="1224000"/>
          </a:xfrm>
        </p:grpSpPr>
        <p:sp>
          <p:nvSpPr>
            <p:cNvPr id="109" name="椭圆 45"/>
            <p:cNvSpPr/>
            <p:nvPr/>
          </p:nvSpPr>
          <p:spPr>
            <a:xfrm>
              <a:off x="3784680" y="5006880"/>
              <a:ext cx="1224000" cy="122400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46"/>
            <p:cNvSpPr/>
            <p:nvPr/>
          </p:nvSpPr>
          <p:spPr>
            <a:xfrm>
              <a:off x="383868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皮下出血皮肤变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562720" y="5006880"/>
            <a:ext cx="1224000" cy="1224000"/>
            <a:chOff x="5562720" y="5006880"/>
            <a:chExt cx="1224000" cy="1224000"/>
          </a:xfrm>
        </p:grpSpPr>
        <p:sp>
          <p:nvSpPr>
            <p:cNvPr id="112" name="椭圆 48"/>
            <p:cNvSpPr/>
            <p:nvPr/>
          </p:nvSpPr>
          <p:spPr>
            <a:xfrm>
              <a:off x="5562720" y="5006880"/>
              <a:ext cx="1224000" cy="122400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49"/>
            <p:cNvSpPr/>
            <p:nvPr/>
          </p:nvSpPr>
          <p:spPr>
            <a:xfrm>
              <a:off x="561672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死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Box 59"/>
          <p:cNvSpPr/>
          <p:nvPr/>
        </p:nvSpPr>
        <p:spPr>
          <a:xfrm rot="5400000">
            <a:off x="659520" y="4456800"/>
            <a:ext cx="4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0"/>
          <p:cNvSpPr/>
          <p:nvPr/>
        </p:nvSpPr>
        <p:spPr>
          <a:xfrm>
            <a:off x="1506600" y="5316480"/>
            <a:ext cx="4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1"/>
          <p:cNvSpPr/>
          <p:nvPr/>
        </p:nvSpPr>
        <p:spPr>
          <a:xfrm rot="16200000">
            <a:off x="2355480" y="4421160"/>
            <a:ext cx="4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2"/>
          <p:cNvSpPr/>
          <p:nvPr/>
        </p:nvSpPr>
        <p:spPr>
          <a:xfrm>
            <a:off x="3279600" y="3567240"/>
            <a:ext cx="4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3"/>
          <p:cNvSpPr/>
          <p:nvPr/>
        </p:nvSpPr>
        <p:spPr>
          <a:xfrm>
            <a:off x="5095800" y="3567240"/>
            <a:ext cx="4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4"/>
          <p:cNvSpPr/>
          <p:nvPr/>
        </p:nvSpPr>
        <p:spPr>
          <a:xfrm rot="2490000">
            <a:off x="3066480" y="45709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50d"/>
                </a:solidFill>
                <a:latin typeface="Calibri"/>
                <a:ea typeface="Calibri"/>
              </a:rPr>
              <a:t>》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5"/>
          <p:cNvSpPr/>
          <p:nvPr/>
        </p:nvSpPr>
        <p:spPr>
          <a:xfrm>
            <a:off x="5095800" y="5295960"/>
            <a:ext cx="4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50d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9" descr=""/>
          <p:cNvPicPr/>
          <p:nvPr/>
        </p:nvPicPr>
        <p:blipFill>
          <a:blip r:embed="rId2"/>
          <a:stretch/>
        </p:blipFill>
        <p:spPr>
          <a:xfrm>
            <a:off x="-128520" y="1123920"/>
            <a:ext cx="9381960" cy="641052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10" descr=""/>
          <p:cNvPicPr/>
          <p:nvPr/>
        </p:nvPicPr>
        <p:blipFill>
          <a:blip r:embed="rId3"/>
          <a:stretch/>
        </p:blipFill>
        <p:spPr>
          <a:xfrm>
            <a:off x="0" y="-20520"/>
            <a:ext cx="9144000" cy="117000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2616120" y="3718080"/>
            <a:ext cx="2532240" cy="1195920"/>
            <a:chOff x="2616120" y="3718080"/>
            <a:chExt cx="2532240" cy="1195920"/>
          </a:xfrm>
        </p:grpSpPr>
        <p:sp>
          <p:nvSpPr>
            <p:cNvPr id="125" name="TextBox 11"/>
            <p:cNvSpPr/>
            <p:nvPr/>
          </p:nvSpPr>
          <p:spPr>
            <a:xfrm>
              <a:off x="2616120" y="45151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埃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椭圆 12"/>
            <p:cNvSpPr/>
            <p:nvPr/>
          </p:nvSpPr>
          <p:spPr>
            <a:xfrm>
              <a:off x="4932360" y="371808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肘形连接符 14"/>
            <p:cNvCxnSpPr/>
            <p:nvPr/>
          </p:nvCxnSpPr>
          <p:spPr>
            <a:xfrm flipV="1" rot="10800000">
              <a:off x="3347280" y="3825720"/>
              <a:ext cx="1801080" cy="889560"/>
            </a:xfrm>
            <a:prstGeom prst="bentConnector3">
              <a:avLst>
                <a:gd name="adj1" fmla="val 24750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28" name=""/>
          <p:cNvGrpSpPr/>
          <p:nvPr/>
        </p:nvGrpSpPr>
        <p:grpSpPr>
          <a:xfrm>
            <a:off x="6219720" y="3789360"/>
            <a:ext cx="2465640" cy="1002240"/>
            <a:chOff x="6219720" y="3789360"/>
            <a:chExt cx="2465640" cy="1002240"/>
          </a:xfrm>
        </p:grpSpPr>
        <p:sp>
          <p:nvSpPr>
            <p:cNvPr id="129" name="TextBox 31"/>
            <p:cNvSpPr/>
            <p:nvPr/>
          </p:nvSpPr>
          <p:spPr>
            <a:xfrm>
              <a:off x="7785360" y="43927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印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椭圆 32"/>
            <p:cNvSpPr/>
            <p:nvPr/>
          </p:nvSpPr>
          <p:spPr>
            <a:xfrm>
              <a:off x="6219720" y="3789360"/>
              <a:ext cx="216000" cy="21564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" name="肘形连接符 33"/>
            <p:cNvCxnSpPr/>
            <p:nvPr/>
          </p:nvCxnSpPr>
          <p:spPr>
            <a:xfrm>
              <a:off x="6435720" y="3897000"/>
              <a:ext cx="1347120" cy="689040"/>
            </a:xfrm>
            <a:prstGeom prst="bentConnector3">
              <a:avLst>
                <a:gd name="adj1" fmla="val 27719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32" name=""/>
          <p:cNvGrpSpPr/>
          <p:nvPr/>
        </p:nvGrpSpPr>
        <p:grpSpPr>
          <a:xfrm>
            <a:off x="4757760" y="3290760"/>
            <a:ext cx="1808280" cy="995760"/>
            <a:chOff x="4757760" y="3290760"/>
            <a:chExt cx="1808280" cy="995760"/>
          </a:xfrm>
        </p:grpSpPr>
        <p:sp>
          <p:nvSpPr>
            <p:cNvPr id="133" name="TextBox 35"/>
            <p:cNvSpPr/>
            <p:nvPr/>
          </p:nvSpPr>
          <p:spPr>
            <a:xfrm>
              <a:off x="5666040" y="388764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希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36"/>
            <p:cNvSpPr/>
            <p:nvPr/>
          </p:nvSpPr>
          <p:spPr>
            <a:xfrm>
              <a:off x="4757760" y="3290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5" name="肘形连接符 37"/>
            <p:cNvCxnSpPr/>
            <p:nvPr/>
          </p:nvCxnSpPr>
          <p:spPr>
            <a:xfrm>
              <a:off x="4973400" y="3398760"/>
              <a:ext cx="724680" cy="68976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6888240" y="3371760"/>
            <a:ext cx="1793880" cy="1041840"/>
            <a:chOff x="6888240" y="3371760"/>
            <a:chExt cx="1793880" cy="1041840"/>
          </a:xfrm>
        </p:grpSpPr>
        <p:sp>
          <p:nvSpPr>
            <p:cNvPr id="137" name="TextBox 39"/>
            <p:cNvSpPr/>
            <p:nvPr/>
          </p:nvSpPr>
          <p:spPr>
            <a:xfrm>
              <a:off x="7782120" y="40147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40"/>
            <p:cNvSpPr/>
            <p:nvPr/>
          </p:nvSpPr>
          <p:spPr>
            <a:xfrm>
              <a:off x="6888240" y="3371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9" name="肘形连接符 41"/>
            <p:cNvCxnSpPr/>
            <p:nvPr/>
          </p:nvCxnSpPr>
          <p:spPr>
            <a:xfrm>
              <a:off x="7103880" y="3479400"/>
              <a:ext cx="724680" cy="68940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40" name=""/>
          <p:cNvGrpSpPr/>
          <p:nvPr/>
        </p:nvGrpSpPr>
        <p:grpSpPr>
          <a:xfrm>
            <a:off x="2050560" y="3244680"/>
            <a:ext cx="2435400" cy="995760"/>
            <a:chOff x="2050560" y="3244680"/>
            <a:chExt cx="2435400" cy="995760"/>
          </a:xfrm>
        </p:grpSpPr>
        <p:sp>
          <p:nvSpPr>
            <p:cNvPr id="141" name="TextBox 43"/>
            <p:cNvSpPr/>
            <p:nvPr/>
          </p:nvSpPr>
          <p:spPr>
            <a:xfrm flipH="1">
              <a:off x="2050200" y="3841560"/>
              <a:ext cx="167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古罗马帝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椭圆 44"/>
            <p:cNvSpPr/>
            <p:nvPr/>
          </p:nvSpPr>
          <p:spPr>
            <a:xfrm flipH="1">
              <a:off x="4272120" y="3244680"/>
              <a:ext cx="21348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3" name="肘形连接符 45"/>
            <p:cNvCxnSpPr/>
            <p:nvPr/>
          </p:nvCxnSpPr>
          <p:spPr>
            <a:xfrm flipV="1" rot="10800000">
              <a:off x="3557160" y="3352320"/>
              <a:ext cx="716040" cy="68976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44" name=""/>
          <p:cNvGrpSpPr/>
          <p:nvPr/>
        </p:nvGrpSpPr>
        <p:grpSpPr>
          <a:xfrm>
            <a:off x="7578720" y="3371760"/>
            <a:ext cx="1476360" cy="734400"/>
            <a:chOff x="7578720" y="3371760"/>
            <a:chExt cx="1476360" cy="734400"/>
          </a:xfrm>
        </p:grpSpPr>
        <p:sp>
          <p:nvSpPr>
            <p:cNvPr id="145" name="TextBox 47"/>
            <p:cNvSpPr/>
            <p:nvPr/>
          </p:nvSpPr>
          <p:spPr>
            <a:xfrm>
              <a:off x="8317080" y="3402360"/>
              <a:ext cx="73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朝鲜日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椭圆 48"/>
            <p:cNvSpPr/>
            <p:nvPr/>
          </p:nvSpPr>
          <p:spPr>
            <a:xfrm>
              <a:off x="7578720" y="3371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7" name="肘形连接符 49"/>
            <p:cNvCxnSpPr/>
            <p:nvPr/>
          </p:nvCxnSpPr>
          <p:spPr>
            <a:xfrm>
              <a:off x="7794360" y="3479760"/>
              <a:ext cx="581400" cy="10872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48" name=""/>
          <p:cNvGrpSpPr/>
          <p:nvPr/>
        </p:nvGrpSpPr>
        <p:grpSpPr>
          <a:xfrm>
            <a:off x="5187960" y="2462040"/>
            <a:ext cx="1346040" cy="981360"/>
            <a:chOff x="5187960" y="2462040"/>
            <a:chExt cx="1346040" cy="981360"/>
          </a:xfrm>
        </p:grpSpPr>
        <p:sp>
          <p:nvSpPr>
            <p:cNvPr id="149" name="TextBox 52"/>
            <p:cNvSpPr/>
            <p:nvPr/>
          </p:nvSpPr>
          <p:spPr>
            <a:xfrm>
              <a:off x="5633640" y="3044520"/>
              <a:ext cx="9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欧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椭圆 54"/>
            <p:cNvSpPr/>
            <p:nvPr/>
          </p:nvSpPr>
          <p:spPr>
            <a:xfrm>
              <a:off x="5187960" y="246204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1" name="肘形连接符 55"/>
            <p:cNvCxnSpPr>
              <a:stCxn id="150" idx="6"/>
              <a:endCxn id="149" idx="1"/>
            </p:cNvCxnSpPr>
            <p:nvPr/>
          </p:nvCxnSpPr>
          <p:spPr>
            <a:xfrm>
              <a:off x="5403960" y="2570040"/>
              <a:ext cx="230400" cy="675360"/>
            </a:xfrm>
            <a:prstGeom prst="bentConnector3">
              <a:avLst>
                <a:gd name="adj1" fmla="val 49921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52" name=""/>
          <p:cNvGrpSpPr/>
          <p:nvPr/>
        </p:nvGrpSpPr>
        <p:grpSpPr>
          <a:xfrm>
            <a:off x="1335240" y="2476440"/>
            <a:ext cx="1807920" cy="995760"/>
            <a:chOff x="1335240" y="2476440"/>
            <a:chExt cx="1807920" cy="995760"/>
          </a:xfrm>
        </p:grpSpPr>
        <p:sp>
          <p:nvSpPr>
            <p:cNvPr id="153" name="TextBox 58"/>
            <p:cNvSpPr/>
            <p:nvPr/>
          </p:nvSpPr>
          <p:spPr>
            <a:xfrm>
              <a:off x="2243520" y="3073320"/>
              <a:ext cx="89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椭圆 59"/>
            <p:cNvSpPr/>
            <p:nvPr/>
          </p:nvSpPr>
          <p:spPr>
            <a:xfrm>
              <a:off x="1335240" y="2476440"/>
              <a:ext cx="21564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" name="肘形连接符 60"/>
            <p:cNvCxnSpPr/>
            <p:nvPr/>
          </p:nvCxnSpPr>
          <p:spPr>
            <a:xfrm>
              <a:off x="1550880" y="2584080"/>
              <a:ext cx="724320" cy="689400"/>
            </a:xfrm>
            <a:prstGeom prst="bentConnector3">
              <a:avLst>
                <a:gd name="adj1" fmla="val 49975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56" name=""/>
          <p:cNvGrpSpPr/>
          <p:nvPr/>
        </p:nvGrpSpPr>
        <p:grpSpPr>
          <a:xfrm>
            <a:off x="7466040" y="4983120"/>
            <a:ext cx="1808280" cy="995760"/>
            <a:chOff x="7466040" y="4983120"/>
            <a:chExt cx="1808280" cy="995760"/>
          </a:xfrm>
        </p:grpSpPr>
        <p:sp>
          <p:nvSpPr>
            <p:cNvPr id="157" name="TextBox 62"/>
            <p:cNvSpPr/>
            <p:nvPr/>
          </p:nvSpPr>
          <p:spPr>
            <a:xfrm>
              <a:off x="8374320" y="558000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澳大利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63"/>
            <p:cNvSpPr/>
            <p:nvPr/>
          </p:nvSpPr>
          <p:spPr>
            <a:xfrm>
              <a:off x="7466040" y="498312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肘形连接符 64"/>
            <p:cNvCxnSpPr/>
            <p:nvPr/>
          </p:nvCxnSpPr>
          <p:spPr>
            <a:xfrm>
              <a:off x="7681680" y="5091120"/>
              <a:ext cx="724680" cy="68976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sp>
        <p:nvSpPr>
          <p:cNvPr id="160" name="TextBox 79"/>
          <p:cNvSpPr/>
          <p:nvPr/>
        </p:nvSpPr>
        <p:spPr>
          <a:xfrm>
            <a:off x="3100320" y="1295280"/>
            <a:ext cx="29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微软雅黑"/>
                <a:ea typeface="微软雅黑"/>
              </a:rPr>
              <a:t>天花在全球肆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2"/>
          <p:cNvSpPr/>
          <p:nvPr/>
        </p:nvSpPr>
        <p:spPr>
          <a:xfrm>
            <a:off x="250920" y="2039760"/>
            <a:ext cx="4105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古代：用丝瓜等食物制成的处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隆庆时：将痘浆贯入鼻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清康熙时：接种“人痘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5"/>
          <p:cNvSpPr/>
          <p:nvPr/>
        </p:nvSpPr>
        <p:spPr>
          <a:xfrm>
            <a:off x="0" y="1530360"/>
            <a:ext cx="9144000" cy="0"/>
          </a:xfrm>
          <a:prstGeom prst="line">
            <a:avLst/>
          </a:prstGeom>
          <a:ln w="2844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539640" y="1268280"/>
            <a:ext cx="2016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华文行楷"/>
                <a:ea typeface="华文行楷"/>
              </a:rPr>
              <a:t>天花的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6"/>
          <p:cNvSpPr/>
          <p:nvPr/>
        </p:nvSpPr>
        <p:spPr>
          <a:xfrm>
            <a:off x="471600" y="5506920"/>
            <a:ext cx="407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张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痘新书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：“经余种者不下七、八千人，屈指记之，所莫救者，不过二、三十耳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7"/>
          <p:cNvSpPr/>
          <p:nvPr/>
        </p:nvSpPr>
        <p:spPr>
          <a:xfrm>
            <a:off x="1116000" y="3284640"/>
            <a:ext cx="34322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50d"/>
                </a:solidFill>
                <a:latin typeface="微软雅黑"/>
                <a:ea typeface="微软雅黑"/>
              </a:rPr>
              <a:t>==</a:t>
            </a: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法</a:t>
            </a:r>
            <a:r>
              <a:rPr b="0" lang="en-US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痘衣法，把天花患者穿的内衣给未出过天花的健康者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50d"/>
                </a:solidFill>
                <a:latin typeface="微软雅黑"/>
                <a:ea typeface="微软雅黑"/>
              </a:rPr>
              <a:t>==</a:t>
            </a: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法</a:t>
            </a:r>
            <a:r>
              <a:rPr b="0" lang="en-US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天花病患者身上的痘痂制浆（即脓），以小刀拭在受种者的皮肤之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466560" y="5181480"/>
            <a:ext cx="40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来这种方法经由亚洲其他国家传入欧美各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4"/>
          <p:cNvSpPr/>
          <p:nvPr/>
        </p:nvSpPr>
        <p:spPr>
          <a:xfrm>
            <a:off x="5348160" y="2421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种者不是透过空气在肺部染病，因此多数只会出现轻微的天花症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圆角矩形 17"/>
          <p:cNvSpPr/>
          <p:nvPr/>
        </p:nvSpPr>
        <p:spPr>
          <a:xfrm>
            <a:off x="5060880" y="2133720"/>
            <a:ext cx="3687840" cy="1282680"/>
          </a:xfrm>
          <a:prstGeom prst="roundRect">
            <a:avLst>
              <a:gd name="adj" fmla="val 9981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6"/>
          <p:cNvSpPr/>
          <p:nvPr/>
        </p:nvSpPr>
        <p:spPr>
          <a:xfrm>
            <a:off x="5343480" y="1844640"/>
            <a:ext cx="1028880" cy="581400"/>
          </a:xfrm>
          <a:prstGeom prst="rect">
            <a:avLst/>
          </a:prstGeom>
          <a:solidFill>
            <a:srgbClr val="ff550d"/>
          </a:solidFill>
          <a:ln w="93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优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9"/>
          <p:cNvSpPr/>
          <p:nvPr/>
        </p:nvSpPr>
        <p:spPr>
          <a:xfrm>
            <a:off x="5392800" y="4149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接种的人得了真正的天花，有很大机会死亡，危险性甚高。且受种者对天花完全产生抵抗力之前，会把天花传染给身边的家人，因此对天花未有抵抗力的家人必须被隔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圆角矩形 20"/>
          <p:cNvSpPr/>
          <p:nvPr/>
        </p:nvSpPr>
        <p:spPr>
          <a:xfrm>
            <a:off x="5060880" y="3860640"/>
            <a:ext cx="3687840" cy="2392560"/>
          </a:xfrm>
          <a:prstGeom prst="roundRect">
            <a:avLst>
              <a:gd name="adj" fmla="val 5625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21"/>
          <p:cNvSpPr/>
          <p:nvPr/>
        </p:nvSpPr>
        <p:spPr>
          <a:xfrm>
            <a:off x="5388120" y="3573360"/>
            <a:ext cx="1028520" cy="581400"/>
          </a:xfrm>
          <a:prstGeom prst="rect">
            <a:avLst/>
          </a:prstGeom>
          <a:solidFill>
            <a:srgbClr val="ff550d"/>
          </a:solidFill>
          <a:ln w="93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2"/>
          <a:srcRect l="17871" t="0" r="6448" b="0"/>
          <a:stretch/>
        </p:blipFill>
        <p:spPr>
          <a:xfrm flipH="1">
            <a:off x="-87480" y="1081080"/>
            <a:ext cx="2989440" cy="5904000"/>
          </a:xfrm>
          <a:prstGeom prst="rect">
            <a:avLst/>
          </a:prstGeom>
          <a:ln w="0">
            <a:noFill/>
          </a:ln>
        </p:spPr>
      </p:pic>
      <p:sp>
        <p:nvSpPr>
          <p:cNvPr id="176" name="矩形 4"/>
          <p:cNvSpPr/>
          <p:nvPr/>
        </p:nvSpPr>
        <p:spPr>
          <a:xfrm>
            <a:off x="2914560" y="6180120"/>
            <a:ext cx="59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世界卫生组织正式宣布“地球上的人类已免于天花疾病”，天花已在地球上被灭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2"/>
          <p:cNvSpPr/>
          <p:nvPr/>
        </p:nvSpPr>
        <p:spPr>
          <a:xfrm>
            <a:off x="10128960" y="3049560"/>
            <a:ext cx="28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80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 牛痘接种法经澳门葡商传入中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"/>
          <p:cNvSpPr/>
          <p:nvPr/>
        </p:nvSpPr>
        <p:spPr>
          <a:xfrm>
            <a:off x="-87480" y="5734080"/>
            <a:ext cx="29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免疫学之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爱德华</a:t>
            </a: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詹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5"/>
          <p:cNvSpPr/>
          <p:nvPr/>
        </p:nvSpPr>
        <p:spPr>
          <a:xfrm>
            <a:off x="9280440" y="4184640"/>
            <a:ext cx="4572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这是免疫接种的首度成功案例。因此种痘也被引申为“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</a:rPr>
              <a:t>疫苗接种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的意思。之后他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9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出版关于预防接种办法的书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牛痘预防接种的原因与后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并首次在书中使用了病毒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viru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一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下箭头 6"/>
          <p:cNvSpPr/>
          <p:nvPr/>
        </p:nvSpPr>
        <p:spPr>
          <a:xfrm>
            <a:off x="5838840" y="2160720"/>
            <a:ext cx="173160" cy="21564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下箭头 8"/>
          <p:cNvSpPr/>
          <p:nvPr/>
        </p:nvSpPr>
        <p:spPr>
          <a:xfrm>
            <a:off x="5838840" y="298116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下箭头 9"/>
          <p:cNvSpPr/>
          <p:nvPr/>
        </p:nvSpPr>
        <p:spPr>
          <a:xfrm>
            <a:off x="5838840" y="381636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下箭头 10"/>
          <p:cNvSpPr/>
          <p:nvPr/>
        </p:nvSpPr>
        <p:spPr>
          <a:xfrm>
            <a:off x="5838840" y="437832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下箭头 11"/>
          <p:cNvSpPr/>
          <p:nvPr/>
        </p:nvSpPr>
        <p:spPr>
          <a:xfrm>
            <a:off x="5838840" y="493704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12"/>
          <p:cNvSpPr/>
          <p:nvPr/>
        </p:nvSpPr>
        <p:spPr>
          <a:xfrm>
            <a:off x="2916360" y="1700280"/>
            <a:ext cx="611640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15"/>
          <p:cNvSpPr/>
          <p:nvPr/>
        </p:nvSpPr>
        <p:spPr>
          <a:xfrm>
            <a:off x="2919240" y="6093000"/>
            <a:ext cx="611676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下箭头 16"/>
          <p:cNvSpPr/>
          <p:nvPr/>
        </p:nvSpPr>
        <p:spPr>
          <a:xfrm>
            <a:off x="5838840" y="5473800"/>
            <a:ext cx="173160" cy="21564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7"/>
          <p:cNvSpPr/>
          <p:nvPr/>
        </p:nvSpPr>
        <p:spPr>
          <a:xfrm>
            <a:off x="2779560" y="1273320"/>
            <a:ext cx="636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98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英国医生爱德华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詹纳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3"/>
          <p:cNvSpPr/>
          <p:nvPr/>
        </p:nvSpPr>
        <p:spPr>
          <a:xfrm>
            <a:off x="2779560" y="17733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现病人当中挤牛奶的女工没有得天花的病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4"/>
          <p:cNvSpPr/>
          <p:nvPr/>
        </p:nvSpPr>
        <p:spPr>
          <a:xfrm>
            <a:off x="2779560" y="2324160"/>
            <a:ext cx="63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发现挤牛奶的女工透过挤压感染牛痘的牛的乳房，感染牛痘，痊愈后终生对牛痘免疫，同时也对天花终身免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7"/>
          <p:cNvSpPr/>
          <p:nvPr/>
        </p:nvSpPr>
        <p:spPr>
          <a:xfrm>
            <a:off x="2779560" y="315288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为牛痘病毒与天花病毒有一定关系，把含有牛痘的溶液涂在健康的人身上，他们便会对天花产生免疫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8"/>
          <p:cNvSpPr/>
          <p:nvPr/>
        </p:nvSpPr>
        <p:spPr>
          <a:xfrm>
            <a:off x="2779560" y="397980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发牛痘疫苗接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9"/>
          <p:cNvSpPr/>
          <p:nvPr/>
        </p:nvSpPr>
        <p:spPr>
          <a:xfrm>
            <a:off x="2779560" y="453060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研发成功，接种在自己儿子身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0"/>
          <p:cNvSpPr/>
          <p:nvPr/>
        </p:nvSpPr>
        <p:spPr>
          <a:xfrm>
            <a:off x="2779560" y="50817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的儿子接种后一直相安无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1"/>
          <p:cNvSpPr/>
          <p:nvPr/>
        </p:nvSpPr>
        <p:spPr>
          <a:xfrm>
            <a:off x="2779560" y="56325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疫苗研发成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88960" y="63849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198" name="矩形 22"/>
          <p:cNvSpPr/>
          <p:nvPr/>
        </p:nvSpPr>
        <p:spPr>
          <a:xfrm>
            <a:off x="3203640" y="3933720"/>
            <a:ext cx="5940360" cy="2159280"/>
          </a:xfrm>
          <a:prstGeom prst="rect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5"/>
          <p:cNvSpPr/>
          <p:nvPr/>
        </p:nvSpPr>
        <p:spPr>
          <a:xfrm>
            <a:off x="3743280" y="413532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牛痘病毒具有与天花病毒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的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曾经感染牛痘病毒的人类，其免疫系统亦可制造针对天花病毒的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旦感染天花，免疫系统就可迅速制造针对天花病毒的抗体，阻止天花病毒进一步入侵身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到预防天花的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3"/>
          <p:cNvSpPr/>
          <p:nvPr/>
        </p:nvSpPr>
        <p:spPr>
          <a:xfrm>
            <a:off x="1550880" y="1746360"/>
            <a:ext cx="1800" cy="158724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24000" y="1700280"/>
            <a:ext cx="1311840" cy="1579320"/>
            <a:chOff x="324000" y="1700280"/>
            <a:chExt cx="1311840" cy="1579320"/>
          </a:xfrm>
        </p:grpSpPr>
        <p:sp>
          <p:nvSpPr>
            <p:cNvPr id="202" name="TextBox 1"/>
            <p:cNvSpPr/>
            <p:nvPr/>
          </p:nvSpPr>
          <p:spPr>
            <a:xfrm>
              <a:off x="324000" y="1748160"/>
              <a:ext cx="12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疫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6"/>
            <p:cNvSpPr/>
            <p:nvPr/>
          </p:nvSpPr>
          <p:spPr>
            <a:xfrm>
              <a:off x="555840" y="1700280"/>
              <a:ext cx="108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525a66"/>
                  </a:solidFill>
                  <a:latin typeface="华文行楷"/>
                  <a:ea typeface="华文行楷"/>
                </a:rPr>
                <a:t>de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4"/>
            <p:cNvSpPr/>
            <p:nvPr/>
          </p:nvSpPr>
          <p:spPr>
            <a:xfrm>
              <a:off x="406080" y="2210760"/>
              <a:ext cx="1054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作用原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矩形 8"/>
          <p:cNvSpPr/>
          <p:nvPr/>
        </p:nvSpPr>
        <p:spPr>
          <a:xfrm>
            <a:off x="1884240" y="173340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体的免疫系统一般是借着识别病毒表膜的抗原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tige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针对病毒抗原的结构，制造“抗体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tibody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”，“标记”病毒以及受感染的细胞，以诱导免疫机制对其进行攻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24000" y="3933720"/>
            <a:ext cx="3240000" cy="2159280"/>
            <a:chOff x="324000" y="3933720"/>
            <a:chExt cx="3240000" cy="2159280"/>
          </a:xfrm>
        </p:grpSpPr>
        <p:sp>
          <p:nvSpPr>
            <p:cNvPr id="207" name="剪去单角的矩形 19"/>
            <p:cNvSpPr/>
            <p:nvPr/>
          </p:nvSpPr>
          <p:spPr>
            <a:xfrm>
              <a:off x="324000" y="3933720"/>
              <a:ext cx="3240000" cy="21592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795320" y="4807080"/>
              <a:ext cx="1120680" cy="1120320"/>
              <a:chOff x="1795320" y="4807080"/>
              <a:chExt cx="1120680" cy="1120320"/>
            </a:xfrm>
          </p:grpSpPr>
          <p:sp>
            <p:nvSpPr>
              <p:cNvPr id="209" name="椭圆 12"/>
              <p:cNvSpPr/>
              <p:nvPr/>
            </p:nvSpPr>
            <p:spPr>
              <a:xfrm>
                <a:off x="1795320" y="4807080"/>
                <a:ext cx="1120680" cy="112032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Box 10"/>
              <p:cNvSpPr/>
              <p:nvPr/>
            </p:nvSpPr>
            <p:spPr>
              <a:xfrm>
                <a:off x="1992960" y="5013360"/>
                <a:ext cx="725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牛痘病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578520" y="4807080"/>
              <a:ext cx="1120680" cy="1120320"/>
              <a:chOff x="578520" y="4807080"/>
              <a:chExt cx="1120680" cy="1120320"/>
            </a:xfrm>
          </p:grpSpPr>
          <p:sp>
            <p:nvSpPr>
              <p:cNvPr id="212" name="椭圆 15"/>
              <p:cNvSpPr/>
              <p:nvPr/>
            </p:nvSpPr>
            <p:spPr>
              <a:xfrm>
                <a:off x="578520" y="4807080"/>
                <a:ext cx="1120680" cy="112032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Box 16"/>
              <p:cNvSpPr/>
              <p:nvPr/>
            </p:nvSpPr>
            <p:spPr>
              <a:xfrm>
                <a:off x="776160" y="5013360"/>
                <a:ext cx="725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天花病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TextBox 20"/>
            <p:cNvSpPr/>
            <p:nvPr/>
          </p:nvSpPr>
          <p:spPr>
            <a:xfrm>
              <a:off x="1643040" y="4038840"/>
              <a:ext cx="192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痘科病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16" name="圆角矩形标注 8"/>
          <p:cNvSpPr/>
          <p:nvPr/>
        </p:nvSpPr>
        <p:spPr>
          <a:xfrm>
            <a:off x="2266920" y="5415120"/>
            <a:ext cx="3745080" cy="1279440"/>
          </a:xfrm>
          <a:prstGeom prst="wedgeRoundRectCallout">
            <a:avLst>
              <a:gd name="adj1" fmla="val 44907"/>
              <a:gd name="adj2" fmla="val -63814"/>
              <a:gd name="adj3" fmla="val 16667"/>
            </a:avLst>
          </a:prstGeom>
          <a:solidFill>
            <a:srgbClr val="92d050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1"/>
          <p:cNvSpPr/>
          <p:nvPr/>
        </p:nvSpPr>
        <p:spPr>
          <a:xfrm>
            <a:off x="733320" y="2825640"/>
            <a:ext cx="754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代，日本发生多宗因种植牛痘而导致脑炎的病例，令患者大脑功能障碍，严重会导致死亡，受害者多为婴儿，称为“种痘后脑炎”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4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至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4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年间，日本“种痘后脑炎”的患者已经达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，数目超过了期间证实感染天花的病人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），情况不容忽视。最后，日本政府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夏季取消替日本民众接种牛痘的规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2"/>
          <p:cNvSpPr/>
          <p:nvPr/>
        </p:nvSpPr>
        <p:spPr>
          <a:xfrm>
            <a:off x="2357280" y="57006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量减少疾病的风险，同时保留诱发有益的免疫反应的能力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50920" y="15224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尽管“牛痘接种术”为扑灭天花作出了巨大贡献，但疫苗仍有很大的</a:t>
            </a:r>
            <a:r>
              <a:rPr b="0" lang="zh-CN" sz="3200" spc="-1" strike="noStrike" u="sng">
                <a:solidFill>
                  <a:srgbClr val="ff550d"/>
                </a:solidFill>
                <a:uFillTx/>
                <a:latin typeface="华文行楷"/>
                <a:ea typeface="华文行楷"/>
              </a:rPr>
              <a:t>副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4"/>
          <p:cNvSpPr/>
          <p:nvPr/>
        </p:nvSpPr>
        <p:spPr>
          <a:xfrm>
            <a:off x="5386320" y="4732200"/>
            <a:ext cx="29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92d050"/>
                </a:solidFill>
                <a:latin typeface="华文行楷"/>
                <a:ea typeface="华文行楷"/>
              </a:rPr>
              <a:t>研究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还要更深入下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直接箭头连接符 6"/>
          <p:cNvCxnSpPr/>
          <p:nvPr/>
        </p:nvCxnSpPr>
        <p:spPr>
          <a:xfrm>
            <a:off x="1835280" y="2333160"/>
            <a:ext cx="2160" cy="359640"/>
          </a:xfrm>
          <a:prstGeom prst="straightConnector1">
            <a:avLst/>
          </a:prstGeom>
          <a:ln w="38160">
            <a:solidFill>
              <a:srgbClr val="ff550d"/>
            </a:solidFill>
            <a:miter/>
            <a:tailEnd len="med" type="arrow" w="med"/>
          </a:ln>
        </p:spPr>
      </p:cxnSp>
      <p:sp>
        <p:nvSpPr>
          <p:cNvPr id="222" name="矩形 7"/>
          <p:cNvSpPr/>
          <p:nvPr/>
        </p:nvSpPr>
        <p:spPr>
          <a:xfrm>
            <a:off x="250920" y="2692440"/>
            <a:ext cx="8507160" cy="1744560"/>
          </a:xfrm>
          <a:prstGeom prst="rect">
            <a:avLst/>
          </a:prstGeom>
          <a:noFill/>
          <a:ln w="19080">
            <a:solidFill>
              <a:srgbClr val="ff550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4:07:00Z</dcterms:created>
  <dc:creator>微软用户</dc:creator>
  <dc:description/>
  <dc:language>en-US</dc:language>
  <cp:lastModifiedBy>微软用户</cp:lastModifiedBy>
  <dcterms:modified xsi:type="dcterms:W3CDTF">2015-01-10T09:34:30Z</dcterms:modified>
  <cp:revision>1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