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637-A04B-451E-A3F6-A4C0FBD2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AF4-F834-4520-AA3C-CEEC4EA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23F-005F-403C-A862-52113E01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917-39B1-4BD2-BFA3-2AD0FD99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A2C-170A-4D8F-AEF8-316A019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43A-053C-4752-9D8B-C25FC4A7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FF0-8997-4309-BD73-3F48281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4D3-3934-4817-B20C-12C6DB0F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8E8-8EF7-4462-B08A-16D245E3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68C-5D45-450B-BFDB-4C35878F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FB7-1B58-4AC3-8FBF-8A83A62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047-8185-45B1-89F7-DF27B6C4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5AC0-E848-4E81-9D32-C42688CA3AF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635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Calibri"/>
              </a:rPr>
              <a:t>点击输入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4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Calibri"/>
              </a:rPr>
              <a:t>公司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8:14:40Z</dcterms:created>
  <dc:creator>Admin</dc:creator>
  <dc:description/>
  <dc:language>en-US</dc:language>
  <cp:lastModifiedBy>Admin</cp:lastModifiedBy>
  <dcterms:modified xsi:type="dcterms:W3CDTF">2015-01-10T12:24:08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