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C44-FE3C-4AE7-81CD-A492E8E9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CE6-BFCE-4C05-B806-DEB4013D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D77-E515-48F2-B8AB-A276E01B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0B6-E71E-4D48-AD72-EFEFF491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589-F66F-44DD-B8DF-8F067AE6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BA25-63D6-4476-A399-E07C88AF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697-901D-421A-AB15-1898E03C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058-96F9-4BF9-A00C-8C68F673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E3D-3BDA-4EA3-A9EF-6EEC1FF9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A34-C96B-41B2-9396-98FF499A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ECB-E954-4270-9699-5B16F52C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F81-65BE-4CE5-9177-9C5FB0D1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1CEC-09BB-450D-B932-CC2DB779F24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9BA7-17C0-433A-8964-680B627854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76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Arial Unicode MS"/>
              <a:ea typeface="Arial Unicode MS"/>
            </a:endParaRPr>
          </a:p>
        </p:txBody>
      </p:sp>
      <p:sp>
        <p:nvSpPr>
          <p:cNvPr id="43" name=""/>
          <p:cNvSpPr/>
          <p:nvPr/>
        </p:nvSpPr>
        <p:spPr>
          <a:xfrm>
            <a:off x="7156080" y="631044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41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  <a:ea typeface="Arial Unicode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22200" y="6383160"/>
            <a:ext cx="73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02:59:00Z</dcterms:created>
  <dc:creator>Moyea Software</dc:creator>
  <dc:description>Made by Moyea Software. To find more free PowerPoint templates, please visit http://www.dvd-ppt-slideshow.com/powerpoint-knowledge/powerpoint-templates.html</dc:description>
  <cp:keywords>free PowerPoint template download PPT template PowerPoint templates slideshow template POT POTX Power Point template slide show template festival Market Market PowerPoint template</cp:keywords>
  <dc:language>en-US</dc:language>
  <cp:lastModifiedBy>Administrator</cp:lastModifiedBy>
  <dcterms:modified xsi:type="dcterms:W3CDTF">2015-01-10T12:37:49Z</dcterms:modified>
  <cp:revision>0</cp:revision>
  <dc:subject>PowerPoint template, Market</dc:subject>
  <dc:title>Moyea Free Market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