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4D8-3559-47AD-84B8-783A1995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C9C-ABB5-4530-8BAA-FF64C56E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E6E-15F5-437B-B80A-56087AC8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116-A2F2-44BE-A091-D8621BA2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CECC-CD53-415A-B9D9-FE763B14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0AEA-7A27-4F6A-ADF0-17DDADC4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3246-76E4-4148-A4FF-EE610E8D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F9E1-1831-418B-A7CD-10B9DD40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14CB-3087-4D3F-BDCC-3D69E9A9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856D-857A-433E-A268-78D09DAE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A136-7131-43A1-B9C7-7CF90DA6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340-5B92-4D34-9C77-67464E62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A6C6-E9C4-4089-8E1C-0CC4D8B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38E9-CC02-42B9-BD4B-9A90ED05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912C-80FC-4604-9D90-4BC55576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6602-64F7-42EB-A79B-4A70C6D1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92844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643200"/>
            <a:ext cx="287064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6507-A9BA-4481-A12F-073DB6C6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19F-7A89-442B-9E6F-FBE5CDA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D86-CA55-49BD-B5EA-C073F1DE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CC0-8FC2-49F5-8D07-009D5DF6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631-7831-49B6-AA92-C76651F7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E96-5933-46EF-8106-74A05557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64320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4D7-C3EB-44B8-A8EE-AFA01AB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4480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928440"/>
            <a:ext cx="43506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43200"/>
            <a:ext cx="891540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CE3-22FC-45B3-803A-930C307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跑道内页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F7C2-10F4-4047-A86B-74D1CAFECF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跑道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华文细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3471-D414-4FDC-903D-0AF81436A4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81400" y="4357800"/>
            <a:ext cx="69199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Keep on walking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81040" y="4954320"/>
            <a:ext cx="6933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——</a:t>
            </a: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XXX</a:t>
            </a:r>
            <a:r>
              <a:rPr b="0" lang="zh-CN" sz="1600" spc="-1" strike="noStrike">
                <a:solidFill>
                  <a:srgbClr val="595959"/>
                </a:solidFill>
                <a:latin typeface="华文细黑"/>
              </a:rPr>
              <a:t>述职报告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"/>
          <p:cNvSpPr/>
          <p:nvPr/>
        </p:nvSpPr>
        <p:spPr>
          <a:xfrm>
            <a:off x="77486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82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2" autoRev="1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4" fill="hold">
                                          <p:stCondLst>
                                            <p:cond delay="34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2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模板使用说明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000" y="928440"/>
            <a:ext cx="8915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模板中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，更换您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权说明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此模板为免费模板，请不要用于任何形式的付费下载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1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1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1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1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3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1">
                                  <p:stCondLst>
                                    <p:cond delay="3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1">
                                  <p:stCondLst>
                                    <p:cond delay="4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1">
                                  <p:stCondLst>
                                    <p:cond delay="4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350"/>
                            </p:stCondLst>
                            <p:childTnLst>
                              <p:par>
                                <p:cTn id="9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7">
                                  <p:stCondLst>
                                    <p:cond delay="6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37">
                                  <p:stCondLst>
                                    <p:cond delay="11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7">
                                  <p:stCondLst>
                                    <p:cond delay="15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37">
                                  <p:stCondLst>
                                    <p:cond delay="19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7">
                                  <p:stCondLst>
                                    <p:cond delay="24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7">
                                  <p:stCondLst>
                                    <p:cond delay="29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7">
                                  <p:stCondLst>
                                    <p:cond delay="34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37">
                                  <p:stCondLst>
                                    <p:cond delay="39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37">
                                  <p:stCondLst>
                                    <p:cond delay="44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81400" y="4357800"/>
            <a:ext cx="69199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细黑"/>
              </a:rPr>
              <a:t>感谢聆听！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81040" y="4954320"/>
            <a:ext cx="6933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华文细黑"/>
              </a:rPr>
              <a:t>Thanks for your time</a:t>
            </a:r>
            <a:r>
              <a:rPr b="0" lang="zh-CN" sz="1600" spc="-1" strike="noStrike">
                <a:solidFill>
                  <a:srgbClr val="595959"/>
                </a:solidFill>
                <a:latin typeface="华文细黑"/>
              </a:rPr>
              <a:t>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376280"/>
            <a:ext cx="9126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87520" y="4222800"/>
            <a:ext cx="89708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7:03Z</dcterms:created>
  <dc:creator/>
  <dc:description/>
  <dc:language>en-US</dc:language>
  <cp:lastModifiedBy>许多</cp:lastModifiedBy>
  <dcterms:modified xsi:type="dcterms:W3CDTF">2015-01-10T12:16:45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