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B70-E3CC-41C1-A32D-A12813AD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0DD-D289-4BA1-A9D3-A5DC91A4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051-39CA-4856-B7A8-A7050A15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12A-1202-4527-9A61-4159F99B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FF3D-17A7-4D7E-AB94-D3026AAD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134E-F521-4990-8016-FCE66328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3DC0-B1A3-4B87-9DB4-111A8B28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0F1A-C137-417B-8B6C-F1C374CA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5B0D-18B0-4EA1-AA21-78D1C262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2F61-4D39-4C56-817B-4025F903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660C-6FE7-45FA-8B81-5B813063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394-2D98-4B40-8478-B151E28B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0E64-0754-4570-85C4-84859A48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1732-E58E-41E8-A7DD-4B084578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AE0B-2F12-43B7-A988-D43D688D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68DE-0F6A-4AF7-BDE1-E31A5D20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B3D7-3F91-48CB-A818-73235E53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C1F-B4DC-4CF0-9CB5-0C7748A8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8F8-3233-44FC-8562-B020A637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26E-266D-4A2D-929D-C2E53D93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390-9481-4199-97E0-0F302F13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579-5393-4B16-AB26-C72DFC3D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CAD-160D-44DB-8E0C-6D880A66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FBD-C597-4E5C-8A20-CFAAE854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6600"/>
            <a:ext cx="2133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c3e42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c3e42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6600"/>
            <a:ext cx="28958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76600"/>
            <a:ext cx="2133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c3e4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9B42-D283-45F4-8C5E-468FB7432DEC}" type="slidenum">
              <a:rPr b="0" lang="en-US" sz="1100" spc="-1" strike="noStrike">
                <a:solidFill>
                  <a:srgbClr val="3c3e42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6892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c3e42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c3e42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6892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6892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c3e4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B181-E4C7-4E3B-B219-E0872B0FC381}" type="slidenum">
              <a:rPr b="0" lang="en-US" sz="1100" spc="-1" strike="noStrike">
                <a:solidFill>
                  <a:srgbClr val="3c3e42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4764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7f"/>
                </a:solidFill>
                <a:latin typeface="宋体"/>
                <a:ea typeface="宋体"/>
              </a:rPr>
              <a:t>跳动的旋律</a:t>
            </a:r>
            <a:r>
              <a:rPr b="0" lang="zh-CN" sz="3200" spc="-1" strike="noStrike">
                <a:solidFill>
                  <a:srgbClr val="42557f"/>
                </a:solidFill>
                <a:latin typeface="宋体"/>
                <a:ea typeface="宋体"/>
              </a:rPr>
              <a:t>音乐</a:t>
            </a:r>
            <a:r>
              <a:rPr b="0" lang="zh-CN" sz="3200" spc="-1" strike="noStrike">
                <a:solidFill>
                  <a:srgbClr val="42557f"/>
                </a:solidFill>
                <a:latin typeface="宋体"/>
                <a:ea typeface="宋体"/>
              </a:rPr>
              <a:t>PPT</a:t>
            </a:r>
            <a:r>
              <a:rPr b="0" lang="en-US" sz="3200" spc="-1" strike="noStrike">
                <a:solidFill>
                  <a:srgbClr val="42557f"/>
                </a:solidFill>
                <a:latin typeface="宋体"/>
                <a:ea typeface="宋体"/>
              </a:rPr>
              <a:t>模板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6755760" y="6165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e75c01"/>
              </a:solidFill>
              <a:latin typeface="Verdana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d2611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d2611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d2611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37:54Z</dcterms:created>
  <dc:creator/>
  <dc:description/>
  <dc:language>en-US</dc:language>
  <cp:lastModifiedBy/>
  <dcterms:modified xsi:type="dcterms:W3CDTF">2015-01-10T11:58:1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103626412052</vt:lpwstr>
  </property>
</Properties>
</file>