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FD6C-1398-4E5C-8905-20504138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62E0-3AE9-4B95-A488-E699983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5F05-AABD-4570-8714-B6FA9CC2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C94B-FF6D-46D8-9FE0-AF79587A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C94C0-8462-478B-B9C2-F5C4888F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B6B49-0F06-42CE-ACE1-5131734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97179-96EC-4697-9E98-82F407C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97CE-2D0B-4EAD-B301-497C54D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4024-40A6-4173-853C-E9D2A37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1C878-D042-415C-A18D-AEA2DBC1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1102B-FC90-461D-8528-F340364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A0B7-CBAD-4456-AE7A-BBB9883C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A243E-FFDC-4D57-8D05-A9E298E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F3536-5E8E-4E4E-BFB8-DB368B3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7A60C-F192-444C-BB37-8C1D8AC5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678F-0C6C-4455-BFC6-447B93DE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F0711-20BD-4F22-B29A-429B3483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ADCCE-2EB6-468D-A271-6D73B3464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7C1EB-16BA-4420-88C7-BB2E5A9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BE65-0E78-46D6-8326-9926937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E899C-9996-4476-BF51-BD33B7B0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4CD39-0918-4BD5-9C5B-CAEC2855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E1BC-702B-4AD8-A17C-B2ED189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3B513-7E8E-4241-A54F-8C9CE24B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70C5A-210E-473A-804F-1A7592F3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49757-8048-4E78-A0F5-43CF72D1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C967B-7BB9-44E5-ACE5-E018590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F03B3-5501-4D82-90D1-881E5A1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4E5DA-A660-4217-BCC6-BA05043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5EDA4-C1A1-4EAD-B9DA-519F5D58E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4ADF-9544-4DD0-8374-D90EB4F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448D-BBF3-4A77-A6DC-0FA40EB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AAD1-D0FA-4208-B3AE-77228B6E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1AC7-6778-4C20-A4FC-C34EEF5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4866-FAC4-4FFB-9A3C-EBFA468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553D-96D3-4B3D-B584-43EC253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B8B5-EC5E-479A-98E7-0AFFBBC39D99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023-DC5A-49C6-A264-B10B9299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C55-73A4-4657-B2EF-61D0D44A66A6}" type="slidenum">
              <a:rPr b="0" lang="en-US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2"/>
          <a:srcRect l="7507" t="20181" r="13690" b="9148"/>
          <a:stretch/>
        </p:blipFill>
        <p:spPr>
          <a:xfrm>
            <a:off x="755640" y="1919160"/>
            <a:ext cx="4905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33:35Z</dcterms:created>
  <dc:creator/>
  <dc:description/>
  <dc:language>en-US</dc:language>
  <cp:lastModifiedBy/>
  <dcterms:modified xsi:type="dcterms:W3CDTF">2015-01-11T13:59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