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7C4DC-1F6E-471B-8E83-A9FC2F78B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73080" y="117360"/>
            <a:ext cx="614196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8640" y="1412640"/>
            <a:ext cx="843624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8640" y="3875760"/>
            <a:ext cx="843624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03716-0DE3-4B06-930E-DD6746F73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773080" y="117360"/>
            <a:ext cx="614196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8640" y="1412640"/>
            <a:ext cx="4116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81520" y="1412640"/>
            <a:ext cx="4116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8640" y="3875760"/>
            <a:ext cx="4116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81520" y="3875760"/>
            <a:ext cx="4116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BFC76-28FE-4D70-BF96-7BE198EFB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73080" y="117360"/>
            <a:ext cx="614196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8640" y="1412640"/>
            <a:ext cx="27162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0920" y="1412640"/>
            <a:ext cx="27162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63560" y="1412640"/>
            <a:ext cx="27162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8640" y="3875760"/>
            <a:ext cx="27162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0920" y="3875760"/>
            <a:ext cx="27162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63560" y="3875760"/>
            <a:ext cx="27162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2E796-9CF4-46A6-9076-3D3D6893C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E6BD7-1980-4F67-A80D-7C9F32C43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773080" y="117360"/>
            <a:ext cx="614196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8640" y="1412640"/>
            <a:ext cx="843624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EAD6E-828A-4D4A-80E2-D8714D0BD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773080" y="117360"/>
            <a:ext cx="614196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8640" y="1412640"/>
            <a:ext cx="843624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B2A23-1B5D-44BA-A30A-DCC892D61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773080" y="117360"/>
            <a:ext cx="614196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8640" y="1412640"/>
            <a:ext cx="41166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81520" y="1412640"/>
            <a:ext cx="41166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3002F-C7FA-4FC7-AD36-AD5196550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773080" y="117360"/>
            <a:ext cx="614196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F5F90-DDCD-496E-85D5-7AA35169E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2773080" y="117360"/>
            <a:ext cx="6141960" cy="433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B7792-57F9-408A-9CC4-776C06753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773080" y="117360"/>
            <a:ext cx="614196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8640" y="1412640"/>
            <a:ext cx="4116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81520" y="1412640"/>
            <a:ext cx="41166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8640" y="3875760"/>
            <a:ext cx="4116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A9F41-6C3E-4C61-86C2-14A9E83AA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73080" y="117360"/>
            <a:ext cx="614196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8640" y="1412640"/>
            <a:ext cx="843624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4D902-34AF-41F5-9E62-9AE66D5FC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773080" y="117360"/>
            <a:ext cx="614196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8640" y="1412640"/>
            <a:ext cx="41166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81520" y="1412640"/>
            <a:ext cx="4116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781520" y="3875760"/>
            <a:ext cx="4116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1B846-0463-4962-B57A-B22CBD7FC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773080" y="117360"/>
            <a:ext cx="614196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8640" y="1412640"/>
            <a:ext cx="4116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1520" y="1412640"/>
            <a:ext cx="4116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8640" y="3875760"/>
            <a:ext cx="843624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648B9-1E80-410F-AD6E-71C9CBEBB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773080" y="117360"/>
            <a:ext cx="614196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8640" y="1412640"/>
            <a:ext cx="843624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8640" y="3875760"/>
            <a:ext cx="843624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9B14A-7499-4AA8-835F-ED4738118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773080" y="117360"/>
            <a:ext cx="614196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8640" y="1412640"/>
            <a:ext cx="4116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81520" y="1412640"/>
            <a:ext cx="4116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8640" y="3875760"/>
            <a:ext cx="4116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781520" y="3875760"/>
            <a:ext cx="4116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FBDC8-0403-40A1-B0FF-E69E40DF5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773080" y="117360"/>
            <a:ext cx="614196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8640" y="1412640"/>
            <a:ext cx="27162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0920" y="1412640"/>
            <a:ext cx="27162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163560" y="1412640"/>
            <a:ext cx="27162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8640" y="3875760"/>
            <a:ext cx="27162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0920" y="3875760"/>
            <a:ext cx="27162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163560" y="3875760"/>
            <a:ext cx="27162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1502B-22BD-48FE-B999-38BB3557E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773080" y="117360"/>
            <a:ext cx="614196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8640" y="1412640"/>
            <a:ext cx="843624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3D98D-E0A1-4DE4-829E-DFD096E45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773080" y="117360"/>
            <a:ext cx="614196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8640" y="1412640"/>
            <a:ext cx="41166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81520" y="1412640"/>
            <a:ext cx="41166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20886-12F3-4370-94C7-A2483BA46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73080" y="117360"/>
            <a:ext cx="614196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CF6E4-E501-4235-8B81-8DA6D56AB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773080" y="117360"/>
            <a:ext cx="6141960" cy="433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E34A5-5C71-4D0F-B853-652F4AA97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773080" y="117360"/>
            <a:ext cx="614196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8640" y="1412640"/>
            <a:ext cx="4116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1520" y="1412640"/>
            <a:ext cx="41166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8640" y="3875760"/>
            <a:ext cx="4116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1E541-66AA-466F-9D2D-0F4E38287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773080" y="117360"/>
            <a:ext cx="614196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8640" y="1412640"/>
            <a:ext cx="41166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81520" y="1412640"/>
            <a:ext cx="4116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81520" y="3875760"/>
            <a:ext cx="4116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1BC12-A71B-4161-A58A-766384F89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73080" y="117360"/>
            <a:ext cx="614196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8640" y="1412640"/>
            <a:ext cx="4116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81520" y="1412640"/>
            <a:ext cx="4116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8640" y="3875760"/>
            <a:ext cx="843624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DAF29-B681-4BEC-A482-48775FC06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矩形 6" descr=""/>
          <p:cNvPicPr/>
          <p:nvPr/>
        </p:nvPicPr>
        <p:blipFill>
          <a:blip r:embed="rId2"/>
          <a:stretch/>
        </p:blipFill>
        <p:spPr>
          <a:xfrm>
            <a:off x="-68400" y="-68400"/>
            <a:ext cx="9291600" cy="24829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1856B-DE4A-4154-8087-40E1FB23D305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图片 8" descr="1.png"/>
          <p:cNvPicPr/>
          <p:nvPr/>
        </p:nvPicPr>
        <p:blipFill>
          <a:blip r:embed="rId3"/>
          <a:stretch/>
        </p:blipFill>
        <p:spPr>
          <a:xfrm>
            <a:off x="-71280" y="-71280"/>
            <a:ext cx="2965320" cy="12715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body"/>
          </p:nvPr>
        </p:nvSpPr>
        <p:spPr>
          <a:xfrm>
            <a:off x="458640" y="1412640"/>
            <a:ext cx="843624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2773080" y="117360"/>
            <a:ext cx="614196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-68400" y="-184320"/>
            <a:ext cx="9291600" cy="3719520"/>
            <a:chOff x="-68400" y="-184320"/>
            <a:chExt cx="9291600" cy="3719520"/>
          </a:xfrm>
        </p:grpSpPr>
        <p:pic>
          <p:nvPicPr>
            <p:cNvPr id="44" name="矩形 7" descr=""/>
            <p:cNvPicPr/>
            <p:nvPr/>
          </p:nvPicPr>
          <p:blipFill>
            <a:blip r:embed="rId3"/>
            <a:stretch/>
          </p:blipFill>
          <p:spPr>
            <a:xfrm>
              <a:off x="-68400" y="-184320"/>
              <a:ext cx="9291600" cy="371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"/>
            <p:cNvSpPr/>
            <p:nvPr/>
          </p:nvSpPr>
          <p:spPr>
            <a:xfrm>
              <a:off x="10440" y="-106560"/>
              <a:ext cx="9132840" cy="356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FD1CC-A3D1-4BFE-9EC1-8B411C8DDF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Calibri"/>
              </a:rPr>
              <a:t>甜蜜爱情心型糖果</a:t>
            </a:r>
            <a:r>
              <a:rPr b="1" lang="zh-CN" sz="36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1" lang="zh-CN" sz="3600" spc="-1" strike="noStrike">
                <a:solidFill>
                  <a:srgbClr val="ffffff"/>
                </a:solidFill>
                <a:latin typeface="Calibri"/>
              </a:rPr>
              <a:t>模板</a:t>
            </a:r>
            <a:endParaRPr b="1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403280" y="2421000"/>
            <a:ext cx="64008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" name=""/>
          <p:cNvSpPr/>
          <p:nvPr/>
        </p:nvSpPr>
        <p:spPr>
          <a:xfrm>
            <a:off x="7080480" y="638172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773080" y="117360"/>
            <a:ext cx="614196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8640" y="1412640"/>
            <a:ext cx="843624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1403280" y="1988640"/>
            <a:ext cx="64008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Calibri"/>
                <a:ea typeface="黑体"/>
              </a:rPr>
              <a:t>感谢您的关注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Calibri"/>
              </a:rPr>
              <a:t>使用规范说明</a:t>
            </a:r>
            <a:endParaRPr b="1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1T19:03:33Z</dcterms:created>
  <dc:creator/>
  <dc:description/>
  <dc:language>en-US</dc:language>
  <cp:lastModifiedBy>dell</cp:lastModifiedBy>
  <dcterms:modified xsi:type="dcterms:W3CDTF">2015-01-10T09:09:53Z</dcterms:modified>
  <cp:revision>19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