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CAB-07F2-4151-8240-C77D0D97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E35-3BD7-4D40-8567-EB781F4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564-E6D4-4824-AE16-8F53508A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1BB-76CE-4EFE-A09D-744103DB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EA7-D8A9-4688-B2F5-A972046C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0A3-A5F8-47E2-8AE8-A27044C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9E2-4182-412C-8933-A83646A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B74-CBE9-4E21-8B08-6A0C8BA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17D-8BC9-40E2-B964-8E2174E8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A6F-C066-4763-A0A0-BE06F9F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B6C-FCBC-4FF7-A479-A9B7FAE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242-C686-44DD-802F-B3183AE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30D-AC3D-4259-A0EE-EBBB4D8A0AE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33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50960" y="6292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7050960" y="6292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2760" y="999720"/>
            <a:ext cx="62866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99840" y="2999880"/>
            <a:ext cx="618660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Adipiscing elit Viv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Adipiscing elit Viv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Consectetuer adipiscing 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onsectetuer adipiscing 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3:52:08Z</dcterms:created>
  <dc:creator/>
  <dc:description/>
  <dc:language>en-US</dc:language>
  <cp:lastModifiedBy>Éric Vadeboncoeur</cp:lastModifiedBy>
  <dcterms:modified xsi:type="dcterms:W3CDTF">2015-01-10T11:58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