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1EB-43FA-40B0-9BB6-3572A663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27E-D7BD-46DC-B988-33FE423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687-A460-416E-A53E-C3144FA6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A9F-B065-499C-A2A6-54380B7C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5E5-DF8C-427B-8FD3-CBE3DCAB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D600-2CAF-47DA-A7B0-994523D6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4F5-8CDE-4710-8D75-6A77A78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9B8C-232A-4ACB-9CAD-2F0C26B9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513-AD9C-47F7-A8A9-148A02E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D8E1-DECA-484B-BA98-B6D04B7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9F8-0086-465F-B0AD-6ABE3F3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B66-1115-48FA-A3CF-1EAFB4B9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F44B-7134-4DDA-BE98-D26C9FC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0BF-6E3A-481C-8FF1-9D2C85A5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451B-1389-49C8-946C-208319B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20C2-9E1D-4DF0-9F8B-8EFC06D6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A8B2-1529-49E6-AD79-178624FD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1D5-AE16-43A8-9BD3-0EC2C16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CCC-F346-400D-860F-33CF73E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A46-60DD-42B7-9A8C-C98613F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36E-BB7B-4194-8EFA-AC5F07A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4DE-8A9A-45CD-8BB9-F145D5E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953-4BC3-4250-A158-5F8E3C2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84A-1EBE-4259-A766-99320CB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E1B0-0B0C-4C99-B47F-BFFB15FD3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900-2E9B-433F-BF4A-A907AA0A4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 BT"/>
                <a:ea typeface="宋体"/>
              </a:rPr>
              <a:t>太阳公公</a:t>
            </a:r>
            <a:r>
              <a:rPr b="1" lang="zh-CN" sz="4400" spc="-1" strike="noStrike">
                <a:solidFill>
                  <a:srgbClr val="000000"/>
                </a:solidFill>
                <a:latin typeface="Broadway BT"/>
                <a:ea typeface="宋体"/>
              </a:rPr>
              <a:t>PPT</a:t>
            </a:r>
            <a:r>
              <a:rPr b="1" lang="en-US" sz="4400" spc="-1" strike="noStrike">
                <a:solidFill>
                  <a:srgbClr val="000000"/>
                </a:solidFill>
                <a:latin typeface="Broadway BT"/>
                <a:ea typeface="宋体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  <a:ea typeface="宋体"/>
              </a:rPr>
              <a:t>Sub 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7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li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75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8:19:01Z</dcterms:created>
  <dc:creator/>
  <dc:description/>
  <dc:language>en-US</dc:language>
  <cp:lastModifiedBy>king</cp:lastModifiedBy>
  <dcterms:modified xsi:type="dcterms:W3CDTF">2015-01-10T08:52:1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