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4A4-DD2C-49EC-9074-296CB1BC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60" y="4281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042-A420-4BF6-92D4-96806814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560" y="4281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0" y="4281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B8F-066C-420B-86DD-9C907AF7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9000" y="1917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917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560" y="4281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9000" y="4281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281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5A6-DA10-4F85-A3DE-CA41ADCD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2F70-7621-4244-ADE4-01F2F717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6560" y="191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5D3-5EA8-4DF5-A108-9C79DF01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BC0F-E58D-48F3-A46B-14D28466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505C-2401-4F12-A292-7034B0FF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A1CB-DAF0-4FFF-8A6E-AC0B25BE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867D-6B72-4090-8C29-3C417F6C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" y="4281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7BDC-6F27-4AB6-AB2A-91AC680A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6560" y="191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B85-1814-4E47-8909-EE40E3A0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0" y="4281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05C8-DF69-49FA-8699-04FFA99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60" y="4281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F3A-0B14-49F3-8F3E-A47A1293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60" y="4281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5614-09FF-4F7D-85AF-7BBD96E9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560" y="4281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0" y="4281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432C-6E32-4EBE-B231-C88A580B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9000" y="1917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1440" y="1917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60" y="4281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9000" y="4281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1440" y="4281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8A7-356B-43DA-803A-E9786ADF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987-C87D-4188-83A0-47702D15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7A6-B009-4023-8B5C-BAC4D6EA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970-25DE-4404-8AEB-A53BAA98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E66-A15B-4AC3-B062-B019DD81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60" y="4281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5CA-8F1F-4E16-8323-01C5820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0" y="4281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978-DEBD-437A-91A5-10D5B37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0" y="1917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60" y="4281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6ED-DD6A-49A8-A8E2-D52FDEC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-11160"/>
            <a:ext cx="9142560" cy="1859040"/>
          </a:xfrm>
          <a:prstGeom prst="rect">
            <a:avLst/>
          </a:prstGeom>
          <a:gradFill rotWithShape="0">
            <a:gsLst>
              <a:gs pos="0">
                <a:srgbClr val="fee5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9001080" cy="51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6560" y="191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339F-4700-4026-8D67-AFA25A382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0" y="-11160"/>
            <a:ext cx="9142560" cy="1859040"/>
          </a:xfrm>
          <a:prstGeom prst="rect">
            <a:avLst/>
          </a:prstGeom>
          <a:gradFill rotWithShape="0">
            <a:gsLst>
              <a:gs pos="0">
                <a:srgbClr val="fee5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721-7E7D-4F8C-81ED-543A51E9E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075%20拷贝" descr=""/>
          <p:cNvPicPr/>
          <p:nvPr/>
        </p:nvPicPr>
        <p:blipFill>
          <a:blip r:embed="rId2"/>
          <a:stretch/>
        </p:blipFill>
        <p:spPr>
          <a:xfrm>
            <a:off x="6588000" y="4869000"/>
            <a:ext cx="2382840" cy="1592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课件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292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讲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75%20拷贝" descr=""/>
          <p:cNvPicPr/>
          <p:nvPr/>
        </p:nvPicPr>
        <p:blipFill>
          <a:blip r:embed="rId2"/>
          <a:stretch/>
        </p:blipFill>
        <p:spPr>
          <a:xfrm>
            <a:off x="6300720" y="5084640"/>
            <a:ext cx="2382840" cy="1592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04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6360" y="1844640"/>
            <a:ext cx="3888000" cy="4969080"/>
            <a:chOff x="36360" y="1844640"/>
            <a:chExt cx="3888000" cy="4969080"/>
          </a:xfrm>
        </p:grpSpPr>
        <p:sp>
          <p:nvSpPr>
            <p:cNvPr id="92" name=""/>
            <p:cNvSpPr/>
            <p:nvPr/>
          </p:nvSpPr>
          <p:spPr>
            <a:xfrm>
              <a:off x="36360" y="1844640"/>
              <a:ext cx="1151640" cy="49690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6a5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33"/>
                  </a:solidFill>
                  <a:latin typeface="Arial"/>
                  <a:ea typeface="黑体"/>
                </a:rPr>
                <a:t>第一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89800" y="1845720"/>
              <a:ext cx="2734560" cy="4968000"/>
            </a:xfrm>
            <a:prstGeom prst="rect">
              <a:avLst/>
            </a:prstGeom>
            <a:gradFill rotWithShape="0">
              <a:gsLst>
                <a:gs pos="0">
                  <a:srgbClr val="b09116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332000" y="2679120"/>
            <a:ext cx="2701080" cy="4137120"/>
            <a:chOff x="1332000" y="2679120"/>
            <a:chExt cx="2701080" cy="4137120"/>
          </a:xfrm>
        </p:grpSpPr>
        <p:sp>
          <p:nvSpPr>
            <p:cNvPr id="95" name=""/>
            <p:cNvSpPr/>
            <p:nvPr/>
          </p:nvSpPr>
          <p:spPr>
            <a:xfrm>
              <a:off x="1332000" y="2709360"/>
              <a:ext cx="792360" cy="4104000"/>
            </a:xfrm>
            <a:prstGeom prst="rect">
              <a:avLst/>
            </a:prstGeom>
            <a:gradFill rotWithShape="0">
              <a:gsLst>
                <a:gs pos="0">
                  <a:srgbClr val="a60ca1"/>
                </a:gs>
                <a:gs pos="100000">
                  <a:srgbClr val="4b05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Arial"/>
                </a:rPr>
                <a:t>第二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540000">
              <a:off x="2052000" y="2695320"/>
              <a:ext cx="1945440" cy="41040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68360" y="2925720"/>
            <a:ext cx="2158920" cy="3888000"/>
            <a:chOff x="2268360" y="2925720"/>
            <a:chExt cx="2158920" cy="3888000"/>
          </a:xfrm>
        </p:grpSpPr>
        <p:sp>
          <p:nvSpPr>
            <p:cNvPr id="98" name=""/>
            <p:cNvSpPr/>
            <p:nvPr/>
          </p:nvSpPr>
          <p:spPr>
            <a:xfrm flipH="1">
              <a:off x="3204000" y="2925720"/>
              <a:ext cx="1223280" cy="3887640"/>
            </a:xfrm>
            <a:prstGeom prst="parallelogram">
              <a:avLst>
                <a:gd name="adj" fmla="val 11778"/>
              </a:avLst>
            </a:prstGeom>
            <a:gradFill rotWithShape="0">
              <a:gsLst>
                <a:gs pos="0">
                  <a:srgbClr val="1ba3e3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68360" y="2926080"/>
              <a:ext cx="1080000" cy="3887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55d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33"/>
                  </a:solidFill>
                  <a:latin typeface="Arial"/>
                </a:rPr>
                <a:t>第三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925800" y="3502080"/>
            <a:ext cx="1727280" cy="3311640"/>
            <a:chOff x="3925800" y="3502080"/>
            <a:chExt cx="1727280" cy="3311640"/>
          </a:xfrm>
        </p:grpSpPr>
        <p:sp>
          <p:nvSpPr>
            <p:cNvPr id="101" name=""/>
            <p:cNvSpPr/>
            <p:nvPr/>
          </p:nvSpPr>
          <p:spPr>
            <a:xfrm>
              <a:off x="3925800" y="3502080"/>
              <a:ext cx="1439280" cy="3311640"/>
            </a:xfrm>
            <a:prstGeom prst="rect">
              <a:avLst/>
            </a:prstGeom>
            <a:gradFill rotWithShape="0">
              <a:gsLst>
                <a:gs pos="0">
                  <a:srgbClr val="342c8a"/>
                </a:gs>
                <a:gs pos="100000">
                  <a:srgbClr val="1714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第四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21080" y="3502080"/>
              <a:ext cx="432000" cy="3311640"/>
            </a:xfrm>
            <a:prstGeom prst="rect">
              <a:avLst/>
            </a:prstGeom>
            <a:gradFill rotWithShape="0">
              <a:gsLst>
                <a:gs pos="0">
                  <a:srgbClr val="0c0823"/>
                </a:gs>
                <a:gs pos="100000">
                  <a:srgbClr val="1c12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80000" y="3718080"/>
            <a:ext cx="936360" cy="3095640"/>
            <a:chOff x="5580000" y="3718080"/>
            <a:chExt cx="936360" cy="3095640"/>
          </a:xfrm>
        </p:grpSpPr>
        <p:sp>
          <p:nvSpPr>
            <p:cNvPr id="104" name=""/>
            <p:cNvSpPr/>
            <p:nvPr/>
          </p:nvSpPr>
          <p:spPr>
            <a:xfrm>
              <a:off x="5580000" y="3718080"/>
              <a:ext cx="648720" cy="309564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5d45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28000" y="3718080"/>
              <a:ext cx="288360" cy="3095640"/>
            </a:xfrm>
            <a:prstGeom prst="rect">
              <a:avLst/>
            </a:prstGeom>
            <a:gradFill rotWithShape="0">
              <a:gsLst>
                <a:gs pos="0">
                  <a:srgbClr val="5d4574"/>
                </a:gs>
                <a:gs pos="100000">
                  <a:srgbClr val="cc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445080" y="2637000"/>
            <a:ext cx="1655640" cy="4176720"/>
            <a:chOff x="6445080" y="2637000"/>
            <a:chExt cx="1655640" cy="4176720"/>
          </a:xfrm>
        </p:grpSpPr>
        <p:sp>
          <p:nvSpPr>
            <p:cNvPr id="107" name=""/>
            <p:cNvSpPr/>
            <p:nvPr/>
          </p:nvSpPr>
          <p:spPr>
            <a:xfrm flipH="1">
              <a:off x="6445080" y="2637000"/>
              <a:ext cx="1296000" cy="4176720"/>
            </a:xfrm>
            <a:prstGeom prst="parallelogram">
              <a:avLst>
                <a:gd name="adj" fmla="val 1764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474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9080" y="2637000"/>
              <a:ext cx="431640" cy="417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885080" y="1701720"/>
            <a:ext cx="1258920" cy="5112000"/>
          </a:xfrm>
          <a:prstGeom prst="rect">
            <a:avLst/>
          </a:prstGeom>
          <a:gradFill rotWithShape="0">
            <a:gsLst>
              <a:gs pos="0">
                <a:srgbClr val="235155"/>
              </a:gs>
              <a:gs pos="100000">
                <a:srgbClr val="0f25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一讲 请键入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6200" y="1844280"/>
            <a:ext cx="4038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5080" y="184428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77440" y="6524640"/>
            <a:ext cx="358560" cy="289080"/>
          </a:xfrm>
          <a:custGeom>
            <a:avLst/>
            <a:gdLst>
              <a:gd name="textAreaLeft" fmla="*/ 18000 w 358560"/>
              <a:gd name="textAreaRight" fmla="*/ 340560 w 358560"/>
              <a:gd name="textAreaTop" fmla="*/ 18000 h 289080"/>
              <a:gd name="textAreaBottom" fmla="*/ 27108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435" y="1350"/>
                </a:lnTo>
                <a:lnTo>
                  <a:pt x="1350" y="135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435" y="20250"/>
                </a:lnTo>
                <a:lnTo>
                  <a:pt x="25435" y="135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435" y="2025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785" h="21600">
                <a:moveTo>
                  <a:pt x="13393" y="3800"/>
                </a:moveTo>
                <a:lnTo>
                  <a:pt x="15983" y="6425"/>
                </a:lnTo>
                <a:lnTo>
                  <a:pt x="15983" y="4675"/>
                </a:lnTo>
                <a:lnTo>
                  <a:pt x="17768" y="4675"/>
                </a:lnTo>
                <a:lnTo>
                  <a:pt x="17768" y="8210"/>
                </a:lnTo>
                <a:lnTo>
                  <a:pt x="20393" y="10800"/>
                </a:lnTo>
                <a:lnTo>
                  <a:pt x="18730" y="10800"/>
                </a:lnTo>
                <a:lnTo>
                  <a:pt x="18730" y="18028"/>
                </a:lnTo>
                <a:lnTo>
                  <a:pt x="8055" y="18028"/>
                </a:lnTo>
                <a:lnTo>
                  <a:pt x="8055" y="10800"/>
                </a:lnTo>
                <a:lnTo>
                  <a:pt x="6393" y="10800"/>
                </a:lnTo>
                <a:close/>
              </a:path>
              <a:path fill="darkenLess" w="26785" h="21600">
                <a:moveTo>
                  <a:pt x="15983" y="6425"/>
                </a:moveTo>
                <a:lnTo>
                  <a:pt x="15983" y="4675"/>
                </a:lnTo>
                <a:lnTo>
                  <a:pt x="17768" y="4675"/>
                </a:lnTo>
                <a:lnTo>
                  <a:pt x="17768" y="8210"/>
                </a:lnTo>
                <a:close/>
              </a:path>
              <a:path fill="darkenLess" w="26785" h="21600">
                <a:moveTo>
                  <a:pt x="12465" y="14318"/>
                </a:moveTo>
                <a:lnTo>
                  <a:pt x="14320" y="14318"/>
                </a:lnTo>
                <a:lnTo>
                  <a:pt x="14320" y="18028"/>
                </a:lnTo>
                <a:lnTo>
                  <a:pt x="18730" y="18028"/>
                </a:lnTo>
                <a:lnTo>
                  <a:pt x="18730" y="10800"/>
                </a:lnTo>
                <a:lnTo>
                  <a:pt x="8055" y="10800"/>
                </a:lnTo>
                <a:lnTo>
                  <a:pt x="8055" y="18028"/>
                </a:lnTo>
                <a:lnTo>
                  <a:pt x="12465" y="1802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讲 请键入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200" y="1844280"/>
            <a:ext cx="4038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5080" y="184428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77440" y="6524640"/>
            <a:ext cx="358560" cy="289080"/>
          </a:xfrm>
          <a:custGeom>
            <a:avLst/>
            <a:gdLst>
              <a:gd name="textAreaLeft" fmla="*/ 18000 w 358560"/>
              <a:gd name="textAreaRight" fmla="*/ 340560 w 358560"/>
              <a:gd name="textAreaTop" fmla="*/ 18000 h 289080"/>
              <a:gd name="textAreaBottom" fmla="*/ 27108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435" y="1350"/>
                </a:lnTo>
                <a:lnTo>
                  <a:pt x="1350" y="135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435" y="20250"/>
                </a:lnTo>
                <a:lnTo>
                  <a:pt x="25435" y="135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435" y="2025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785" h="21600">
                <a:moveTo>
                  <a:pt x="13393" y="3800"/>
                </a:moveTo>
                <a:lnTo>
                  <a:pt x="15983" y="6425"/>
                </a:lnTo>
                <a:lnTo>
                  <a:pt x="15983" y="4675"/>
                </a:lnTo>
                <a:lnTo>
                  <a:pt x="17768" y="4675"/>
                </a:lnTo>
                <a:lnTo>
                  <a:pt x="17768" y="8210"/>
                </a:lnTo>
                <a:lnTo>
                  <a:pt x="20393" y="10800"/>
                </a:lnTo>
                <a:lnTo>
                  <a:pt x="18730" y="10800"/>
                </a:lnTo>
                <a:lnTo>
                  <a:pt x="18730" y="18028"/>
                </a:lnTo>
                <a:lnTo>
                  <a:pt x="8055" y="18028"/>
                </a:lnTo>
                <a:lnTo>
                  <a:pt x="8055" y="10800"/>
                </a:lnTo>
                <a:lnTo>
                  <a:pt x="6393" y="10800"/>
                </a:lnTo>
                <a:close/>
              </a:path>
              <a:path fill="darkenLess" w="26785" h="21600">
                <a:moveTo>
                  <a:pt x="15983" y="6425"/>
                </a:moveTo>
                <a:lnTo>
                  <a:pt x="15983" y="4675"/>
                </a:lnTo>
                <a:lnTo>
                  <a:pt x="17768" y="4675"/>
                </a:lnTo>
                <a:lnTo>
                  <a:pt x="17768" y="8210"/>
                </a:lnTo>
                <a:close/>
              </a:path>
              <a:path fill="darkenLess" w="26785" h="21600">
                <a:moveTo>
                  <a:pt x="12465" y="14318"/>
                </a:moveTo>
                <a:lnTo>
                  <a:pt x="14320" y="14318"/>
                </a:lnTo>
                <a:lnTo>
                  <a:pt x="14320" y="18028"/>
                </a:lnTo>
                <a:lnTo>
                  <a:pt x="18730" y="18028"/>
                </a:lnTo>
                <a:lnTo>
                  <a:pt x="18730" y="10800"/>
                </a:lnTo>
                <a:lnTo>
                  <a:pt x="8055" y="10800"/>
                </a:lnTo>
                <a:lnTo>
                  <a:pt x="8055" y="18028"/>
                </a:lnTo>
                <a:lnTo>
                  <a:pt x="12465" y="1802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讲 请键入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6200" y="1844280"/>
            <a:ext cx="40388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5080" y="184428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77440" y="6524640"/>
            <a:ext cx="358560" cy="289080"/>
          </a:xfrm>
          <a:custGeom>
            <a:avLst/>
            <a:gdLst>
              <a:gd name="textAreaLeft" fmla="*/ 18000 w 358560"/>
              <a:gd name="textAreaRight" fmla="*/ 340560 w 358560"/>
              <a:gd name="textAreaTop" fmla="*/ 18000 h 289080"/>
              <a:gd name="textAreaBottom" fmla="*/ 27108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435" y="1350"/>
                </a:lnTo>
                <a:lnTo>
                  <a:pt x="1350" y="135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435" y="20250"/>
                </a:lnTo>
                <a:lnTo>
                  <a:pt x="25435" y="135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435" y="2025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785" h="21600">
                <a:moveTo>
                  <a:pt x="13393" y="3800"/>
                </a:moveTo>
                <a:lnTo>
                  <a:pt x="15983" y="6425"/>
                </a:lnTo>
                <a:lnTo>
                  <a:pt x="15983" y="4675"/>
                </a:lnTo>
                <a:lnTo>
                  <a:pt x="17768" y="4675"/>
                </a:lnTo>
                <a:lnTo>
                  <a:pt x="17768" y="8210"/>
                </a:lnTo>
                <a:lnTo>
                  <a:pt x="20393" y="10800"/>
                </a:lnTo>
                <a:lnTo>
                  <a:pt x="18730" y="10800"/>
                </a:lnTo>
                <a:lnTo>
                  <a:pt x="18730" y="18028"/>
                </a:lnTo>
                <a:lnTo>
                  <a:pt x="8055" y="18028"/>
                </a:lnTo>
                <a:lnTo>
                  <a:pt x="8055" y="10800"/>
                </a:lnTo>
                <a:lnTo>
                  <a:pt x="6393" y="10800"/>
                </a:lnTo>
                <a:close/>
              </a:path>
              <a:path fill="darkenLess" w="26785" h="21600">
                <a:moveTo>
                  <a:pt x="15983" y="6425"/>
                </a:moveTo>
                <a:lnTo>
                  <a:pt x="15983" y="4675"/>
                </a:lnTo>
                <a:lnTo>
                  <a:pt x="17768" y="4675"/>
                </a:lnTo>
                <a:lnTo>
                  <a:pt x="17768" y="8210"/>
                </a:lnTo>
                <a:close/>
              </a:path>
              <a:path fill="darkenLess" w="26785" h="21600">
                <a:moveTo>
                  <a:pt x="12465" y="14318"/>
                </a:moveTo>
                <a:lnTo>
                  <a:pt x="14320" y="14318"/>
                </a:lnTo>
                <a:lnTo>
                  <a:pt x="14320" y="18028"/>
                </a:lnTo>
                <a:lnTo>
                  <a:pt x="18730" y="18028"/>
                </a:lnTo>
                <a:lnTo>
                  <a:pt x="18730" y="10800"/>
                </a:lnTo>
                <a:lnTo>
                  <a:pt x="8055" y="10800"/>
                </a:lnTo>
                <a:lnTo>
                  <a:pt x="8055" y="18028"/>
                </a:lnTo>
                <a:lnTo>
                  <a:pt x="12465" y="1802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0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讲 请键入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6200" y="1917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7680" y="1917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77440" y="6524640"/>
            <a:ext cx="358560" cy="289080"/>
          </a:xfrm>
          <a:custGeom>
            <a:avLst/>
            <a:gdLst>
              <a:gd name="textAreaLeft" fmla="*/ 18000 w 358560"/>
              <a:gd name="textAreaRight" fmla="*/ 340560 w 358560"/>
              <a:gd name="textAreaTop" fmla="*/ 18000 h 289080"/>
              <a:gd name="textAreaBottom" fmla="*/ 27108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435" y="1350"/>
                </a:lnTo>
                <a:lnTo>
                  <a:pt x="1350" y="135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435" y="20250"/>
                </a:lnTo>
                <a:lnTo>
                  <a:pt x="25435" y="135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435" y="2025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785" h="21600">
                <a:moveTo>
                  <a:pt x="13393" y="3800"/>
                </a:moveTo>
                <a:lnTo>
                  <a:pt x="15983" y="6425"/>
                </a:lnTo>
                <a:lnTo>
                  <a:pt x="15983" y="4675"/>
                </a:lnTo>
                <a:lnTo>
                  <a:pt x="17768" y="4675"/>
                </a:lnTo>
                <a:lnTo>
                  <a:pt x="17768" y="8210"/>
                </a:lnTo>
                <a:lnTo>
                  <a:pt x="20393" y="10800"/>
                </a:lnTo>
                <a:lnTo>
                  <a:pt x="18730" y="10800"/>
                </a:lnTo>
                <a:lnTo>
                  <a:pt x="18730" y="18028"/>
                </a:lnTo>
                <a:lnTo>
                  <a:pt x="8055" y="18028"/>
                </a:lnTo>
                <a:lnTo>
                  <a:pt x="8055" y="10800"/>
                </a:lnTo>
                <a:lnTo>
                  <a:pt x="6393" y="10800"/>
                </a:lnTo>
                <a:close/>
              </a:path>
              <a:path fill="darkenLess" w="26785" h="21600">
                <a:moveTo>
                  <a:pt x="15983" y="6425"/>
                </a:moveTo>
                <a:lnTo>
                  <a:pt x="15983" y="4675"/>
                </a:lnTo>
                <a:lnTo>
                  <a:pt x="17768" y="4675"/>
                </a:lnTo>
                <a:lnTo>
                  <a:pt x="17768" y="8210"/>
                </a:lnTo>
                <a:close/>
              </a:path>
              <a:path fill="darkenLess" w="26785" h="21600">
                <a:moveTo>
                  <a:pt x="12465" y="14318"/>
                </a:moveTo>
                <a:lnTo>
                  <a:pt x="14320" y="14318"/>
                </a:lnTo>
                <a:lnTo>
                  <a:pt x="14320" y="18028"/>
                </a:lnTo>
                <a:lnTo>
                  <a:pt x="18730" y="18028"/>
                </a:lnTo>
                <a:lnTo>
                  <a:pt x="18730" y="10800"/>
                </a:lnTo>
                <a:lnTo>
                  <a:pt x="8055" y="10800"/>
                </a:lnTo>
                <a:lnTo>
                  <a:pt x="8055" y="18028"/>
                </a:lnTo>
                <a:lnTo>
                  <a:pt x="12465" y="1802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6200" y="1917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7680" y="1917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1871640"/>
          </a:xfrm>
          <a:prstGeom prst="rect">
            <a:avLst/>
          </a:prstGeom>
          <a:gradFill rotWithShape="0">
            <a:gsLst>
              <a:gs pos="0">
                <a:srgbClr val="fee5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200759%20拷贝" descr=""/>
          <p:cNvPicPr/>
          <p:nvPr/>
        </p:nvPicPr>
        <p:blipFill>
          <a:blip r:embed="rId1"/>
          <a:stretch/>
        </p:blipFill>
        <p:spPr>
          <a:xfrm rot="360000">
            <a:off x="1019160" y="1968120"/>
            <a:ext cx="6639120" cy="4375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1800000">
            <a:off x="3219480" y="2849400"/>
            <a:ext cx="2131920" cy="2106720"/>
          </a:xfrm>
          <a:prstGeom prst="parallelogram">
            <a:avLst>
              <a:gd name="adj" fmla="val 258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86bf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86bf"/>
                </a:solidFill>
                <a:latin typeface="Arial"/>
              </a:rPr>
              <a:t>thank you</a:t>
            </a:r>
            <a:r>
              <a:rPr b="1" lang="zh-CN" sz="2400" spc="-1" strike="noStrike">
                <a:solidFill>
                  <a:srgbClr val="2d86bf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2200" y="6310440"/>
            <a:ext cx="51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0:23:50Z</dcterms:created>
  <dc:creator/>
  <dc:description/>
  <dc:language>en-US</dc:language>
  <cp:lastModifiedBy/>
  <dcterms:modified xsi:type="dcterms:W3CDTF">2015-01-11T11:34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