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68F-5CE4-4AF7-874C-9EF48126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09E-1A4F-40CB-865F-D5536348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D5C-83D1-455D-B733-40B23B0C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E31-D9D7-4C00-B7CC-01F736BA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B06C-7802-400D-B38D-32354015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5103-AB1F-456A-A5D3-D21CAB16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2BE1-AD49-4257-995B-E48AB184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790D-D7BD-401C-9918-71CFAC2F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B23E-E1EB-4125-A0D4-D12CF5D8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10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6919-C128-4E1F-AAF4-C7DFDAC1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B23F-2134-4061-900A-73FD6DC5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6AB-89C4-4135-ADA4-17990D98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E5A-3E1A-4E18-A073-E4BEA681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E3B8-11B3-4CFA-B83B-5D3F224E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AEC9-B0F0-4376-BF51-7DCF0711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107D-FE28-4D22-93D6-68C996DA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949C-DEA9-475C-A3F5-E8C26112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6CC-1356-429D-BE68-701BF8AC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6AA-DB0B-4C3B-A363-3FB405E0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630-258A-47A8-BAB0-4C9A8B03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10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E75-476C-47E1-A590-0DE1B73C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67B-D0CF-486C-894B-EAEEACAE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6BE-5FC8-4783-89DD-06917B78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E92-0FEE-4CAA-B3C6-689BB70F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17640"/>
            <a:ext cx="9144000" cy="1435320"/>
          </a:xfrm>
          <a:prstGeom prst="rect">
            <a:avLst/>
          </a:prstGeom>
          <a:solidFill>
            <a:srgbClr val="243a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840" y="6742080"/>
            <a:ext cx="9128160" cy="11592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" bIns="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-6480"/>
            <a:ext cx="9144000" cy="10656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" bIns="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5DB0-4A55-4E3B-838E-5C301CFCA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7734-1F5B-4191-A578-F6018D13E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通用模板之蓝色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75868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311880"/>
            <a:ext cx="62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58:22Z</dcterms:created>
  <dc:creator/>
  <dc:description/>
  <dc:language>en-US</dc:language>
  <cp:lastModifiedBy/>
  <dcterms:modified xsi:type="dcterms:W3CDTF">2015-01-10T11:55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