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831-85B4-4DA1-B599-B6322C88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B911-C792-4E69-8081-488F8AB1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2D5-34ED-40A9-B5EA-E9061A83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3ACD-F31A-4A95-A645-BE1DF968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2A9D-BE9C-4C6D-839D-97A031E9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296D-AFFD-4F76-8DCC-F9DCD747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4189-7C20-45D6-87E6-9BE2450E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BFE3-3514-43F4-8EFE-3079B777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1868-036D-4FEE-A46A-8189F850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392A-108D-492B-A183-445F9542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C1FD-D81C-4293-B27B-A6460AF3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8BC-478A-4E18-B81B-9316F7BE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C946-A335-4AD4-AB9B-1D24DAB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6580-AA82-4928-A227-9574401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7C56-FDE0-4059-B419-66BF25C3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3A19-534B-46E6-B641-C9E34831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4D7-87D3-4803-8DD9-609DB3F7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77A-3AAD-4F0B-A6DE-ABA6230A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6BF-63E5-4D28-B19F-DDFEF5E1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AC9-7B64-4D52-8367-AE59D30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E2F-03E1-46A0-81C3-0424DB29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B4E-5CB2-4F47-BEA3-ECECF53C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F3D-36A0-4BE5-AAD0-040AC33C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172-2150-4C72-A68A-7471D41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Wave8.png"/>
          <p:cNvPicPr/>
          <p:nvPr/>
        </p:nvPicPr>
        <p:blipFill>
          <a:blip r:embed="rId2"/>
          <a:stretch/>
        </p:blipFill>
        <p:spPr>
          <a:xfrm>
            <a:off x="0" y="3292560"/>
            <a:ext cx="8461440" cy="3449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Wave11.png"/>
          <p:cNvPicPr/>
          <p:nvPr/>
        </p:nvPicPr>
        <p:blipFill>
          <a:blip r:embed="rId3"/>
          <a:stretch/>
        </p:blipFill>
        <p:spPr>
          <a:xfrm>
            <a:off x="2103480" y="3730680"/>
            <a:ext cx="7040520" cy="31399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7" descr="Wave2.png"/>
          <p:cNvPicPr/>
          <p:nvPr/>
        </p:nvPicPr>
        <p:blipFill>
          <a:blip r:embed="rId4"/>
          <a:stretch/>
        </p:blipFill>
        <p:spPr>
          <a:xfrm>
            <a:off x="-7920" y="0"/>
            <a:ext cx="5365800" cy="646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6" descr="Wave1.png"/>
          <p:cNvPicPr/>
          <p:nvPr/>
        </p:nvPicPr>
        <p:blipFill>
          <a:blip r:embed="rId5"/>
          <a:stretch/>
        </p:blipFill>
        <p:spPr>
          <a:xfrm>
            <a:off x="-7920" y="-19080"/>
            <a:ext cx="5365800" cy="555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3" descr="Wave8.png"/>
          <p:cNvPicPr/>
          <p:nvPr/>
        </p:nvPicPr>
        <p:blipFill>
          <a:blip r:embed="rId6"/>
          <a:stretch/>
        </p:blipFill>
        <p:spPr>
          <a:xfrm>
            <a:off x="0" y="3187800"/>
            <a:ext cx="9144000" cy="3633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Wave8.png"/>
          <p:cNvPicPr/>
          <p:nvPr/>
        </p:nvPicPr>
        <p:blipFill>
          <a:blip r:embed="rId7"/>
          <a:stretch/>
        </p:blipFill>
        <p:spPr>
          <a:xfrm>
            <a:off x="0" y="3236760"/>
            <a:ext cx="9144000" cy="36338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Wave10.png"/>
          <p:cNvPicPr/>
          <p:nvPr/>
        </p:nvPicPr>
        <p:blipFill>
          <a:blip r:embed="rId8"/>
          <a:stretch/>
        </p:blipFill>
        <p:spPr>
          <a:xfrm>
            <a:off x="0" y="4479840"/>
            <a:ext cx="9144000" cy="2103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5" descr="Wave9.png"/>
          <p:cNvPicPr/>
          <p:nvPr/>
        </p:nvPicPr>
        <p:blipFill>
          <a:blip r:embed="rId9"/>
          <a:stretch/>
        </p:blipFill>
        <p:spPr>
          <a:xfrm>
            <a:off x="5827680" y="3591000"/>
            <a:ext cx="3316320" cy="134136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6" descr="Wave6.png"/>
          <p:cNvPicPr/>
          <p:nvPr/>
        </p:nvPicPr>
        <p:blipFill>
          <a:blip r:embed="rId10"/>
          <a:stretch/>
        </p:blipFill>
        <p:spPr>
          <a:xfrm>
            <a:off x="-14400" y="4968720"/>
            <a:ext cx="4476960" cy="8096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8" descr="Wave3.png"/>
          <p:cNvPicPr/>
          <p:nvPr/>
        </p:nvPicPr>
        <p:blipFill>
          <a:blip r:embed="rId11"/>
          <a:stretch/>
        </p:blipFill>
        <p:spPr>
          <a:xfrm>
            <a:off x="-160200" y="2852640"/>
            <a:ext cx="9566280" cy="2822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9" descr="Wave11.png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2590920" y="3260880"/>
            <a:ext cx="6553080" cy="36115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42BA-4DC7-4CAC-8C2F-E7CA2CCDC805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Wave8.png"/>
          <p:cNvPicPr/>
          <p:nvPr/>
        </p:nvPicPr>
        <p:blipFill>
          <a:blip r:embed="rId2"/>
          <a:stretch/>
        </p:blipFill>
        <p:spPr>
          <a:xfrm>
            <a:off x="49320" y="0"/>
            <a:ext cx="112716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Wave8.png"/>
          <p:cNvPicPr/>
          <p:nvPr/>
        </p:nvPicPr>
        <p:blipFill>
          <a:blip r:embed="rId3"/>
          <a:stretch/>
        </p:blipFill>
        <p:spPr>
          <a:xfrm>
            <a:off x="-55440" y="0"/>
            <a:ext cx="11952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Wave8.png"/>
          <p:cNvPicPr/>
          <p:nvPr/>
        </p:nvPicPr>
        <p:blipFill>
          <a:blip r:embed="rId4"/>
          <a:stretch/>
        </p:blipFill>
        <p:spPr>
          <a:xfrm>
            <a:off x="-123840" y="0"/>
            <a:ext cx="1197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Wave10.png"/>
          <p:cNvPicPr/>
          <p:nvPr/>
        </p:nvPicPr>
        <p:blipFill>
          <a:blip r:embed="rId5"/>
          <a:stretch/>
        </p:blipFill>
        <p:spPr>
          <a:xfrm>
            <a:off x="-98280" y="0"/>
            <a:ext cx="9396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Wave11.png"/>
          <p:cNvPicPr/>
          <p:nvPr/>
        </p:nvPicPr>
        <p:blipFill>
          <a:blip r:embed="rId6"/>
          <a:stretch/>
        </p:blipFill>
        <p:spPr>
          <a:xfrm>
            <a:off x="-98280" y="5437080"/>
            <a:ext cx="9242280" cy="1433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9698-1FC1-4C55-8385-C1A80C60F710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17160" y="2116080"/>
            <a:ext cx="863604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Corbel"/>
              </a:rPr>
              <a:t>通用纹理之大气</a:t>
            </a:r>
            <a:r>
              <a:rPr b="0" lang="zh-CN" sz="3200" spc="-1" strike="noStrike">
                <a:solidFill>
                  <a:srgbClr val="17375e"/>
                </a:solidFill>
                <a:latin typeface="Corbel"/>
                <a:ea typeface="宋体"/>
              </a:rPr>
              <a:t>PPT</a:t>
            </a:r>
            <a:r>
              <a:rPr b="0" lang="en-US" sz="3200" spc="-1" strike="noStrike">
                <a:solidFill>
                  <a:srgbClr val="17375e"/>
                </a:solidFill>
                <a:latin typeface="Corbel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"/>
          <p:cNvSpPr/>
          <p:nvPr/>
        </p:nvSpPr>
        <p:spPr>
          <a:xfrm>
            <a:off x="6684120" y="6303960"/>
            <a:ext cx="237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rbe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Corbel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Corbe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Corbel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000080" y="274680"/>
            <a:ext cx="7686720" cy="1182600"/>
            <a:chOff x="1000080" y="274680"/>
            <a:chExt cx="7686720" cy="1182600"/>
          </a:xfrm>
        </p:grpSpPr>
        <p:pic>
          <p:nvPicPr>
            <p:cNvPr id="101" name="Title 1" descr=""/>
            <p:cNvPicPr/>
            <p:nvPr/>
          </p:nvPicPr>
          <p:blipFill>
            <a:blip r:embed="rId1"/>
            <a:stretch/>
          </p:blipFill>
          <p:spPr>
            <a:xfrm>
              <a:off x="1000080" y="274680"/>
              <a:ext cx="76867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1000080" y="274680"/>
              <a:ext cx="7686720" cy="118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"/>
          <p:cNvSpPr txBox="1"/>
          <p:nvPr/>
        </p:nvSpPr>
        <p:spPr>
          <a:xfrm>
            <a:off x="1201680" y="1417320"/>
            <a:ext cx="74851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btex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pic>
          <p:nvPicPr>
            <p:cNvPr id="1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3:18:09Z</dcterms:created>
  <dc:creator>我爱PPT官方网 - 中文演示设计平台 www.iloveppt.org</dc:creator>
  <dc:description>我爱PPT官方网 - 中文演示设计平台 www.iloveppt.org</dc:description>
  <cp:keywords>我爱PPT官方网 - 中文演示设计平台 www.iloveppt.org</cp:keywords>
  <dc:language>en-US</dc:language>
  <cp:lastModifiedBy>rachel</cp:lastModifiedBy>
  <dcterms:modified xsi:type="dcterms:W3CDTF">2015-01-10T08:30:19Z</dcterms:modified>
  <cp:revision>1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300049909990</vt:lpwstr>
  </property>
</Properties>
</file>