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720396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28440" y="3787920"/>
            <a:ext cx="720396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988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28440" y="37879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19880" y="37879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4200" y="16045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99960" y="16045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28440" y="37879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4200" y="37879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99960" y="37879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351540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19880" y="1604520"/>
            <a:ext cx="351540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014480" y="247680"/>
            <a:ext cx="757224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604520"/>
            <a:ext cx="351540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28440" y="37879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351540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988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19880" y="37879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988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28440" y="3787920"/>
            <a:ext cx="720396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720396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28440" y="3787920"/>
            <a:ext cx="720396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1988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28440" y="37879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19880" y="37879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64200" y="16045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99960" y="16045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28440" y="37879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64200" y="37879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799960" y="3787920"/>
            <a:ext cx="231948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351540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19880" y="1604520"/>
            <a:ext cx="351540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14480" y="247680"/>
            <a:ext cx="757224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9880" y="1604520"/>
            <a:ext cx="351540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28440" y="37879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351540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988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19880" y="37879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9880" y="1604520"/>
            <a:ext cx="351540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28440" y="3787920"/>
            <a:ext cx="7203960" cy="1993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17520"/>
            <a:ext cx="8632800" cy="1068120"/>
            <a:chOff x="0" y="317520"/>
            <a:chExt cx="8632800" cy="1068120"/>
          </a:xfrm>
        </p:grpSpPr>
        <p:grpSp>
          <p:nvGrpSpPr>
            <p:cNvPr id="1" name=""/>
            <p:cNvGrpSpPr/>
            <p:nvPr/>
          </p:nvGrpSpPr>
          <p:grpSpPr>
            <a:xfrm>
              <a:off x="0" y="317520"/>
              <a:ext cx="8632800" cy="2880"/>
              <a:chOff x="0" y="317520"/>
              <a:chExt cx="8632800" cy="28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17520"/>
                <a:ext cx="8632800" cy="28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 txBox="1"/>
              <p:nvPr/>
            </p:nvSpPr>
            <p:spPr>
              <a:xfrm>
                <a:off x="0" y="317520"/>
                <a:ext cx="86328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445320"/>
              <a:ext cx="8632800" cy="4320"/>
              <a:chOff x="0" y="445320"/>
              <a:chExt cx="8632800" cy="432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445320"/>
                <a:ext cx="8632800" cy="432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 txBox="1"/>
              <p:nvPr/>
            </p:nvSpPr>
            <p:spPr>
              <a:xfrm>
                <a:off x="0" y="445320"/>
                <a:ext cx="863280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0" y="577800"/>
              <a:ext cx="8632800" cy="4680"/>
              <a:chOff x="0" y="577800"/>
              <a:chExt cx="8632800" cy="46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577800"/>
                <a:ext cx="8632800" cy="46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 txBox="1"/>
              <p:nvPr/>
            </p:nvSpPr>
            <p:spPr>
              <a:xfrm>
                <a:off x="0" y="577800"/>
                <a:ext cx="863280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715680"/>
              <a:ext cx="8632800" cy="2880"/>
              <a:chOff x="0" y="715680"/>
              <a:chExt cx="8632800" cy="288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715680"/>
                <a:ext cx="8632800" cy="28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 txBox="1"/>
              <p:nvPr/>
            </p:nvSpPr>
            <p:spPr>
              <a:xfrm>
                <a:off x="0" y="715680"/>
                <a:ext cx="86328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0" y="846720"/>
              <a:ext cx="8632800" cy="4320"/>
              <a:chOff x="0" y="846720"/>
              <a:chExt cx="8632800" cy="4320"/>
            </a:xfrm>
          </p:grpSpPr>
          <p:sp>
            <p:nvSpPr>
              <p:cNvPr id="14" name=""/>
              <p:cNvSpPr/>
              <p:nvPr/>
            </p:nvSpPr>
            <p:spPr>
              <a:xfrm>
                <a:off x="0" y="846720"/>
                <a:ext cx="8632800" cy="432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 txBox="1"/>
              <p:nvPr/>
            </p:nvSpPr>
            <p:spPr>
              <a:xfrm>
                <a:off x="0" y="846720"/>
                <a:ext cx="863280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0" y="979560"/>
              <a:ext cx="8632800" cy="4320"/>
              <a:chOff x="0" y="979560"/>
              <a:chExt cx="8632800" cy="4320"/>
            </a:xfrm>
          </p:grpSpPr>
          <p:sp>
            <p:nvSpPr>
              <p:cNvPr id="17" name=""/>
              <p:cNvSpPr/>
              <p:nvPr/>
            </p:nvSpPr>
            <p:spPr>
              <a:xfrm>
                <a:off x="0" y="979560"/>
                <a:ext cx="8632800" cy="432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 txBox="1"/>
              <p:nvPr/>
            </p:nvSpPr>
            <p:spPr>
              <a:xfrm>
                <a:off x="0" y="979560"/>
                <a:ext cx="863280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0" y="1112400"/>
              <a:ext cx="8632800" cy="4320"/>
              <a:chOff x="0" y="1112400"/>
              <a:chExt cx="8632800" cy="4320"/>
            </a:xfrm>
          </p:grpSpPr>
          <p:sp>
            <p:nvSpPr>
              <p:cNvPr id="20" name=""/>
              <p:cNvSpPr/>
              <p:nvPr/>
            </p:nvSpPr>
            <p:spPr>
              <a:xfrm>
                <a:off x="0" y="1112400"/>
                <a:ext cx="8632800" cy="432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0" y="1112400"/>
                <a:ext cx="863280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0" y="1244880"/>
              <a:ext cx="8632800" cy="2880"/>
              <a:chOff x="0" y="1244880"/>
              <a:chExt cx="8632800" cy="2880"/>
            </a:xfrm>
          </p:grpSpPr>
          <p:sp>
            <p:nvSpPr>
              <p:cNvPr id="23" name=""/>
              <p:cNvSpPr/>
              <p:nvPr/>
            </p:nvSpPr>
            <p:spPr>
              <a:xfrm>
                <a:off x="0" y="1244880"/>
                <a:ext cx="8632800" cy="28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 txBox="1"/>
              <p:nvPr/>
            </p:nvSpPr>
            <p:spPr>
              <a:xfrm>
                <a:off x="0" y="1244880"/>
                <a:ext cx="86328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0" y="1381320"/>
              <a:ext cx="8632800" cy="4320"/>
              <a:chOff x="0" y="1381320"/>
              <a:chExt cx="8632800" cy="4320"/>
            </a:xfrm>
          </p:grpSpPr>
          <p:sp>
            <p:nvSpPr>
              <p:cNvPr id="26" name=""/>
              <p:cNvSpPr/>
              <p:nvPr/>
            </p:nvSpPr>
            <p:spPr>
              <a:xfrm>
                <a:off x="0" y="1381320"/>
                <a:ext cx="8632800" cy="432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 txBox="1"/>
              <p:nvPr/>
            </p:nvSpPr>
            <p:spPr>
              <a:xfrm>
                <a:off x="0" y="1381320"/>
                <a:ext cx="863280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" name="未知"/>
          <p:cNvSpPr/>
          <p:nvPr/>
        </p:nvSpPr>
        <p:spPr>
          <a:xfrm>
            <a:off x="1201680" y="0"/>
            <a:ext cx="5692680" cy="51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163" y="19926"/>
                </a:lnTo>
                <a:lnTo>
                  <a:pt x="341" y="18253"/>
                </a:lnTo>
                <a:lnTo>
                  <a:pt x="532" y="16884"/>
                </a:lnTo>
                <a:lnTo>
                  <a:pt x="696" y="15211"/>
                </a:lnTo>
                <a:lnTo>
                  <a:pt x="874" y="13842"/>
                </a:lnTo>
                <a:lnTo>
                  <a:pt x="1051" y="12321"/>
                </a:lnTo>
                <a:lnTo>
                  <a:pt x="1229" y="10951"/>
                </a:lnTo>
                <a:lnTo>
                  <a:pt x="1420" y="9582"/>
                </a:lnTo>
                <a:lnTo>
                  <a:pt x="1598" y="8365"/>
                </a:lnTo>
                <a:lnTo>
                  <a:pt x="1775" y="6996"/>
                </a:lnTo>
                <a:lnTo>
                  <a:pt x="1953" y="5780"/>
                </a:lnTo>
                <a:lnTo>
                  <a:pt x="2144" y="4563"/>
                </a:lnTo>
                <a:lnTo>
                  <a:pt x="2336" y="3346"/>
                </a:lnTo>
                <a:lnTo>
                  <a:pt x="2513" y="2129"/>
                </a:lnTo>
                <a:lnTo>
                  <a:pt x="2691" y="1064"/>
                </a:lnTo>
                <a:lnTo>
                  <a:pt x="2868" y="0"/>
                </a:lnTo>
                <a:lnTo>
                  <a:pt x="1912" y="0"/>
                </a:lnTo>
                <a:lnTo>
                  <a:pt x="1775" y="1216"/>
                </a:lnTo>
                <a:lnTo>
                  <a:pt x="1666" y="2281"/>
                </a:lnTo>
                <a:lnTo>
                  <a:pt x="1529" y="3498"/>
                </a:lnTo>
                <a:lnTo>
                  <a:pt x="1407" y="4715"/>
                </a:lnTo>
                <a:lnTo>
                  <a:pt x="1284" y="6084"/>
                </a:lnTo>
                <a:lnTo>
                  <a:pt x="1161" y="7301"/>
                </a:lnTo>
                <a:lnTo>
                  <a:pt x="1038" y="8670"/>
                </a:lnTo>
                <a:lnTo>
                  <a:pt x="928" y="9887"/>
                </a:lnTo>
                <a:lnTo>
                  <a:pt x="805" y="11408"/>
                </a:lnTo>
                <a:lnTo>
                  <a:pt x="696" y="12625"/>
                </a:lnTo>
                <a:lnTo>
                  <a:pt x="559" y="14146"/>
                </a:lnTo>
                <a:lnTo>
                  <a:pt x="450" y="15515"/>
                </a:lnTo>
                <a:lnTo>
                  <a:pt x="327" y="17036"/>
                </a:lnTo>
                <a:lnTo>
                  <a:pt x="218" y="18405"/>
                </a:lnTo>
                <a:lnTo>
                  <a:pt x="95" y="20078"/>
                </a:lnTo>
                <a:lnTo>
                  <a:pt x="0" y="21600"/>
                </a:lnTo>
                <a:close/>
                <a:moveTo>
                  <a:pt x="21558" y="0"/>
                </a:moveTo>
                <a:lnTo>
                  <a:pt x="21586" y="0"/>
                </a:lnTo>
                <a:lnTo>
                  <a:pt x="21600" y="0"/>
                </a:lnTo>
                <a:lnTo>
                  <a:pt x="21586" y="0"/>
                </a:lnTo>
                <a:lnTo>
                  <a:pt x="21572" y="0"/>
                </a:lnTo>
                <a:lnTo>
                  <a:pt x="21558" y="0"/>
                </a:lnTo>
              </a:path>
            </a:pathLst>
          </a:custGeom>
          <a:solidFill>
            <a:srgbClr val="c3c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" name=""/>
          <p:cNvGrpSpPr/>
          <p:nvPr/>
        </p:nvGrpSpPr>
        <p:grpSpPr>
          <a:xfrm>
            <a:off x="341280" y="0"/>
            <a:ext cx="1569960" cy="2141640"/>
            <a:chOff x="341280" y="0"/>
            <a:chExt cx="1569960" cy="2141640"/>
          </a:xfrm>
        </p:grpSpPr>
        <p:sp>
          <p:nvSpPr>
            <p:cNvPr id="30" name="未知"/>
            <p:cNvSpPr/>
            <p:nvPr/>
          </p:nvSpPr>
          <p:spPr>
            <a:xfrm>
              <a:off x="341280" y="2041560"/>
              <a:ext cx="101520" cy="10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56" y="0"/>
                  </a:moveTo>
                  <a:lnTo>
                    <a:pt x="10028" y="0"/>
                  </a:lnTo>
                  <a:lnTo>
                    <a:pt x="11571" y="0"/>
                  </a:lnTo>
                  <a:lnTo>
                    <a:pt x="12342" y="0"/>
                  </a:lnTo>
                  <a:lnTo>
                    <a:pt x="13114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971" y="1542"/>
                  </a:lnTo>
                  <a:lnTo>
                    <a:pt x="17742" y="2314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4628"/>
                  </a:lnTo>
                  <a:lnTo>
                    <a:pt x="20056" y="5400"/>
                  </a:lnTo>
                  <a:lnTo>
                    <a:pt x="20828" y="6171"/>
                  </a:lnTo>
                  <a:lnTo>
                    <a:pt x="21600" y="7714"/>
                  </a:lnTo>
                  <a:lnTo>
                    <a:pt x="21600" y="8485"/>
                  </a:lnTo>
                  <a:lnTo>
                    <a:pt x="21600" y="9256"/>
                  </a:lnTo>
                  <a:lnTo>
                    <a:pt x="21600" y="10028"/>
                  </a:lnTo>
                  <a:lnTo>
                    <a:pt x="21600" y="11571"/>
                  </a:lnTo>
                  <a:lnTo>
                    <a:pt x="21600" y="12342"/>
                  </a:lnTo>
                  <a:lnTo>
                    <a:pt x="21600" y="13885"/>
                  </a:lnTo>
                  <a:lnTo>
                    <a:pt x="20828" y="14656"/>
                  </a:lnTo>
                  <a:lnTo>
                    <a:pt x="20828" y="15428"/>
                  </a:lnTo>
                  <a:lnTo>
                    <a:pt x="20056" y="16971"/>
                  </a:lnTo>
                  <a:lnTo>
                    <a:pt x="19285" y="17742"/>
                  </a:lnTo>
                  <a:lnTo>
                    <a:pt x="18514" y="18514"/>
                  </a:lnTo>
                  <a:lnTo>
                    <a:pt x="17742" y="19285"/>
                  </a:lnTo>
                  <a:lnTo>
                    <a:pt x="16971" y="20056"/>
                  </a:lnTo>
                  <a:lnTo>
                    <a:pt x="16200" y="20056"/>
                  </a:lnTo>
                  <a:lnTo>
                    <a:pt x="15428" y="20828"/>
                  </a:lnTo>
                  <a:lnTo>
                    <a:pt x="13885" y="21600"/>
                  </a:lnTo>
                  <a:lnTo>
                    <a:pt x="13114" y="21600"/>
                  </a:lnTo>
                  <a:lnTo>
                    <a:pt x="12342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8485" y="21600"/>
                  </a:lnTo>
                  <a:lnTo>
                    <a:pt x="6942" y="21600"/>
                  </a:lnTo>
                  <a:lnTo>
                    <a:pt x="6942" y="21600"/>
                  </a:lnTo>
                  <a:lnTo>
                    <a:pt x="6171" y="20828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085" y="18514"/>
                  </a:lnTo>
                  <a:lnTo>
                    <a:pt x="2314" y="18514"/>
                  </a:lnTo>
                  <a:lnTo>
                    <a:pt x="1542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2342"/>
                  </a:lnTo>
                  <a:lnTo>
                    <a:pt x="0" y="10800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0" y="8485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1542" y="5400"/>
                  </a:lnTo>
                  <a:lnTo>
                    <a:pt x="2314" y="3856"/>
                  </a:lnTo>
                  <a:lnTo>
                    <a:pt x="2314" y="3085"/>
                  </a:lnTo>
                  <a:lnTo>
                    <a:pt x="3085" y="2314"/>
                  </a:lnTo>
                  <a:lnTo>
                    <a:pt x="4628" y="1542"/>
                  </a:lnTo>
                  <a:lnTo>
                    <a:pt x="5400" y="1542"/>
                  </a:lnTo>
                  <a:lnTo>
                    <a:pt x="6171" y="771"/>
                  </a:lnTo>
                  <a:lnTo>
                    <a:pt x="6942" y="771"/>
                  </a:lnTo>
                  <a:lnTo>
                    <a:pt x="7714" y="0"/>
                  </a:lnTo>
                  <a:lnTo>
                    <a:pt x="9256" y="0"/>
                  </a:lnTo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568440" y="287280"/>
              <a:ext cx="98280" cy="10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3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4399" y="0"/>
                  </a:lnTo>
                  <a:lnTo>
                    <a:pt x="15199" y="771"/>
                  </a:lnTo>
                  <a:lnTo>
                    <a:pt x="15999" y="771"/>
                  </a:lnTo>
                  <a:lnTo>
                    <a:pt x="17599" y="1542"/>
                  </a:lnTo>
                  <a:lnTo>
                    <a:pt x="18399" y="2314"/>
                  </a:lnTo>
                  <a:lnTo>
                    <a:pt x="19199" y="2314"/>
                  </a:lnTo>
                  <a:lnTo>
                    <a:pt x="19999" y="3856"/>
                  </a:lnTo>
                  <a:lnTo>
                    <a:pt x="20799" y="4628"/>
                  </a:lnTo>
                  <a:lnTo>
                    <a:pt x="20799" y="5400"/>
                  </a:lnTo>
                  <a:lnTo>
                    <a:pt x="21600" y="6171"/>
                  </a:lnTo>
                  <a:lnTo>
                    <a:pt x="21600" y="7714"/>
                  </a:lnTo>
                  <a:lnTo>
                    <a:pt x="21600" y="7714"/>
                  </a:lnTo>
                  <a:lnTo>
                    <a:pt x="21600" y="8485"/>
                  </a:lnTo>
                  <a:lnTo>
                    <a:pt x="21600" y="10028"/>
                  </a:lnTo>
                  <a:lnTo>
                    <a:pt x="21600" y="11571"/>
                  </a:lnTo>
                  <a:lnTo>
                    <a:pt x="21600" y="12342"/>
                  </a:lnTo>
                  <a:lnTo>
                    <a:pt x="21600" y="13114"/>
                  </a:lnTo>
                  <a:lnTo>
                    <a:pt x="21600" y="14656"/>
                  </a:lnTo>
                  <a:lnTo>
                    <a:pt x="21600" y="15428"/>
                  </a:lnTo>
                  <a:lnTo>
                    <a:pt x="20799" y="16200"/>
                  </a:lnTo>
                  <a:lnTo>
                    <a:pt x="19999" y="17742"/>
                  </a:lnTo>
                  <a:lnTo>
                    <a:pt x="19199" y="18514"/>
                  </a:lnTo>
                  <a:lnTo>
                    <a:pt x="19199" y="19285"/>
                  </a:lnTo>
                  <a:lnTo>
                    <a:pt x="17599" y="20056"/>
                  </a:lnTo>
                  <a:lnTo>
                    <a:pt x="16799" y="20056"/>
                  </a:lnTo>
                  <a:lnTo>
                    <a:pt x="15999" y="20828"/>
                  </a:lnTo>
                  <a:lnTo>
                    <a:pt x="14399" y="21600"/>
                  </a:lnTo>
                  <a:lnTo>
                    <a:pt x="13599" y="21600"/>
                  </a:lnTo>
                  <a:lnTo>
                    <a:pt x="12799" y="21600"/>
                  </a:lnTo>
                  <a:lnTo>
                    <a:pt x="11199" y="21600"/>
                  </a:lnTo>
                  <a:lnTo>
                    <a:pt x="103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199" y="20828"/>
                  </a:lnTo>
                  <a:lnTo>
                    <a:pt x="6399" y="20828"/>
                  </a:lnTo>
                  <a:lnTo>
                    <a:pt x="5599" y="20056"/>
                  </a:lnTo>
                  <a:lnTo>
                    <a:pt x="3999" y="19285"/>
                  </a:lnTo>
                  <a:lnTo>
                    <a:pt x="3199" y="19285"/>
                  </a:lnTo>
                  <a:lnTo>
                    <a:pt x="2399" y="17742"/>
                  </a:lnTo>
                  <a:lnTo>
                    <a:pt x="1599" y="16971"/>
                  </a:lnTo>
                  <a:lnTo>
                    <a:pt x="1599" y="16200"/>
                  </a:lnTo>
                  <a:lnTo>
                    <a:pt x="799" y="15428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800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0" y="7714"/>
                  </a:lnTo>
                  <a:lnTo>
                    <a:pt x="799" y="6942"/>
                  </a:lnTo>
                  <a:lnTo>
                    <a:pt x="799" y="6171"/>
                  </a:lnTo>
                  <a:lnTo>
                    <a:pt x="1599" y="4628"/>
                  </a:lnTo>
                  <a:lnTo>
                    <a:pt x="2399" y="3856"/>
                  </a:lnTo>
                  <a:lnTo>
                    <a:pt x="3199" y="3085"/>
                  </a:lnTo>
                  <a:lnTo>
                    <a:pt x="3999" y="2314"/>
                  </a:lnTo>
                  <a:lnTo>
                    <a:pt x="4799" y="1542"/>
                  </a:lnTo>
                  <a:lnTo>
                    <a:pt x="5599" y="1542"/>
                  </a:lnTo>
                  <a:lnTo>
                    <a:pt x="6399" y="771"/>
                  </a:lnTo>
                  <a:lnTo>
                    <a:pt x="7999" y="0"/>
                  </a:lnTo>
                  <a:lnTo>
                    <a:pt x="8799" y="0"/>
                  </a:lnTo>
                  <a:lnTo>
                    <a:pt x="10399" y="0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976320" y="982800"/>
              <a:ext cx="100080" cy="9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56" y="0"/>
                  </a:move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99"/>
                  </a:lnTo>
                  <a:lnTo>
                    <a:pt x="16200" y="799"/>
                  </a:lnTo>
                  <a:lnTo>
                    <a:pt x="16200" y="1599"/>
                  </a:lnTo>
                  <a:lnTo>
                    <a:pt x="16971" y="2399"/>
                  </a:lnTo>
                  <a:lnTo>
                    <a:pt x="18514" y="2399"/>
                  </a:lnTo>
                  <a:lnTo>
                    <a:pt x="19285" y="3999"/>
                  </a:lnTo>
                  <a:lnTo>
                    <a:pt x="20056" y="4799"/>
                  </a:lnTo>
                  <a:lnTo>
                    <a:pt x="20056" y="4799"/>
                  </a:lnTo>
                  <a:lnTo>
                    <a:pt x="20828" y="5599"/>
                  </a:lnTo>
                  <a:lnTo>
                    <a:pt x="21600" y="7199"/>
                  </a:lnTo>
                  <a:lnTo>
                    <a:pt x="21600" y="7999"/>
                  </a:lnTo>
                  <a:lnTo>
                    <a:pt x="21600" y="95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3599"/>
                  </a:lnTo>
                  <a:lnTo>
                    <a:pt x="20828" y="15199"/>
                  </a:lnTo>
                  <a:lnTo>
                    <a:pt x="20828" y="15999"/>
                  </a:lnTo>
                  <a:lnTo>
                    <a:pt x="20056" y="16799"/>
                  </a:lnTo>
                  <a:lnTo>
                    <a:pt x="19285" y="17599"/>
                  </a:lnTo>
                  <a:lnTo>
                    <a:pt x="18514" y="18399"/>
                  </a:lnTo>
                  <a:lnTo>
                    <a:pt x="17742" y="19199"/>
                  </a:lnTo>
                  <a:lnTo>
                    <a:pt x="16971" y="19999"/>
                  </a:lnTo>
                  <a:lnTo>
                    <a:pt x="16200" y="19999"/>
                  </a:lnTo>
                  <a:lnTo>
                    <a:pt x="15428" y="20799"/>
                  </a:lnTo>
                  <a:lnTo>
                    <a:pt x="14656" y="21600"/>
                  </a:lnTo>
                  <a:lnTo>
                    <a:pt x="13114" y="21600"/>
                  </a:lnTo>
                  <a:lnTo>
                    <a:pt x="12342" y="21600"/>
                  </a:lnTo>
                  <a:lnTo>
                    <a:pt x="10800" y="21600"/>
                  </a:lnTo>
                  <a:lnTo>
                    <a:pt x="10028" y="21600"/>
                  </a:lnTo>
                  <a:lnTo>
                    <a:pt x="8485" y="21600"/>
                  </a:lnTo>
                  <a:lnTo>
                    <a:pt x="7714" y="21600"/>
                  </a:lnTo>
                  <a:lnTo>
                    <a:pt x="6171" y="20799"/>
                  </a:lnTo>
                  <a:lnTo>
                    <a:pt x="5400" y="20799"/>
                  </a:lnTo>
                  <a:lnTo>
                    <a:pt x="5400" y="19999"/>
                  </a:lnTo>
                  <a:lnTo>
                    <a:pt x="4628" y="19199"/>
                  </a:lnTo>
                  <a:lnTo>
                    <a:pt x="3085" y="18399"/>
                  </a:lnTo>
                  <a:lnTo>
                    <a:pt x="2314" y="17599"/>
                  </a:lnTo>
                  <a:lnTo>
                    <a:pt x="1542" y="16799"/>
                  </a:lnTo>
                  <a:lnTo>
                    <a:pt x="1542" y="15999"/>
                  </a:lnTo>
                  <a:lnTo>
                    <a:pt x="771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27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999"/>
                  </a:lnTo>
                  <a:lnTo>
                    <a:pt x="0" y="6399"/>
                  </a:lnTo>
                  <a:lnTo>
                    <a:pt x="771" y="5599"/>
                  </a:lnTo>
                  <a:lnTo>
                    <a:pt x="1542" y="4799"/>
                  </a:lnTo>
                  <a:lnTo>
                    <a:pt x="2314" y="3999"/>
                  </a:lnTo>
                  <a:lnTo>
                    <a:pt x="3085" y="3199"/>
                  </a:lnTo>
                  <a:lnTo>
                    <a:pt x="3856" y="2399"/>
                  </a:lnTo>
                  <a:lnTo>
                    <a:pt x="4628" y="1599"/>
                  </a:lnTo>
                  <a:lnTo>
                    <a:pt x="5400" y="1599"/>
                  </a:lnTo>
                  <a:lnTo>
                    <a:pt x="5400" y="799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896760" y="417600"/>
              <a:ext cx="100080" cy="10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56" y="0"/>
                  </a:move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5428" y="0"/>
                  </a:lnTo>
                  <a:lnTo>
                    <a:pt x="16200" y="0"/>
                  </a:lnTo>
                  <a:lnTo>
                    <a:pt x="16971" y="771"/>
                  </a:lnTo>
                  <a:lnTo>
                    <a:pt x="17742" y="1542"/>
                  </a:lnTo>
                  <a:lnTo>
                    <a:pt x="18514" y="2314"/>
                  </a:lnTo>
                  <a:lnTo>
                    <a:pt x="19285" y="3085"/>
                  </a:lnTo>
                  <a:lnTo>
                    <a:pt x="20056" y="3856"/>
                  </a:lnTo>
                  <a:lnTo>
                    <a:pt x="20056" y="4628"/>
                  </a:lnTo>
                  <a:lnTo>
                    <a:pt x="20828" y="5400"/>
                  </a:lnTo>
                  <a:lnTo>
                    <a:pt x="21600" y="6171"/>
                  </a:lnTo>
                  <a:lnTo>
                    <a:pt x="21600" y="7714"/>
                  </a:lnTo>
                  <a:lnTo>
                    <a:pt x="21600" y="9256"/>
                  </a:lnTo>
                  <a:lnTo>
                    <a:pt x="21600" y="10028"/>
                  </a:lnTo>
                  <a:lnTo>
                    <a:pt x="21600" y="10800"/>
                  </a:lnTo>
                  <a:lnTo>
                    <a:pt x="21600" y="11571"/>
                  </a:lnTo>
                  <a:lnTo>
                    <a:pt x="21600" y="12342"/>
                  </a:lnTo>
                  <a:lnTo>
                    <a:pt x="21600" y="13885"/>
                  </a:lnTo>
                  <a:lnTo>
                    <a:pt x="20828" y="14656"/>
                  </a:lnTo>
                  <a:lnTo>
                    <a:pt x="20056" y="15428"/>
                  </a:lnTo>
                  <a:lnTo>
                    <a:pt x="19285" y="16971"/>
                  </a:lnTo>
                  <a:lnTo>
                    <a:pt x="18514" y="17742"/>
                  </a:lnTo>
                  <a:lnTo>
                    <a:pt x="17742" y="18514"/>
                  </a:lnTo>
                  <a:lnTo>
                    <a:pt x="16971" y="19285"/>
                  </a:lnTo>
                  <a:lnTo>
                    <a:pt x="16971" y="19285"/>
                  </a:lnTo>
                  <a:lnTo>
                    <a:pt x="16200" y="20056"/>
                  </a:lnTo>
                  <a:lnTo>
                    <a:pt x="14656" y="20828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0800" y="21600"/>
                  </a:lnTo>
                  <a:lnTo>
                    <a:pt x="10028" y="21600"/>
                  </a:lnTo>
                  <a:lnTo>
                    <a:pt x="9256" y="20828"/>
                  </a:lnTo>
                  <a:lnTo>
                    <a:pt x="7714" y="20828"/>
                  </a:lnTo>
                  <a:lnTo>
                    <a:pt x="6942" y="20056"/>
                  </a:lnTo>
                  <a:lnTo>
                    <a:pt x="6171" y="20056"/>
                  </a:lnTo>
                  <a:lnTo>
                    <a:pt x="5400" y="19285"/>
                  </a:lnTo>
                  <a:lnTo>
                    <a:pt x="4628" y="18514"/>
                  </a:lnTo>
                  <a:lnTo>
                    <a:pt x="3856" y="17742"/>
                  </a:lnTo>
                  <a:lnTo>
                    <a:pt x="2314" y="16971"/>
                  </a:lnTo>
                  <a:lnTo>
                    <a:pt x="2314" y="16200"/>
                  </a:lnTo>
                  <a:lnTo>
                    <a:pt x="1542" y="15428"/>
                  </a:lnTo>
                  <a:lnTo>
                    <a:pt x="771" y="14656"/>
                  </a:lnTo>
                  <a:lnTo>
                    <a:pt x="771" y="13114"/>
                  </a:lnTo>
                  <a:lnTo>
                    <a:pt x="0" y="12342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0" y="7714"/>
                  </a:lnTo>
                  <a:lnTo>
                    <a:pt x="771" y="6171"/>
                  </a:lnTo>
                  <a:lnTo>
                    <a:pt x="771" y="5400"/>
                  </a:lnTo>
                  <a:lnTo>
                    <a:pt x="1542" y="4628"/>
                  </a:lnTo>
                  <a:lnTo>
                    <a:pt x="2314" y="3085"/>
                  </a:lnTo>
                  <a:lnTo>
                    <a:pt x="3085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5400" y="771"/>
                  </a:lnTo>
                  <a:lnTo>
                    <a:pt x="6171" y="0"/>
                  </a:lnTo>
                  <a:lnTo>
                    <a:pt x="6942" y="0"/>
                  </a:lnTo>
                  <a:lnTo>
                    <a:pt x="8485" y="0"/>
                  </a:lnTo>
                  <a:lnTo>
                    <a:pt x="9256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417600" y="976320"/>
              <a:ext cx="96840" cy="10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799" y="0"/>
                  </a:moveTo>
                  <a:lnTo>
                    <a:pt x="10399" y="0"/>
                  </a:lnTo>
                  <a:lnTo>
                    <a:pt x="11199" y="0"/>
                  </a:lnTo>
                  <a:lnTo>
                    <a:pt x="11999" y="0"/>
                  </a:lnTo>
                  <a:lnTo>
                    <a:pt x="13599" y="0"/>
                  </a:lnTo>
                  <a:lnTo>
                    <a:pt x="14399" y="744"/>
                  </a:lnTo>
                  <a:lnTo>
                    <a:pt x="15199" y="744"/>
                  </a:lnTo>
                  <a:lnTo>
                    <a:pt x="16799" y="1489"/>
                  </a:lnTo>
                  <a:lnTo>
                    <a:pt x="17599" y="2234"/>
                  </a:lnTo>
                  <a:lnTo>
                    <a:pt x="18399" y="2979"/>
                  </a:lnTo>
                  <a:lnTo>
                    <a:pt x="19199" y="3724"/>
                  </a:lnTo>
                  <a:lnTo>
                    <a:pt x="19999" y="4468"/>
                  </a:lnTo>
                  <a:lnTo>
                    <a:pt x="19999" y="5213"/>
                  </a:lnTo>
                  <a:lnTo>
                    <a:pt x="20799" y="5958"/>
                  </a:lnTo>
                  <a:lnTo>
                    <a:pt x="21600" y="6703"/>
                  </a:lnTo>
                  <a:lnTo>
                    <a:pt x="21600" y="7448"/>
                  </a:lnTo>
                  <a:lnTo>
                    <a:pt x="21600" y="8937"/>
                  </a:lnTo>
                  <a:lnTo>
                    <a:pt x="21600" y="10427"/>
                  </a:lnTo>
                  <a:lnTo>
                    <a:pt x="21600" y="11172"/>
                  </a:lnTo>
                  <a:lnTo>
                    <a:pt x="21600" y="12661"/>
                  </a:lnTo>
                  <a:lnTo>
                    <a:pt x="21600" y="13406"/>
                  </a:lnTo>
                  <a:lnTo>
                    <a:pt x="21600" y="14896"/>
                  </a:lnTo>
                  <a:lnTo>
                    <a:pt x="20799" y="15641"/>
                  </a:lnTo>
                  <a:lnTo>
                    <a:pt x="19999" y="15641"/>
                  </a:lnTo>
                  <a:lnTo>
                    <a:pt x="19199" y="17130"/>
                  </a:lnTo>
                  <a:lnTo>
                    <a:pt x="18399" y="17875"/>
                  </a:lnTo>
                  <a:lnTo>
                    <a:pt x="18399" y="18620"/>
                  </a:lnTo>
                  <a:lnTo>
                    <a:pt x="16799" y="19365"/>
                  </a:lnTo>
                  <a:lnTo>
                    <a:pt x="15999" y="19365"/>
                  </a:lnTo>
                  <a:lnTo>
                    <a:pt x="15199" y="20110"/>
                  </a:lnTo>
                  <a:lnTo>
                    <a:pt x="13599" y="20855"/>
                  </a:lnTo>
                  <a:lnTo>
                    <a:pt x="12799" y="20855"/>
                  </a:lnTo>
                  <a:lnTo>
                    <a:pt x="11199" y="20855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0855"/>
                  </a:lnTo>
                  <a:lnTo>
                    <a:pt x="7199" y="20855"/>
                  </a:lnTo>
                  <a:lnTo>
                    <a:pt x="6399" y="20110"/>
                  </a:lnTo>
                  <a:lnTo>
                    <a:pt x="5599" y="20110"/>
                  </a:lnTo>
                  <a:lnTo>
                    <a:pt x="3999" y="19365"/>
                  </a:lnTo>
                  <a:lnTo>
                    <a:pt x="3199" y="18620"/>
                  </a:lnTo>
                  <a:lnTo>
                    <a:pt x="2399" y="17875"/>
                  </a:lnTo>
                  <a:lnTo>
                    <a:pt x="1599" y="17130"/>
                  </a:lnTo>
                  <a:lnTo>
                    <a:pt x="799" y="16385"/>
                  </a:lnTo>
                  <a:lnTo>
                    <a:pt x="799" y="15641"/>
                  </a:lnTo>
                  <a:lnTo>
                    <a:pt x="0" y="15641"/>
                  </a:lnTo>
                  <a:lnTo>
                    <a:pt x="0" y="14151"/>
                  </a:lnTo>
                  <a:lnTo>
                    <a:pt x="0" y="13406"/>
                  </a:lnTo>
                  <a:lnTo>
                    <a:pt x="0" y="11916"/>
                  </a:lnTo>
                  <a:lnTo>
                    <a:pt x="0" y="10427"/>
                  </a:lnTo>
                  <a:lnTo>
                    <a:pt x="0" y="9682"/>
                  </a:lnTo>
                  <a:lnTo>
                    <a:pt x="0" y="8937"/>
                  </a:lnTo>
                  <a:lnTo>
                    <a:pt x="0" y="7448"/>
                  </a:lnTo>
                  <a:lnTo>
                    <a:pt x="0" y="6703"/>
                  </a:lnTo>
                  <a:lnTo>
                    <a:pt x="0" y="5213"/>
                  </a:lnTo>
                  <a:lnTo>
                    <a:pt x="799" y="5213"/>
                  </a:lnTo>
                  <a:lnTo>
                    <a:pt x="1599" y="4468"/>
                  </a:lnTo>
                  <a:lnTo>
                    <a:pt x="2399" y="3724"/>
                  </a:lnTo>
                  <a:lnTo>
                    <a:pt x="2399" y="2234"/>
                  </a:lnTo>
                  <a:lnTo>
                    <a:pt x="3999" y="2234"/>
                  </a:lnTo>
                  <a:lnTo>
                    <a:pt x="4799" y="1489"/>
                  </a:lnTo>
                  <a:lnTo>
                    <a:pt x="5599" y="744"/>
                  </a:lnTo>
                  <a:lnTo>
                    <a:pt x="7199" y="744"/>
                  </a:lnTo>
                  <a:lnTo>
                    <a:pt x="7999" y="0"/>
                  </a:lnTo>
                  <a:lnTo>
                    <a:pt x="8799" y="0"/>
                  </a:lnTo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1785960" y="216000"/>
              <a:ext cx="96840" cy="104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7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3599" y="0"/>
                  </a:lnTo>
                  <a:lnTo>
                    <a:pt x="15199" y="0"/>
                  </a:lnTo>
                  <a:lnTo>
                    <a:pt x="15999" y="744"/>
                  </a:lnTo>
                  <a:lnTo>
                    <a:pt x="16799" y="1489"/>
                  </a:lnTo>
                  <a:lnTo>
                    <a:pt x="17599" y="1489"/>
                  </a:lnTo>
                  <a:lnTo>
                    <a:pt x="18399" y="2234"/>
                  </a:lnTo>
                  <a:lnTo>
                    <a:pt x="19199" y="2979"/>
                  </a:lnTo>
                  <a:lnTo>
                    <a:pt x="19999" y="4468"/>
                  </a:lnTo>
                  <a:lnTo>
                    <a:pt x="19999" y="5213"/>
                  </a:lnTo>
                  <a:lnTo>
                    <a:pt x="20799" y="5958"/>
                  </a:lnTo>
                  <a:lnTo>
                    <a:pt x="21600" y="7448"/>
                  </a:lnTo>
                  <a:lnTo>
                    <a:pt x="21600" y="8192"/>
                  </a:lnTo>
                  <a:lnTo>
                    <a:pt x="21600" y="8192"/>
                  </a:lnTo>
                  <a:lnTo>
                    <a:pt x="21600" y="9682"/>
                  </a:lnTo>
                  <a:lnTo>
                    <a:pt x="21600" y="11172"/>
                  </a:lnTo>
                  <a:lnTo>
                    <a:pt x="21600" y="11916"/>
                  </a:lnTo>
                  <a:lnTo>
                    <a:pt x="21600" y="12661"/>
                  </a:lnTo>
                  <a:lnTo>
                    <a:pt x="20799" y="14151"/>
                  </a:lnTo>
                  <a:lnTo>
                    <a:pt x="20799" y="14896"/>
                  </a:lnTo>
                  <a:lnTo>
                    <a:pt x="19999" y="15641"/>
                  </a:lnTo>
                  <a:lnTo>
                    <a:pt x="19199" y="17130"/>
                  </a:lnTo>
                  <a:lnTo>
                    <a:pt x="18399" y="17875"/>
                  </a:lnTo>
                  <a:lnTo>
                    <a:pt x="17599" y="18620"/>
                  </a:lnTo>
                  <a:lnTo>
                    <a:pt x="17599" y="19365"/>
                  </a:lnTo>
                  <a:lnTo>
                    <a:pt x="16799" y="19365"/>
                  </a:lnTo>
                  <a:lnTo>
                    <a:pt x="15999" y="20110"/>
                  </a:lnTo>
                  <a:lnTo>
                    <a:pt x="14399" y="20855"/>
                  </a:lnTo>
                  <a:lnTo>
                    <a:pt x="13599" y="20855"/>
                  </a:lnTo>
                  <a:lnTo>
                    <a:pt x="119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0855"/>
                  </a:lnTo>
                  <a:lnTo>
                    <a:pt x="7199" y="20855"/>
                  </a:lnTo>
                  <a:lnTo>
                    <a:pt x="6399" y="20855"/>
                  </a:lnTo>
                  <a:lnTo>
                    <a:pt x="6399" y="20110"/>
                  </a:lnTo>
                  <a:lnTo>
                    <a:pt x="4799" y="19365"/>
                  </a:lnTo>
                  <a:lnTo>
                    <a:pt x="3999" y="19365"/>
                  </a:lnTo>
                  <a:lnTo>
                    <a:pt x="3199" y="18620"/>
                  </a:lnTo>
                  <a:lnTo>
                    <a:pt x="2399" y="17875"/>
                  </a:lnTo>
                  <a:lnTo>
                    <a:pt x="1599" y="16385"/>
                  </a:lnTo>
                  <a:lnTo>
                    <a:pt x="1599" y="15641"/>
                  </a:lnTo>
                  <a:lnTo>
                    <a:pt x="799" y="14896"/>
                  </a:lnTo>
                  <a:lnTo>
                    <a:pt x="0" y="13406"/>
                  </a:lnTo>
                  <a:lnTo>
                    <a:pt x="0" y="12661"/>
                  </a:lnTo>
                  <a:lnTo>
                    <a:pt x="0" y="11172"/>
                  </a:lnTo>
                  <a:lnTo>
                    <a:pt x="0" y="10427"/>
                  </a:lnTo>
                  <a:lnTo>
                    <a:pt x="0" y="8937"/>
                  </a:lnTo>
                  <a:lnTo>
                    <a:pt x="0" y="8192"/>
                  </a:lnTo>
                  <a:lnTo>
                    <a:pt x="0" y="7448"/>
                  </a:lnTo>
                  <a:lnTo>
                    <a:pt x="0" y="6703"/>
                  </a:lnTo>
                  <a:lnTo>
                    <a:pt x="799" y="5958"/>
                  </a:lnTo>
                  <a:lnTo>
                    <a:pt x="1599" y="4468"/>
                  </a:lnTo>
                  <a:lnTo>
                    <a:pt x="2399" y="3724"/>
                  </a:lnTo>
                  <a:lnTo>
                    <a:pt x="3199" y="2979"/>
                  </a:lnTo>
                  <a:lnTo>
                    <a:pt x="3199" y="2234"/>
                  </a:lnTo>
                  <a:lnTo>
                    <a:pt x="4799" y="1489"/>
                  </a:lnTo>
                  <a:lnTo>
                    <a:pt x="5599" y="1489"/>
                  </a:lnTo>
                  <a:lnTo>
                    <a:pt x="6399" y="744"/>
                  </a:lnTo>
                  <a:lnTo>
                    <a:pt x="7199" y="0"/>
                  </a:lnTo>
                  <a:lnTo>
                    <a:pt x="7999" y="0"/>
                  </a:lnTo>
                  <a:lnTo>
                    <a:pt x="8799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未知"/>
            <p:cNvSpPr/>
            <p:nvPr/>
          </p:nvSpPr>
          <p:spPr>
            <a:xfrm>
              <a:off x="1166760" y="0"/>
              <a:ext cx="442800" cy="27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229" y="19894"/>
                  </a:lnTo>
                  <a:lnTo>
                    <a:pt x="2634" y="18757"/>
                  </a:lnTo>
                  <a:lnTo>
                    <a:pt x="3863" y="17336"/>
                  </a:lnTo>
                  <a:lnTo>
                    <a:pt x="5268" y="15631"/>
                  </a:lnTo>
                  <a:lnTo>
                    <a:pt x="6497" y="14494"/>
                  </a:lnTo>
                  <a:lnTo>
                    <a:pt x="8077" y="13073"/>
                  </a:lnTo>
                  <a:lnTo>
                    <a:pt x="9307" y="11652"/>
                  </a:lnTo>
                  <a:lnTo>
                    <a:pt x="10711" y="10515"/>
                  </a:lnTo>
                  <a:lnTo>
                    <a:pt x="11941" y="9094"/>
                  </a:lnTo>
                  <a:lnTo>
                    <a:pt x="13346" y="7673"/>
                  </a:lnTo>
                  <a:lnTo>
                    <a:pt x="14751" y="6536"/>
                  </a:lnTo>
                  <a:lnTo>
                    <a:pt x="16155" y="5115"/>
                  </a:lnTo>
                  <a:lnTo>
                    <a:pt x="17385" y="3694"/>
                  </a:lnTo>
                  <a:lnTo>
                    <a:pt x="18789" y="2273"/>
                  </a:lnTo>
                  <a:lnTo>
                    <a:pt x="20019" y="1136"/>
                  </a:lnTo>
                  <a:lnTo>
                    <a:pt x="21600" y="0"/>
                  </a:lnTo>
                </a:path>
              </a:pathLst>
            </a:custGeom>
            <a:noFill/>
            <a:ln w="720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>
              <a:off x="1209600" y="0"/>
              <a:ext cx="701640" cy="59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1218" y="20028"/>
                  </a:lnTo>
                  <a:lnTo>
                    <a:pt x="2547" y="18327"/>
                  </a:lnTo>
                  <a:lnTo>
                    <a:pt x="3876" y="16887"/>
                  </a:lnTo>
                  <a:lnTo>
                    <a:pt x="5095" y="15447"/>
                  </a:lnTo>
                  <a:lnTo>
                    <a:pt x="6535" y="14007"/>
                  </a:lnTo>
                  <a:lnTo>
                    <a:pt x="7864" y="12567"/>
                  </a:lnTo>
                  <a:lnTo>
                    <a:pt x="9082" y="11258"/>
                  </a:lnTo>
                  <a:lnTo>
                    <a:pt x="10522" y="9818"/>
                  </a:lnTo>
                  <a:lnTo>
                    <a:pt x="11852" y="8509"/>
                  </a:lnTo>
                  <a:lnTo>
                    <a:pt x="13181" y="7199"/>
                  </a:lnTo>
                  <a:lnTo>
                    <a:pt x="14621" y="5890"/>
                  </a:lnTo>
                  <a:lnTo>
                    <a:pt x="15950" y="4712"/>
                  </a:lnTo>
                  <a:lnTo>
                    <a:pt x="17390" y="3403"/>
                  </a:lnTo>
                  <a:lnTo>
                    <a:pt x="18719" y="2225"/>
                  </a:lnTo>
                  <a:lnTo>
                    <a:pt x="20159" y="1047"/>
                  </a:lnTo>
                  <a:lnTo>
                    <a:pt x="21600" y="0"/>
                  </a:lnTo>
                  <a:lnTo>
                    <a:pt x="14621" y="0"/>
                  </a:lnTo>
                  <a:lnTo>
                    <a:pt x="13513" y="1047"/>
                  </a:lnTo>
                  <a:lnTo>
                    <a:pt x="12627" y="2356"/>
                  </a:lnTo>
                  <a:lnTo>
                    <a:pt x="11630" y="3534"/>
                  </a:lnTo>
                  <a:lnTo>
                    <a:pt x="10633" y="4843"/>
                  </a:lnTo>
                  <a:lnTo>
                    <a:pt x="9747" y="6021"/>
                  </a:lnTo>
                  <a:lnTo>
                    <a:pt x="8750" y="7461"/>
                  </a:lnTo>
                  <a:lnTo>
                    <a:pt x="7864" y="8770"/>
                  </a:lnTo>
                  <a:lnTo>
                    <a:pt x="6867" y="9948"/>
                  </a:lnTo>
                  <a:lnTo>
                    <a:pt x="6092" y="11388"/>
                  </a:lnTo>
                  <a:lnTo>
                    <a:pt x="5095" y="12828"/>
                  </a:lnTo>
                  <a:lnTo>
                    <a:pt x="4319" y="14138"/>
                  </a:lnTo>
                  <a:lnTo>
                    <a:pt x="3322" y="15708"/>
                  </a:lnTo>
                  <a:lnTo>
                    <a:pt x="2547" y="17018"/>
                  </a:lnTo>
                  <a:lnTo>
                    <a:pt x="1661" y="18458"/>
                  </a:lnTo>
                  <a:lnTo>
                    <a:pt x="775" y="20028"/>
                  </a:lnTo>
                  <a:lnTo>
                    <a:pt x="0" y="21600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503280" y="0"/>
              <a:ext cx="1274760" cy="177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26" y="20767"/>
                  </a:lnTo>
                  <a:lnTo>
                    <a:pt x="976" y="19934"/>
                  </a:lnTo>
                  <a:lnTo>
                    <a:pt x="1403" y="19146"/>
                  </a:lnTo>
                  <a:lnTo>
                    <a:pt x="2013" y="18357"/>
                  </a:lnTo>
                  <a:lnTo>
                    <a:pt x="2501" y="17569"/>
                  </a:lnTo>
                  <a:lnTo>
                    <a:pt x="3111" y="16780"/>
                  </a:lnTo>
                  <a:lnTo>
                    <a:pt x="3660" y="16035"/>
                  </a:lnTo>
                  <a:lnTo>
                    <a:pt x="4209" y="15290"/>
                  </a:lnTo>
                  <a:lnTo>
                    <a:pt x="4820" y="14545"/>
                  </a:lnTo>
                  <a:lnTo>
                    <a:pt x="5369" y="13800"/>
                  </a:lnTo>
                  <a:lnTo>
                    <a:pt x="6040" y="13099"/>
                  </a:lnTo>
                  <a:lnTo>
                    <a:pt x="6650" y="12399"/>
                  </a:lnTo>
                  <a:lnTo>
                    <a:pt x="7260" y="11698"/>
                  </a:lnTo>
                  <a:lnTo>
                    <a:pt x="7931" y="10997"/>
                  </a:lnTo>
                  <a:lnTo>
                    <a:pt x="8603" y="10296"/>
                  </a:lnTo>
                  <a:lnTo>
                    <a:pt x="9274" y="9638"/>
                  </a:lnTo>
                  <a:lnTo>
                    <a:pt x="9945" y="8981"/>
                  </a:lnTo>
                  <a:lnTo>
                    <a:pt x="10616" y="8324"/>
                  </a:lnTo>
                  <a:lnTo>
                    <a:pt x="11349" y="7667"/>
                  </a:lnTo>
                  <a:lnTo>
                    <a:pt x="12081" y="7053"/>
                  </a:lnTo>
                  <a:lnTo>
                    <a:pt x="12813" y="6352"/>
                  </a:lnTo>
                  <a:lnTo>
                    <a:pt x="13545" y="5739"/>
                  </a:lnTo>
                  <a:lnTo>
                    <a:pt x="14338" y="5169"/>
                  </a:lnTo>
                  <a:lnTo>
                    <a:pt x="15071" y="4556"/>
                  </a:lnTo>
                  <a:lnTo>
                    <a:pt x="15803" y="3942"/>
                  </a:lnTo>
                  <a:lnTo>
                    <a:pt x="16596" y="3373"/>
                  </a:lnTo>
                  <a:lnTo>
                    <a:pt x="17450" y="2759"/>
                  </a:lnTo>
                  <a:lnTo>
                    <a:pt x="18243" y="2190"/>
                  </a:lnTo>
                  <a:lnTo>
                    <a:pt x="19037" y="1620"/>
                  </a:lnTo>
                  <a:lnTo>
                    <a:pt x="19830" y="1095"/>
                  </a:lnTo>
                  <a:lnTo>
                    <a:pt x="20684" y="481"/>
                  </a:lnTo>
                  <a:lnTo>
                    <a:pt x="21600" y="0"/>
                  </a:lnTo>
                  <a:lnTo>
                    <a:pt x="14094" y="0"/>
                  </a:lnTo>
                  <a:lnTo>
                    <a:pt x="13423" y="525"/>
                  </a:lnTo>
                  <a:lnTo>
                    <a:pt x="12752" y="1095"/>
                  </a:lnTo>
                  <a:lnTo>
                    <a:pt x="12142" y="1664"/>
                  </a:lnTo>
                  <a:lnTo>
                    <a:pt x="11471" y="2190"/>
                  </a:lnTo>
                  <a:lnTo>
                    <a:pt x="10921" y="2759"/>
                  </a:lnTo>
                  <a:lnTo>
                    <a:pt x="10311" y="3373"/>
                  </a:lnTo>
                  <a:lnTo>
                    <a:pt x="9762" y="3986"/>
                  </a:lnTo>
                  <a:lnTo>
                    <a:pt x="9213" y="4556"/>
                  </a:lnTo>
                  <a:lnTo>
                    <a:pt x="8603" y="5169"/>
                  </a:lnTo>
                  <a:lnTo>
                    <a:pt x="8115" y="5783"/>
                  </a:lnTo>
                  <a:lnTo>
                    <a:pt x="7566" y="6396"/>
                  </a:lnTo>
                  <a:lnTo>
                    <a:pt x="7077" y="7053"/>
                  </a:lnTo>
                  <a:lnTo>
                    <a:pt x="6528" y="7711"/>
                  </a:lnTo>
                  <a:lnTo>
                    <a:pt x="6101" y="8368"/>
                  </a:lnTo>
                  <a:lnTo>
                    <a:pt x="5613" y="9025"/>
                  </a:lnTo>
                  <a:lnTo>
                    <a:pt x="5186" y="9682"/>
                  </a:lnTo>
                  <a:lnTo>
                    <a:pt x="4698" y="10339"/>
                  </a:lnTo>
                  <a:lnTo>
                    <a:pt x="4271" y="11040"/>
                  </a:lnTo>
                  <a:lnTo>
                    <a:pt x="3904" y="11741"/>
                  </a:lnTo>
                  <a:lnTo>
                    <a:pt x="3477" y="12442"/>
                  </a:lnTo>
                  <a:lnTo>
                    <a:pt x="3111" y="13143"/>
                  </a:lnTo>
                  <a:lnTo>
                    <a:pt x="2745" y="13844"/>
                  </a:lnTo>
                  <a:lnTo>
                    <a:pt x="2379" y="14589"/>
                  </a:lnTo>
                  <a:lnTo>
                    <a:pt x="2074" y="15334"/>
                  </a:lnTo>
                  <a:lnTo>
                    <a:pt x="1769" y="16079"/>
                  </a:lnTo>
                  <a:lnTo>
                    <a:pt x="1403" y="16824"/>
                  </a:lnTo>
                  <a:lnTo>
                    <a:pt x="1098" y="17612"/>
                  </a:lnTo>
                  <a:lnTo>
                    <a:pt x="914" y="18357"/>
                  </a:lnTo>
                  <a:lnTo>
                    <a:pt x="610" y="19146"/>
                  </a:lnTo>
                  <a:lnTo>
                    <a:pt x="365" y="19978"/>
                  </a:lnTo>
                  <a:lnTo>
                    <a:pt x="121" y="20767"/>
                  </a:lnTo>
                  <a:lnTo>
                    <a:pt x="0" y="21600"/>
                  </a:lnTo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388800" y="0"/>
              <a:ext cx="817560" cy="205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94" y="20767"/>
                  </a:lnTo>
                  <a:lnTo>
                    <a:pt x="190" y="20011"/>
                  </a:lnTo>
                  <a:lnTo>
                    <a:pt x="285" y="19216"/>
                  </a:lnTo>
                  <a:lnTo>
                    <a:pt x="570" y="18422"/>
                  </a:lnTo>
                  <a:lnTo>
                    <a:pt x="856" y="17627"/>
                  </a:lnTo>
                  <a:lnTo>
                    <a:pt x="1141" y="16871"/>
                  </a:lnTo>
                  <a:lnTo>
                    <a:pt x="1522" y="16152"/>
                  </a:lnTo>
                  <a:lnTo>
                    <a:pt x="1807" y="15396"/>
                  </a:lnTo>
                  <a:lnTo>
                    <a:pt x="2283" y="14677"/>
                  </a:lnTo>
                  <a:lnTo>
                    <a:pt x="2759" y="13920"/>
                  </a:lnTo>
                  <a:lnTo>
                    <a:pt x="3330" y="13202"/>
                  </a:lnTo>
                  <a:lnTo>
                    <a:pt x="3806" y="12483"/>
                  </a:lnTo>
                  <a:lnTo>
                    <a:pt x="4376" y="11802"/>
                  </a:lnTo>
                  <a:lnTo>
                    <a:pt x="4947" y="11121"/>
                  </a:lnTo>
                  <a:lnTo>
                    <a:pt x="5613" y="10440"/>
                  </a:lnTo>
                  <a:lnTo>
                    <a:pt x="6375" y="9759"/>
                  </a:lnTo>
                  <a:lnTo>
                    <a:pt x="7041" y="9078"/>
                  </a:lnTo>
                  <a:lnTo>
                    <a:pt x="7802" y="8435"/>
                  </a:lnTo>
                  <a:lnTo>
                    <a:pt x="8563" y="7754"/>
                  </a:lnTo>
                  <a:lnTo>
                    <a:pt x="9420" y="7111"/>
                  </a:lnTo>
                  <a:lnTo>
                    <a:pt x="10181" y="6468"/>
                  </a:lnTo>
                  <a:lnTo>
                    <a:pt x="11037" y="5863"/>
                  </a:lnTo>
                  <a:lnTo>
                    <a:pt x="11989" y="5257"/>
                  </a:lnTo>
                  <a:lnTo>
                    <a:pt x="12940" y="4614"/>
                  </a:lnTo>
                  <a:lnTo>
                    <a:pt x="13987" y="4009"/>
                  </a:lnTo>
                  <a:lnTo>
                    <a:pt x="14938" y="3404"/>
                  </a:lnTo>
                  <a:lnTo>
                    <a:pt x="15985" y="2837"/>
                  </a:lnTo>
                  <a:lnTo>
                    <a:pt x="17032" y="2231"/>
                  </a:lnTo>
                  <a:lnTo>
                    <a:pt x="18174" y="1626"/>
                  </a:lnTo>
                  <a:lnTo>
                    <a:pt x="19221" y="1096"/>
                  </a:lnTo>
                  <a:lnTo>
                    <a:pt x="20362" y="529"/>
                  </a:lnTo>
                  <a:lnTo>
                    <a:pt x="21600" y="0"/>
                  </a:lnTo>
                </a:path>
              </a:pathLst>
            </a:custGeom>
            <a:noFill/>
            <a:ln w="720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928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215892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69892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3030480"/>
            <a:ext cx="8632800" cy="1069560"/>
            <a:chOff x="0" y="3030480"/>
            <a:chExt cx="8632800" cy="1069560"/>
          </a:xfrm>
        </p:grpSpPr>
        <p:grpSp>
          <p:nvGrpSpPr>
            <p:cNvPr id="79" name=""/>
            <p:cNvGrpSpPr/>
            <p:nvPr/>
          </p:nvGrpSpPr>
          <p:grpSpPr>
            <a:xfrm>
              <a:off x="0" y="3030480"/>
              <a:ext cx="8632800" cy="2880"/>
              <a:chOff x="0" y="3030480"/>
              <a:chExt cx="8632800" cy="288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030480"/>
                <a:ext cx="8632800" cy="28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0" y="3030480"/>
                <a:ext cx="86328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0" y="3162960"/>
              <a:ext cx="8632800" cy="2880"/>
              <a:chOff x="0" y="3162960"/>
              <a:chExt cx="8632800" cy="288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3162960"/>
                <a:ext cx="8632800" cy="28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0" y="3162960"/>
                <a:ext cx="86328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0" y="3296160"/>
              <a:ext cx="8632800" cy="2880"/>
              <a:chOff x="0" y="3296160"/>
              <a:chExt cx="8632800" cy="2880"/>
            </a:xfrm>
          </p:grpSpPr>
          <p:sp>
            <p:nvSpPr>
              <p:cNvPr id="86" name=""/>
              <p:cNvSpPr/>
              <p:nvPr/>
            </p:nvSpPr>
            <p:spPr>
              <a:xfrm>
                <a:off x="0" y="3296160"/>
                <a:ext cx="8632800" cy="28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0" y="3296160"/>
                <a:ext cx="86328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0" y="3429000"/>
              <a:ext cx="8632800" cy="2880"/>
              <a:chOff x="0" y="3429000"/>
              <a:chExt cx="8632800" cy="2880"/>
            </a:xfrm>
          </p:grpSpPr>
          <p:sp>
            <p:nvSpPr>
              <p:cNvPr id="89" name=""/>
              <p:cNvSpPr/>
              <p:nvPr/>
            </p:nvSpPr>
            <p:spPr>
              <a:xfrm>
                <a:off x="0" y="3429000"/>
                <a:ext cx="8632800" cy="28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0" y="3429000"/>
                <a:ext cx="86328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0" y="3560400"/>
              <a:ext cx="8632800" cy="4320"/>
              <a:chOff x="0" y="3560400"/>
              <a:chExt cx="8632800" cy="432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3560400"/>
                <a:ext cx="8632800" cy="432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0" y="3560400"/>
                <a:ext cx="863280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3698280"/>
              <a:ext cx="8632800" cy="2880"/>
              <a:chOff x="0" y="3698280"/>
              <a:chExt cx="8632800" cy="28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3698280"/>
                <a:ext cx="8632800" cy="28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0" y="3698280"/>
                <a:ext cx="86328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0" y="3831120"/>
              <a:ext cx="8632800" cy="2880"/>
              <a:chOff x="0" y="3831120"/>
              <a:chExt cx="8632800" cy="288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3831120"/>
                <a:ext cx="8632800" cy="28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0" y="3831120"/>
                <a:ext cx="86328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0" y="3959280"/>
              <a:ext cx="8632800" cy="2880"/>
              <a:chOff x="0" y="3959280"/>
              <a:chExt cx="8632800" cy="2880"/>
            </a:xfrm>
          </p:grpSpPr>
          <p:sp>
            <p:nvSpPr>
              <p:cNvPr id="101" name=""/>
              <p:cNvSpPr/>
              <p:nvPr/>
            </p:nvSpPr>
            <p:spPr>
              <a:xfrm>
                <a:off x="0" y="3959280"/>
                <a:ext cx="8632800" cy="288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0" y="3959280"/>
                <a:ext cx="86328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0" y="4095720"/>
              <a:ext cx="8632800" cy="4320"/>
              <a:chOff x="0" y="4095720"/>
              <a:chExt cx="8632800" cy="432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4095720"/>
                <a:ext cx="8632800" cy="4320"/>
              </a:xfrm>
              <a:prstGeom prst="line">
                <a:avLst/>
              </a:prstGeom>
              <a:ln w="21600">
                <a:solidFill>
                  <a:srgbClr val="dfd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0" y="4095720"/>
                <a:ext cx="8632800" cy="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341280" y="669960"/>
            <a:ext cx="7385040" cy="4160880"/>
            <a:chOff x="341280" y="669960"/>
            <a:chExt cx="7385040" cy="4160880"/>
          </a:xfrm>
        </p:grpSpPr>
        <p:sp>
          <p:nvSpPr>
            <p:cNvPr id="107" name="未知"/>
            <p:cNvSpPr/>
            <p:nvPr/>
          </p:nvSpPr>
          <p:spPr>
            <a:xfrm>
              <a:off x="1177920" y="1973160"/>
              <a:ext cx="6000840" cy="99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530" y="19565"/>
                  </a:lnTo>
                  <a:lnTo>
                    <a:pt x="1049" y="17608"/>
                  </a:lnTo>
                  <a:lnTo>
                    <a:pt x="1580" y="15730"/>
                  </a:lnTo>
                  <a:lnTo>
                    <a:pt x="2098" y="13930"/>
                  </a:lnTo>
                  <a:lnTo>
                    <a:pt x="2630" y="12286"/>
                  </a:lnTo>
                  <a:lnTo>
                    <a:pt x="3148" y="10643"/>
                  </a:lnTo>
                  <a:lnTo>
                    <a:pt x="3692" y="9156"/>
                  </a:lnTo>
                  <a:lnTo>
                    <a:pt x="4236" y="7669"/>
                  </a:lnTo>
                  <a:lnTo>
                    <a:pt x="4768" y="6339"/>
                  </a:lnTo>
                  <a:lnTo>
                    <a:pt x="5325" y="5165"/>
                  </a:lnTo>
                  <a:lnTo>
                    <a:pt x="5882" y="4147"/>
                  </a:lnTo>
                  <a:lnTo>
                    <a:pt x="6452" y="3130"/>
                  </a:lnTo>
                  <a:lnTo>
                    <a:pt x="7035" y="2269"/>
                  </a:lnTo>
                  <a:lnTo>
                    <a:pt x="7631" y="1564"/>
                  </a:lnTo>
                  <a:lnTo>
                    <a:pt x="8227" y="939"/>
                  </a:lnTo>
                  <a:lnTo>
                    <a:pt x="8849" y="547"/>
                  </a:lnTo>
                  <a:lnTo>
                    <a:pt x="9484" y="156"/>
                  </a:lnTo>
                  <a:lnTo>
                    <a:pt x="10132" y="0"/>
                  </a:lnTo>
                  <a:lnTo>
                    <a:pt x="10793" y="0"/>
                  </a:lnTo>
                  <a:lnTo>
                    <a:pt x="11479" y="78"/>
                  </a:lnTo>
                  <a:lnTo>
                    <a:pt x="12192" y="391"/>
                  </a:lnTo>
                  <a:lnTo>
                    <a:pt x="12931" y="860"/>
                  </a:lnTo>
                  <a:lnTo>
                    <a:pt x="13669" y="1408"/>
                  </a:lnTo>
                  <a:lnTo>
                    <a:pt x="14447" y="2191"/>
                  </a:lnTo>
                  <a:lnTo>
                    <a:pt x="15237" y="3208"/>
                  </a:lnTo>
                  <a:lnTo>
                    <a:pt x="16053" y="4304"/>
                  </a:lnTo>
                  <a:lnTo>
                    <a:pt x="16909" y="5634"/>
                  </a:lnTo>
                  <a:lnTo>
                    <a:pt x="17777" y="7121"/>
                  </a:lnTo>
                  <a:lnTo>
                    <a:pt x="18684" y="8765"/>
                  </a:lnTo>
                  <a:lnTo>
                    <a:pt x="19630" y="10643"/>
                  </a:lnTo>
                  <a:lnTo>
                    <a:pt x="20602" y="12756"/>
                  </a:lnTo>
                  <a:lnTo>
                    <a:pt x="21600" y="15026"/>
                  </a:lnTo>
                </a:path>
              </a:pathLst>
            </a:custGeom>
            <a:noFill/>
            <a:ln w="720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1206360" y="1573200"/>
              <a:ext cx="4930920" cy="138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567" y="19799"/>
                  </a:lnTo>
                  <a:lnTo>
                    <a:pt x="1135" y="18112"/>
                  </a:lnTo>
                  <a:lnTo>
                    <a:pt x="1702" y="16537"/>
                  </a:lnTo>
                  <a:lnTo>
                    <a:pt x="2286" y="15018"/>
                  </a:lnTo>
                  <a:lnTo>
                    <a:pt x="2885" y="13556"/>
                  </a:lnTo>
                  <a:lnTo>
                    <a:pt x="3468" y="12206"/>
                  </a:lnTo>
                  <a:lnTo>
                    <a:pt x="4067" y="10968"/>
                  </a:lnTo>
                  <a:lnTo>
                    <a:pt x="4650" y="9731"/>
                  </a:lnTo>
                  <a:lnTo>
                    <a:pt x="5265" y="8606"/>
                  </a:lnTo>
                  <a:lnTo>
                    <a:pt x="5865" y="7593"/>
                  </a:lnTo>
                  <a:lnTo>
                    <a:pt x="6495" y="6637"/>
                  </a:lnTo>
                  <a:lnTo>
                    <a:pt x="7110" y="5737"/>
                  </a:lnTo>
                  <a:lnTo>
                    <a:pt x="7741" y="4949"/>
                  </a:lnTo>
                  <a:lnTo>
                    <a:pt x="8371" y="4162"/>
                  </a:lnTo>
                  <a:lnTo>
                    <a:pt x="9018" y="3543"/>
                  </a:lnTo>
                  <a:lnTo>
                    <a:pt x="9664" y="2868"/>
                  </a:lnTo>
                  <a:lnTo>
                    <a:pt x="10326" y="2362"/>
                  </a:lnTo>
                  <a:lnTo>
                    <a:pt x="11004" y="1856"/>
                  </a:lnTo>
                  <a:lnTo>
                    <a:pt x="11667" y="1406"/>
                  </a:lnTo>
                  <a:lnTo>
                    <a:pt x="12360" y="1012"/>
                  </a:lnTo>
                  <a:lnTo>
                    <a:pt x="13070" y="731"/>
                  </a:lnTo>
                  <a:lnTo>
                    <a:pt x="13764" y="449"/>
                  </a:lnTo>
                  <a:lnTo>
                    <a:pt x="14504" y="281"/>
                  </a:lnTo>
                  <a:lnTo>
                    <a:pt x="15230" y="112"/>
                  </a:lnTo>
                  <a:lnTo>
                    <a:pt x="15987" y="0"/>
                  </a:lnTo>
                  <a:lnTo>
                    <a:pt x="16743" y="0"/>
                  </a:lnTo>
                  <a:lnTo>
                    <a:pt x="17516" y="0"/>
                  </a:lnTo>
                  <a:lnTo>
                    <a:pt x="18288" y="0"/>
                  </a:lnTo>
                  <a:lnTo>
                    <a:pt x="19092" y="0"/>
                  </a:lnTo>
                  <a:lnTo>
                    <a:pt x="19912" y="112"/>
                  </a:lnTo>
                  <a:lnTo>
                    <a:pt x="20748" y="337"/>
                  </a:lnTo>
                  <a:lnTo>
                    <a:pt x="21600" y="506"/>
                  </a:lnTo>
                </a:path>
              </a:pathLst>
            </a:custGeom>
            <a:noFill/>
            <a:ln w="720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1201680" y="1936800"/>
              <a:ext cx="5692680" cy="126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587" y="19446"/>
                  </a:lnTo>
                  <a:lnTo>
                    <a:pt x="1188" y="17538"/>
                  </a:lnTo>
                  <a:lnTo>
                    <a:pt x="1789" y="15753"/>
                  </a:lnTo>
                  <a:lnTo>
                    <a:pt x="2390" y="14092"/>
                  </a:lnTo>
                  <a:lnTo>
                    <a:pt x="3019" y="12553"/>
                  </a:lnTo>
                  <a:lnTo>
                    <a:pt x="3647" y="11199"/>
                  </a:lnTo>
                  <a:lnTo>
                    <a:pt x="4276" y="9969"/>
                  </a:lnTo>
                  <a:lnTo>
                    <a:pt x="4918" y="8922"/>
                  </a:lnTo>
                  <a:lnTo>
                    <a:pt x="5560" y="7938"/>
                  </a:lnTo>
                  <a:lnTo>
                    <a:pt x="6216" y="7076"/>
                  </a:lnTo>
                  <a:lnTo>
                    <a:pt x="6858" y="6338"/>
                  </a:lnTo>
                  <a:lnTo>
                    <a:pt x="7513" y="5784"/>
                  </a:lnTo>
                  <a:lnTo>
                    <a:pt x="8183" y="5292"/>
                  </a:lnTo>
                  <a:lnTo>
                    <a:pt x="8853" y="4861"/>
                  </a:lnTo>
                  <a:lnTo>
                    <a:pt x="9522" y="4676"/>
                  </a:lnTo>
                  <a:lnTo>
                    <a:pt x="10205" y="4491"/>
                  </a:lnTo>
                  <a:lnTo>
                    <a:pt x="10888" y="4430"/>
                  </a:lnTo>
                  <a:lnTo>
                    <a:pt x="11585" y="4491"/>
                  </a:lnTo>
                  <a:lnTo>
                    <a:pt x="12268" y="4615"/>
                  </a:lnTo>
                  <a:lnTo>
                    <a:pt x="12965" y="4799"/>
                  </a:lnTo>
                  <a:lnTo>
                    <a:pt x="13675" y="5107"/>
                  </a:lnTo>
                  <a:lnTo>
                    <a:pt x="14372" y="5476"/>
                  </a:lnTo>
                  <a:lnTo>
                    <a:pt x="15083" y="5907"/>
                  </a:lnTo>
                  <a:lnTo>
                    <a:pt x="15793" y="6461"/>
                  </a:lnTo>
                  <a:lnTo>
                    <a:pt x="16517" y="7076"/>
                  </a:lnTo>
                  <a:lnTo>
                    <a:pt x="17227" y="7753"/>
                  </a:lnTo>
                  <a:lnTo>
                    <a:pt x="17965" y="8492"/>
                  </a:lnTo>
                  <a:lnTo>
                    <a:pt x="18689" y="9292"/>
                  </a:lnTo>
                  <a:lnTo>
                    <a:pt x="19400" y="10092"/>
                  </a:lnTo>
                  <a:lnTo>
                    <a:pt x="20137" y="11015"/>
                  </a:lnTo>
                  <a:lnTo>
                    <a:pt x="20862" y="11999"/>
                  </a:lnTo>
                  <a:lnTo>
                    <a:pt x="21600" y="12984"/>
                  </a:lnTo>
                  <a:lnTo>
                    <a:pt x="20766" y="11323"/>
                  </a:lnTo>
                  <a:lnTo>
                    <a:pt x="19932" y="9845"/>
                  </a:lnTo>
                  <a:lnTo>
                    <a:pt x="19113" y="8368"/>
                  </a:lnTo>
                  <a:lnTo>
                    <a:pt x="18307" y="7015"/>
                  </a:lnTo>
                  <a:lnTo>
                    <a:pt x="17501" y="5845"/>
                  </a:lnTo>
                  <a:lnTo>
                    <a:pt x="16708" y="4738"/>
                  </a:lnTo>
                  <a:lnTo>
                    <a:pt x="15930" y="3753"/>
                  </a:lnTo>
                  <a:lnTo>
                    <a:pt x="15151" y="2830"/>
                  </a:lnTo>
                  <a:lnTo>
                    <a:pt x="14386" y="2030"/>
                  </a:lnTo>
                  <a:lnTo>
                    <a:pt x="13648" y="1415"/>
                  </a:lnTo>
                  <a:lnTo>
                    <a:pt x="12896" y="861"/>
                  </a:lnTo>
                  <a:lnTo>
                    <a:pt x="12172" y="492"/>
                  </a:lnTo>
                  <a:lnTo>
                    <a:pt x="11448" y="184"/>
                  </a:lnTo>
                  <a:lnTo>
                    <a:pt x="10738" y="0"/>
                  </a:lnTo>
                  <a:lnTo>
                    <a:pt x="10041" y="0"/>
                  </a:lnTo>
                  <a:lnTo>
                    <a:pt x="9344" y="61"/>
                  </a:lnTo>
                  <a:lnTo>
                    <a:pt x="8675" y="307"/>
                  </a:lnTo>
                  <a:lnTo>
                    <a:pt x="8006" y="738"/>
                  </a:lnTo>
                  <a:lnTo>
                    <a:pt x="7363" y="1230"/>
                  </a:lnTo>
                  <a:lnTo>
                    <a:pt x="6721" y="1846"/>
                  </a:lnTo>
                  <a:lnTo>
                    <a:pt x="6079" y="2645"/>
                  </a:lnTo>
                  <a:lnTo>
                    <a:pt x="5464" y="3630"/>
                  </a:lnTo>
                  <a:lnTo>
                    <a:pt x="4863" y="4676"/>
                  </a:lnTo>
                  <a:lnTo>
                    <a:pt x="4276" y="5907"/>
                  </a:lnTo>
                  <a:lnTo>
                    <a:pt x="3688" y="7322"/>
                  </a:lnTo>
                  <a:lnTo>
                    <a:pt x="3114" y="8861"/>
                  </a:lnTo>
                  <a:lnTo>
                    <a:pt x="2568" y="10584"/>
                  </a:lnTo>
                  <a:lnTo>
                    <a:pt x="2021" y="12430"/>
                  </a:lnTo>
                  <a:lnTo>
                    <a:pt x="1489" y="14461"/>
                  </a:lnTo>
                  <a:lnTo>
                    <a:pt x="983" y="16676"/>
                  </a:lnTo>
                  <a:lnTo>
                    <a:pt x="491" y="19076"/>
                  </a:lnTo>
                  <a:lnTo>
                    <a:pt x="0" y="2160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1209600" y="1695600"/>
              <a:ext cx="5580000" cy="159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543" y="19693"/>
                  </a:lnTo>
                  <a:lnTo>
                    <a:pt x="1100" y="17934"/>
                  </a:lnTo>
                  <a:lnTo>
                    <a:pt x="1672" y="16224"/>
                  </a:lnTo>
                  <a:lnTo>
                    <a:pt x="2243" y="14709"/>
                  </a:lnTo>
                  <a:lnTo>
                    <a:pt x="2828" y="13292"/>
                  </a:lnTo>
                  <a:lnTo>
                    <a:pt x="3428" y="11923"/>
                  </a:lnTo>
                  <a:lnTo>
                    <a:pt x="4041" y="10702"/>
                  </a:lnTo>
                  <a:lnTo>
                    <a:pt x="4654" y="9578"/>
                  </a:lnTo>
                  <a:lnTo>
                    <a:pt x="5267" y="8551"/>
                  </a:lnTo>
                  <a:lnTo>
                    <a:pt x="5922" y="7623"/>
                  </a:lnTo>
                  <a:lnTo>
                    <a:pt x="6549" y="6792"/>
                  </a:lnTo>
                  <a:lnTo>
                    <a:pt x="7204" y="6059"/>
                  </a:lnTo>
                  <a:lnTo>
                    <a:pt x="7859" y="5424"/>
                  </a:lnTo>
                  <a:lnTo>
                    <a:pt x="8542" y="4886"/>
                  </a:lnTo>
                  <a:lnTo>
                    <a:pt x="9211" y="4349"/>
                  </a:lnTo>
                  <a:lnTo>
                    <a:pt x="9893" y="4007"/>
                  </a:lnTo>
                  <a:lnTo>
                    <a:pt x="10576" y="3616"/>
                  </a:lnTo>
                  <a:lnTo>
                    <a:pt x="11273" y="3371"/>
                  </a:lnTo>
                  <a:lnTo>
                    <a:pt x="11984" y="3225"/>
                  </a:lnTo>
                  <a:lnTo>
                    <a:pt x="12695" y="3127"/>
                  </a:lnTo>
                  <a:lnTo>
                    <a:pt x="13405" y="3078"/>
                  </a:lnTo>
                  <a:lnTo>
                    <a:pt x="14130" y="3078"/>
                  </a:lnTo>
                  <a:lnTo>
                    <a:pt x="14854" y="3176"/>
                  </a:lnTo>
                  <a:lnTo>
                    <a:pt x="15579" y="3322"/>
                  </a:lnTo>
                  <a:lnTo>
                    <a:pt x="16304" y="3469"/>
                  </a:lnTo>
                  <a:lnTo>
                    <a:pt x="17056" y="3713"/>
                  </a:lnTo>
                  <a:lnTo>
                    <a:pt x="17795" y="4055"/>
                  </a:lnTo>
                  <a:lnTo>
                    <a:pt x="18547" y="4349"/>
                  </a:lnTo>
                  <a:lnTo>
                    <a:pt x="19314" y="4740"/>
                  </a:lnTo>
                  <a:lnTo>
                    <a:pt x="20067" y="5131"/>
                  </a:lnTo>
                  <a:lnTo>
                    <a:pt x="20819" y="5619"/>
                  </a:lnTo>
                  <a:lnTo>
                    <a:pt x="21600" y="6059"/>
                  </a:lnTo>
                  <a:lnTo>
                    <a:pt x="20707" y="5131"/>
                  </a:lnTo>
                  <a:lnTo>
                    <a:pt x="19830" y="4251"/>
                  </a:lnTo>
                  <a:lnTo>
                    <a:pt x="18965" y="3469"/>
                  </a:lnTo>
                  <a:lnTo>
                    <a:pt x="18129" y="2736"/>
                  </a:lnTo>
                  <a:lnTo>
                    <a:pt x="17279" y="2101"/>
                  </a:lnTo>
                  <a:lnTo>
                    <a:pt x="16457" y="1563"/>
                  </a:lnTo>
                  <a:lnTo>
                    <a:pt x="15635" y="1074"/>
                  </a:lnTo>
                  <a:lnTo>
                    <a:pt x="14841" y="683"/>
                  </a:lnTo>
                  <a:lnTo>
                    <a:pt x="14046" y="390"/>
                  </a:lnTo>
                  <a:lnTo>
                    <a:pt x="13266" y="146"/>
                  </a:lnTo>
                  <a:lnTo>
                    <a:pt x="12527" y="0"/>
                  </a:lnTo>
                  <a:lnTo>
                    <a:pt x="11775" y="0"/>
                  </a:lnTo>
                  <a:lnTo>
                    <a:pt x="11036" y="48"/>
                  </a:lnTo>
                  <a:lnTo>
                    <a:pt x="10312" y="195"/>
                  </a:lnTo>
                  <a:lnTo>
                    <a:pt x="9615" y="488"/>
                  </a:lnTo>
                  <a:lnTo>
                    <a:pt x="8918" y="830"/>
                  </a:lnTo>
                  <a:lnTo>
                    <a:pt x="8249" y="1319"/>
                  </a:lnTo>
                  <a:lnTo>
                    <a:pt x="7580" y="1856"/>
                  </a:lnTo>
                  <a:lnTo>
                    <a:pt x="6925" y="2492"/>
                  </a:lnTo>
                  <a:lnTo>
                    <a:pt x="6298" y="3322"/>
                  </a:lnTo>
                  <a:lnTo>
                    <a:pt x="5685" y="4153"/>
                  </a:lnTo>
                  <a:lnTo>
                    <a:pt x="5086" y="5131"/>
                  </a:lnTo>
                  <a:lnTo>
                    <a:pt x="4500" y="6254"/>
                  </a:lnTo>
                  <a:lnTo>
                    <a:pt x="3929" y="7476"/>
                  </a:lnTo>
                  <a:lnTo>
                    <a:pt x="3372" y="8845"/>
                  </a:lnTo>
                  <a:lnTo>
                    <a:pt x="2856" y="10262"/>
                  </a:lnTo>
                  <a:lnTo>
                    <a:pt x="2326" y="11826"/>
                  </a:lnTo>
                  <a:lnTo>
                    <a:pt x="1825" y="13536"/>
                  </a:lnTo>
                  <a:lnTo>
                    <a:pt x="1337" y="15393"/>
                  </a:lnTo>
                  <a:lnTo>
                    <a:pt x="877" y="17348"/>
                  </a:lnTo>
                  <a:lnTo>
                    <a:pt x="417" y="19400"/>
                  </a:lnTo>
                  <a:lnTo>
                    <a:pt x="0" y="21600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503280" y="1004760"/>
              <a:ext cx="4806720" cy="345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339" y="20474"/>
                  </a:lnTo>
                  <a:lnTo>
                    <a:pt x="744" y="19372"/>
                  </a:lnTo>
                  <a:lnTo>
                    <a:pt x="1148" y="18314"/>
                  </a:lnTo>
                  <a:lnTo>
                    <a:pt x="1601" y="17279"/>
                  </a:lnTo>
                  <a:lnTo>
                    <a:pt x="2054" y="16267"/>
                  </a:lnTo>
                  <a:lnTo>
                    <a:pt x="2540" y="15322"/>
                  </a:lnTo>
                  <a:lnTo>
                    <a:pt x="3057" y="14399"/>
                  </a:lnTo>
                  <a:lnTo>
                    <a:pt x="3591" y="13500"/>
                  </a:lnTo>
                  <a:lnTo>
                    <a:pt x="4141" y="12667"/>
                  </a:lnTo>
                  <a:lnTo>
                    <a:pt x="4724" y="11834"/>
                  </a:lnTo>
                  <a:lnTo>
                    <a:pt x="5322" y="11024"/>
                  </a:lnTo>
                  <a:lnTo>
                    <a:pt x="5937" y="10259"/>
                  </a:lnTo>
                  <a:lnTo>
                    <a:pt x="6568" y="9539"/>
                  </a:lnTo>
                  <a:lnTo>
                    <a:pt x="7232" y="8819"/>
                  </a:lnTo>
                  <a:lnTo>
                    <a:pt x="7911" y="8167"/>
                  </a:lnTo>
                  <a:lnTo>
                    <a:pt x="8591" y="7492"/>
                  </a:lnTo>
                  <a:lnTo>
                    <a:pt x="9303" y="6862"/>
                  </a:lnTo>
                  <a:lnTo>
                    <a:pt x="10031" y="6277"/>
                  </a:lnTo>
                  <a:lnTo>
                    <a:pt x="10759" y="5692"/>
                  </a:lnTo>
                  <a:lnTo>
                    <a:pt x="11519" y="5129"/>
                  </a:lnTo>
                  <a:lnTo>
                    <a:pt x="12296" y="4612"/>
                  </a:lnTo>
                  <a:lnTo>
                    <a:pt x="13089" y="4094"/>
                  </a:lnTo>
                  <a:lnTo>
                    <a:pt x="13881" y="3622"/>
                  </a:lnTo>
                  <a:lnTo>
                    <a:pt x="14691" y="3149"/>
                  </a:lnTo>
                  <a:lnTo>
                    <a:pt x="15516" y="2677"/>
                  </a:lnTo>
                  <a:lnTo>
                    <a:pt x="16357" y="2249"/>
                  </a:lnTo>
                  <a:lnTo>
                    <a:pt x="17198" y="1844"/>
                  </a:lnTo>
                  <a:lnTo>
                    <a:pt x="18056" y="1439"/>
                  </a:lnTo>
                  <a:lnTo>
                    <a:pt x="18913" y="1057"/>
                  </a:lnTo>
                  <a:lnTo>
                    <a:pt x="19803" y="675"/>
                  </a:lnTo>
                  <a:lnTo>
                    <a:pt x="20693" y="337"/>
                  </a:lnTo>
                  <a:lnTo>
                    <a:pt x="21600" y="0"/>
                  </a:lnTo>
                  <a:lnTo>
                    <a:pt x="20499" y="202"/>
                  </a:lnTo>
                  <a:lnTo>
                    <a:pt x="19415" y="449"/>
                  </a:lnTo>
                  <a:lnTo>
                    <a:pt x="18363" y="697"/>
                  </a:lnTo>
                  <a:lnTo>
                    <a:pt x="17344" y="989"/>
                  </a:lnTo>
                  <a:lnTo>
                    <a:pt x="16341" y="1327"/>
                  </a:lnTo>
                  <a:lnTo>
                    <a:pt x="15354" y="1664"/>
                  </a:lnTo>
                  <a:lnTo>
                    <a:pt x="14415" y="2025"/>
                  </a:lnTo>
                  <a:lnTo>
                    <a:pt x="13477" y="2407"/>
                  </a:lnTo>
                  <a:lnTo>
                    <a:pt x="12587" y="2834"/>
                  </a:lnTo>
                  <a:lnTo>
                    <a:pt x="11697" y="3262"/>
                  </a:lnTo>
                  <a:lnTo>
                    <a:pt x="10856" y="3757"/>
                  </a:lnTo>
                  <a:lnTo>
                    <a:pt x="10031" y="4252"/>
                  </a:lnTo>
                  <a:lnTo>
                    <a:pt x="9238" y="4792"/>
                  </a:lnTo>
                  <a:lnTo>
                    <a:pt x="8461" y="5354"/>
                  </a:lnTo>
                  <a:lnTo>
                    <a:pt x="7717" y="5962"/>
                  </a:lnTo>
                  <a:lnTo>
                    <a:pt x="7021" y="6592"/>
                  </a:lnTo>
                  <a:lnTo>
                    <a:pt x="6326" y="7267"/>
                  </a:lnTo>
                  <a:lnTo>
                    <a:pt x="5694" y="7964"/>
                  </a:lnTo>
                  <a:lnTo>
                    <a:pt x="5064" y="8684"/>
                  </a:lnTo>
                  <a:lnTo>
                    <a:pt x="4465" y="9450"/>
                  </a:lnTo>
                  <a:lnTo>
                    <a:pt x="3915" y="10259"/>
                  </a:lnTo>
                  <a:lnTo>
                    <a:pt x="3381" y="11114"/>
                  </a:lnTo>
                  <a:lnTo>
                    <a:pt x="2896" y="11969"/>
                  </a:lnTo>
                  <a:lnTo>
                    <a:pt x="2442" y="12892"/>
                  </a:lnTo>
                  <a:lnTo>
                    <a:pt x="2006" y="13859"/>
                  </a:lnTo>
                  <a:lnTo>
                    <a:pt x="1617" y="14827"/>
                  </a:lnTo>
                  <a:lnTo>
                    <a:pt x="1245" y="15862"/>
                  </a:lnTo>
                  <a:lnTo>
                    <a:pt x="922" y="16919"/>
                  </a:lnTo>
                  <a:lnTo>
                    <a:pt x="630" y="18044"/>
                  </a:lnTo>
                  <a:lnTo>
                    <a:pt x="372" y="19169"/>
                  </a:lnTo>
                  <a:lnTo>
                    <a:pt x="161" y="20362"/>
                  </a:lnTo>
                  <a:lnTo>
                    <a:pt x="0" y="21600"/>
                  </a:lnTo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388800" y="669960"/>
              <a:ext cx="5108760" cy="4078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5" y="20417"/>
                  </a:lnTo>
                  <a:lnTo>
                    <a:pt x="182" y="19293"/>
                  </a:lnTo>
                  <a:lnTo>
                    <a:pt x="350" y="18168"/>
                  </a:lnTo>
                  <a:lnTo>
                    <a:pt x="578" y="17100"/>
                  </a:lnTo>
                  <a:lnTo>
                    <a:pt x="867" y="16090"/>
                  </a:lnTo>
                  <a:lnTo>
                    <a:pt x="1202" y="15079"/>
                  </a:lnTo>
                  <a:lnTo>
                    <a:pt x="1567" y="14126"/>
                  </a:lnTo>
                  <a:lnTo>
                    <a:pt x="2009" y="13192"/>
                  </a:lnTo>
                  <a:lnTo>
                    <a:pt x="2481" y="12296"/>
                  </a:lnTo>
                  <a:lnTo>
                    <a:pt x="2983" y="11438"/>
                  </a:lnTo>
                  <a:lnTo>
                    <a:pt x="3546" y="10618"/>
                  </a:lnTo>
                  <a:lnTo>
                    <a:pt x="4125" y="9818"/>
                  </a:lnTo>
                  <a:lnTo>
                    <a:pt x="4764" y="9055"/>
                  </a:lnTo>
                  <a:lnTo>
                    <a:pt x="5418" y="8331"/>
                  </a:lnTo>
                  <a:lnTo>
                    <a:pt x="6134" y="7625"/>
                  </a:lnTo>
                  <a:lnTo>
                    <a:pt x="6865" y="6958"/>
                  </a:lnTo>
                  <a:lnTo>
                    <a:pt x="7626" y="6329"/>
                  </a:lnTo>
                  <a:lnTo>
                    <a:pt x="8417" y="5719"/>
                  </a:lnTo>
                  <a:lnTo>
                    <a:pt x="9224" y="5128"/>
                  </a:lnTo>
                  <a:lnTo>
                    <a:pt x="10076" y="4575"/>
                  </a:lnTo>
                  <a:lnTo>
                    <a:pt x="10944" y="4060"/>
                  </a:lnTo>
                  <a:lnTo>
                    <a:pt x="11827" y="3564"/>
                  </a:lnTo>
                  <a:lnTo>
                    <a:pt x="12740" y="3088"/>
                  </a:lnTo>
                  <a:lnTo>
                    <a:pt x="13669" y="2649"/>
                  </a:lnTo>
                  <a:lnTo>
                    <a:pt x="14613" y="2230"/>
                  </a:lnTo>
                  <a:lnTo>
                    <a:pt x="15571" y="1848"/>
                  </a:lnTo>
                  <a:lnTo>
                    <a:pt x="16546" y="1486"/>
                  </a:lnTo>
                  <a:lnTo>
                    <a:pt x="17550" y="1143"/>
                  </a:lnTo>
                  <a:lnTo>
                    <a:pt x="18555" y="819"/>
                  </a:lnTo>
                  <a:lnTo>
                    <a:pt x="19560" y="514"/>
                  </a:lnTo>
                  <a:lnTo>
                    <a:pt x="20579" y="247"/>
                  </a:lnTo>
                  <a:lnTo>
                    <a:pt x="21600" y="0"/>
                  </a:lnTo>
                </a:path>
              </a:pathLst>
            </a:custGeom>
            <a:noFill/>
            <a:ln w="720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6742080" y="2487600"/>
              <a:ext cx="98280" cy="9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7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4399" y="799"/>
                  </a:lnTo>
                  <a:lnTo>
                    <a:pt x="15199" y="799"/>
                  </a:lnTo>
                  <a:lnTo>
                    <a:pt x="15999" y="1599"/>
                  </a:lnTo>
                  <a:lnTo>
                    <a:pt x="17599" y="2399"/>
                  </a:lnTo>
                  <a:lnTo>
                    <a:pt x="18399" y="3199"/>
                  </a:lnTo>
                  <a:lnTo>
                    <a:pt x="19199" y="3999"/>
                  </a:lnTo>
                  <a:lnTo>
                    <a:pt x="19199" y="4799"/>
                  </a:lnTo>
                  <a:lnTo>
                    <a:pt x="19999" y="5599"/>
                  </a:lnTo>
                  <a:lnTo>
                    <a:pt x="20799" y="6399"/>
                  </a:lnTo>
                  <a:lnTo>
                    <a:pt x="20799" y="7999"/>
                  </a:lnTo>
                  <a:lnTo>
                    <a:pt x="21600" y="8799"/>
                  </a:lnTo>
                  <a:lnTo>
                    <a:pt x="21600" y="87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3599"/>
                  </a:lnTo>
                  <a:lnTo>
                    <a:pt x="20799" y="15199"/>
                  </a:lnTo>
                  <a:lnTo>
                    <a:pt x="20799" y="15999"/>
                  </a:lnTo>
                  <a:lnTo>
                    <a:pt x="19999" y="16799"/>
                  </a:lnTo>
                  <a:lnTo>
                    <a:pt x="19199" y="18399"/>
                  </a:lnTo>
                  <a:lnTo>
                    <a:pt x="18399" y="19199"/>
                  </a:lnTo>
                  <a:lnTo>
                    <a:pt x="17599" y="19999"/>
                  </a:lnTo>
                  <a:lnTo>
                    <a:pt x="16799" y="19999"/>
                  </a:lnTo>
                  <a:lnTo>
                    <a:pt x="15999" y="19999"/>
                  </a:lnTo>
                  <a:lnTo>
                    <a:pt x="15199" y="20799"/>
                  </a:lnTo>
                  <a:lnTo>
                    <a:pt x="13599" y="21600"/>
                  </a:lnTo>
                  <a:lnTo>
                    <a:pt x="12799" y="21600"/>
                  </a:lnTo>
                  <a:lnTo>
                    <a:pt x="119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199" y="21600"/>
                  </a:lnTo>
                  <a:lnTo>
                    <a:pt x="6399" y="20799"/>
                  </a:lnTo>
                  <a:lnTo>
                    <a:pt x="5599" y="20799"/>
                  </a:lnTo>
                  <a:lnTo>
                    <a:pt x="3999" y="19999"/>
                  </a:lnTo>
                  <a:lnTo>
                    <a:pt x="3199" y="19999"/>
                  </a:lnTo>
                  <a:lnTo>
                    <a:pt x="2399" y="19199"/>
                  </a:lnTo>
                  <a:lnTo>
                    <a:pt x="1599" y="18399"/>
                  </a:lnTo>
                  <a:lnTo>
                    <a:pt x="799" y="17599"/>
                  </a:lnTo>
                  <a:lnTo>
                    <a:pt x="799" y="16799"/>
                  </a:lnTo>
                  <a:lnTo>
                    <a:pt x="799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19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999"/>
                  </a:lnTo>
                  <a:lnTo>
                    <a:pt x="0" y="7199"/>
                  </a:lnTo>
                  <a:lnTo>
                    <a:pt x="799" y="6399"/>
                  </a:lnTo>
                  <a:lnTo>
                    <a:pt x="799" y="4799"/>
                  </a:lnTo>
                  <a:lnTo>
                    <a:pt x="1599" y="3999"/>
                  </a:lnTo>
                  <a:lnTo>
                    <a:pt x="2399" y="3199"/>
                  </a:lnTo>
                  <a:lnTo>
                    <a:pt x="2399" y="2399"/>
                  </a:lnTo>
                  <a:lnTo>
                    <a:pt x="3999" y="1599"/>
                  </a:lnTo>
                  <a:lnTo>
                    <a:pt x="4799" y="1599"/>
                  </a:lnTo>
                  <a:lnTo>
                    <a:pt x="5599" y="799"/>
                  </a:lnTo>
                  <a:lnTo>
                    <a:pt x="7199" y="0"/>
                  </a:lnTo>
                  <a:lnTo>
                    <a:pt x="7999" y="0"/>
                  </a:lnTo>
                  <a:lnTo>
                    <a:pt x="8799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3552840" y="1649520"/>
              <a:ext cx="101520" cy="9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28" y="0"/>
                  </a:moveTo>
                  <a:lnTo>
                    <a:pt x="10800" y="0"/>
                  </a:lnTo>
                  <a:lnTo>
                    <a:pt x="12342" y="0"/>
                  </a:lnTo>
                  <a:lnTo>
                    <a:pt x="12342" y="0"/>
                  </a:lnTo>
                  <a:lnTo>
                    <a:pt x="13885" y="0"/>
                  </a:lnTo>
                  <a:lnTo>
                    <a:pt x="14656" y="799"/>
                  </a:lnTo>
                  <a:lnTo>
                    <a:pt x="15428" y="799"/>
                  </a:lnTo>
                  <a:lnTo>
                    <a:pt x="16971" y="1599"/>
                  </a:lnTo>
                  <a:lnTo>
                    <a:pt x="17742" y="2399"/>
                  </a:lnTo>
                  <a:lnTo>
                    <a:pt x="18514" y="3199"/>
                  </a:lnTo>
                  <a:lnTo>
                    <a:pt x="19285" y="3999"/>
                  </a:lnTo>
                  <a:lnTo>
                    <a:pt x="20056" y="4799"/>
                  </a:lnTo>
                  <a:lnTo>
                    <a:pt x="20056" y="5599"/>
                  </a:lnTo>
                  <a:lnTo>
                    <a:pt x="20828" y="6399"/>
                  </a:lnTo>
                  <a:lnTo>
                    <a:pt x="21600" y="7999"/>
                  </a:lnTo>
                  <a:lnTo>
                    <a:pt x="21600" y="7999"/>
                  </a:lnTo>
                  <a:lnTo>
                    <a:pt x="21600" y="95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4399"/>
                  </a:lnTo>
                  <a:lnTo>
                    <a:pt x="21600" y="15199"/>
                  </a:lnTo>
                  <a:lnTo>
                    <a:pt x="20828" y="15999"/>
                  </a:lnTo>
                  <a:lnTo>
                    <a:pt x="20056" y="17599"/>
                  </a:lnTo>
                  <a:lnTo>
                    <a:pt x="19285" y="18399"/>
                  </a:lnTo>
                  <a:lnTo>
                    <a:pt x="18514" y="19199"/>
                  </a:lnTo>
                  <a:lnTo>
                    <a:pt x="18514" y="19199"/>
                  </a:lnTo>
                  <a:lnTo>
                    <a:pt x="16971" y="19999"/>
                  </a:lnTo>
                  <a:lnTo>
                    <a:pt x="16200" y="19999"/>
                  </a:lnTo>
                  <a:lnTo>
                    <a:pt x="15428" y="20799"/>
                  </a:lnTo>
                  <a:lnTo>
                    <a:pt x="13885" y="21600"/>
                  </a:lnTo>
                  <a:lnTo>
                    <a:pt x="13114" y="21600"/>
                  </a:lnTo>
                  <a:lnTo>
                    <a:pt x="12342" y="21600"/>
                  </a:lnTo>
                  <a:lnTo>
                    <a:pt x="11571" y="21600"/>
                  </a:lnTo>
                  <a:lnTo>
                    <a:pt x="10028" y="21600"/>
                  </a:lnTo>
                  <a:lnTo>
                    <a:pt x="9256" y="21600"/>
                  </a:lnTo>
                  <a:lnTo>
                    <a:pt x="8485" y="21600"/>
                  </a:lnTo>
                  <a:lnTo>
                    <a:pt x="6942" y="20799"/>
                  </a:lnTo>
                  <a:lnTo>
                    <a:pt x="6171" y="20799"/>
                  </a:lnTo>
                  <a:lnTo>
                    <a:pt x="5400" y="19999"/>
                  </a:lnTo>
                  <a:lnTo>
                    <a:pt x="3856" y="19199"/>
                  </a:lnTo>
                  <a:lnTo>
                    <a:pt x="3085" y="19199"/>
                  </a:lnTo>
                  <a:lnTo>
                    <a:pt x="2314" y="18399"/>
                  </a:lnTo>
                  <a:lnTo>
                    <a:pt x="1542" y="17599"/>
                  </a:lnTo>
                  <a:lnTo>
                    <a:pt x="1542" y="16799"/>
                  </a:lnTo>
                  <a:lnTo>
                    <a:pt x="771" y="15999"/>
                  </a:lnTo>
                  <a:lnTo>
                    <a:pt x="771" y="14399"/>
                  </a:lnTo>
                  <a:lnTo>
                    <a:pt x="0" y="13599"/>
                  </a:lnTo>
                  <a:lnTo>
                    <a:pt x="0" y="127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999"/>
                  </a:lnTo>
                  <a:lnTo>
                    <a:pt x="771" y="7199"/>
                  </a:lnTo>
                  <a:lnTo>
                    <a:pt x="771" y="6399"/>
                  </a:lnTo>
                  <a:lnTo>
                    <a:pt x="1542" y="5599"/>
                  </a:lnTo>
                  <a:lnTo>
                    <a:pt x="2314" y="3999"/>
                  </a:lnTo>
                  <a:lnTo>
                    <a:pt x="3085" y="3199"/>
                  </a:lnTo>
                  <a:lnTo>
                    <a:pt x="3856" y="2399"/>
                  </a:lnTo>
                  <a:lnTo>
                    <a:pt x="4628" y="1599"/>
                  </a:lnTo>
                  <a:lnTo>
                    <a:pt x="5400" y="1599"/>
                  </a:lnTo>
                  <a:lnTo>
                    <a:pt x="6171" y="799"/>
                  </a:lnTo>
                  <a:lnTo>
                    <a:pt x="7714" y="0"/>
                  </a:lnTo>
                  <a:lnTo>
                    <a:pt x="8485" y="0"/>
                  </a:lnTo>
                  <a:lnTo>
                    <a:pt x="10028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075200" y="1550880"/>
              <a:ext cx="96840" cy="1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99" y="0"/>
                  </a:moveTo>
                  <a:lnTo>
                    <a:pt x="10399" y="0"/>
                  </a:lnTo>
                  <a:lnTo>
                    <a:pt x="111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4399" y="771"/>
                  </a:lnTo>
                  <a:lnTo>
                    <a:pt x="15199" y="771"/>
                  </a:lnTo>
                  <a:lnTo>
                    <a:pt x="16799" y="1542"/>
                  </a:lnTo>
                  <a:lnTo>
                    <a:pt x="17599" y="2314"/>
                  </a:lnTo>
                  <a:lnTo>
                    <a:pt x="18399" y="3085"/>
                  </a:lnTo>
                  <a:lnTo>
                    <a:pt x="19199" y="3856"/>
                  </a:lnTo>
                  <a:lnTo>
                    <a:pt x="19999" y="4628"/>
                  </a:lnTo>
                  <a:lnTo>
                    <a:pt x="19999" y="5400"/>
                  </a:lnTo>
                  <a:lnTo>
                    <a:pt x="20799" y="6171"/>
                  </a:lnTo>
                  <a:lnTo>
                    <a:pt x="21600" y="7714"/>
                  </a:lnTo>
                  <a:lnTo>
                    <a:pt x="21600" y="8485"/>
                  </a:lnTo>
                  <a:lnTo>
                    <a:pt x="21600" y="10028"/>
                  </a:lnTo>
                  <a:lnTo>
                    <a:pt x="21600" y="10800"/>
                  </a:lnTo>
                  <a:lnTo>
                    <a:pt x="21600" y="12342"/>
                  </a:lnTo>
                  <a:lnTo>
                    <a:pt x="21600" y="13114"/>
                  </a:lnTo>
                  <a:lnTo>
                    <a:pt x="21600" y="14656"/>
                  </a:lnTo>
                  <a:lnTo>
                    <a:pt x="20799" y="14656"/>
                  </a:lnTo>
                  <a:lnTo>
                    <a:pt x="20799" y="15428"/>
                  </a:lnTo>
                  <a:lnTo>
                    <a:pt x="19999" y="16971"/>
                  </a:lnTo>
                  <a:lnTo>
                    <a:pt x="19199" y="17742"/>
                  </a:lnTo>
                  <a:lnTo>
                    <a:pt x="18399" y="18514"/>
                  </a:lnTo>
                  <a:lnTo>
                    <a:pt x="17599" y="19285"/>
                  </a:lnTo>
                  <a:lnTo>
                    <a:pt x="16799" y="20056"/>
                  </a:lnTo>
                  <a:lnTo>
                    <a:pt x="15999" y="20056"/>
                  </a:lnTo>
                  <a:lnTo>
                    <a:pt x="15199" y="20828"/>
                  </a:lnTo>
                  <a:lnTo>
                    <a:pt x="13599" y="21600"/>
                  </a:lnTo>
                  <a:lnTo>
                    <a:pt x="12799" y="21600"/>
                  </a:lnTo>
                  <a:lnTo>
                    <a:pt x="119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999" y="21600"/>
                  </a:lnTo>
                  <a:lnTo>
                    <a:pt x="6399" y="20828"/>
                  </a:lnTo>
                  <a:lnTo>
                    <a:pt x="5599" y="20828"/>
                  </a:lnTo>
                  <a:lnTo>
                    <a:pt x="4799" y="20056"/>
                  </a:lnTo>
                  <a:lnTo>
                    <a:pt x="3199" y="19285"/>
                  </a:lnTo>
                  <a:lnTo>
                    <a:pt x="2399" y="18514"/>
                  </a:lnTo>
                  <a:lnTo>
                    <a:pt x="1599" y="17742"/>
                  </a:lnTo>
                  <a:lnTo>
                    <a:pt x="799" y="16971"/>
                  </a:lnTo>
                  <a:lnTo>
                    <a:pt x="799" y="16200"/>
                  </a:lnTo>
                  <a:lnTo>
                    <a:pt x="0" y="15428"/>
                  </a:lnTo>
                  <a:lnTo>
                    <a:pt x="0" y="14656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0" y="6942"/>
                  </a:lnTo>
                  <a:lnTo>
                    <a:pt x="0" y="6171"/>
                  </a:lnTo>
                  <a:lnTo>
                    <a:pt x="799" y="5400"/>
                  </a:lnTo>
                  <a:lnTo>
                    <a:pt x="1599" y="3856"/>
                  </a:lnTo>
                  <a:lnTo>
                    <a:pt x="1599" y="3085"/>
                  </a:lnTo>
                  <a:lnTo>
                    <a:pt x="3199" y="2314"/>
                  </a:lnTo>
                  <a:lnTo>
                    <a:pt x="3999" y="1542"/>
                  </a:lnTo>
                  <a:lnTo>
                    <a:pt x="4799" y="1542"/>
                  </a:lnTo>
                  <a:lnTo>
                    <a:pt x="5599" y="771"/>
                  </a:lnTo>
                  <a:lnTo>
                    <a:pt x="7199" y="0"/>
                  </a:lnTo>
                  <a:lnTo>
                    <a:pt x="7999" y="0"/>
                  </a:lnTo>
                  <a:lnTo>
                    <a:pt x="959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5424480" y="2048040"/>
              <a:ext cx="104760" cy="10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937" y="0"/>
                  </a:moveTo>
                  <a:lnTo>
                    <a:pt x="10427" y="0"/>
                  </a:lnTo>
                  <a:lnTo>
                    <a:pt x="11172" y="0"/>
                  </a:lnTo>
                  <a:lnTo>
                    <a:pt x="12661" y="0"/>
                  </a:lnTo>
                  <a:lnTo>
                    <a:pt x="13406" y="0"/>
                  </a:lnTo>
                  <a:lnTo>
                    <a:pt x="14896" y="0"/>
                  </a:lnTo>
                  <a:lnTo>
                    <a:pt x="15641" y="771"/>
                  </a:lnTo>
                  <a:lnTo>
                    <a:pt x="16385" y="1542"/>
                  </a:lnTo>
                  <a:lnTo>
                    <a:pt x="17875" y="2314"/>
                  </a:lnTo>
                  <a:lnTo>
                    <a:pt x="18620" y="3085"/>
                  </a:lnTo>
                  <a:lnTo>
                    <a:pt x="19365" y="3085"/>
                  </a:lnTo>
                  <a:lnTo>
                    <a:pt x="19365" y="4628"/>
                  </a:lnTo>
                  <a:lnTo>
                    <a:pt x="19365" y="5400"/>
                  </a:lnTo>
                  <a:lnTo>
                    <a:pt x="20110" y="6171"/>
                  </a:lnTo>
                  <a:lnTo>
                    <a:pt x="20855" y="7714"/>
                  </a:lnTo>
                  <a:lnTo>
                    <a:pt x="20855" y="8485"/>
                  </a:lnTo>
                  <a:lnTo>
                    <a:pt x="20855" y="8485"/>
                  </a:lnTo>
                  <a:lnTo>
                    <a:pt x="21600" y="10028"/>
                  </a:lnTo>
                  <a:lnTo>
                    <a:pt x="21600" y="11571"/>
                  </a:lnTo>
                  <a:lnTo>
                    <a:pt x="20855" y="12342"/>
                  </a:lnTo>
                  <a:lnTo>
                    <a:pt x="20855" y="13885"/>
                  </a:lnTo>
                  <a:lnTo>
                    <a:pt x="20110" y="14656"/>
                  </a:lnTo>
                  <a:lnTo>
                    <a:pt x="20110" y="15428"/>
                  </a:lnTo>
                  <a:lnTo>
                    <a:pt x="19365" y="16971"/>
                  </a:lnTo>
                  <a:lnTo>
                    <a:pt x="19365" y="17742"/>
                  </a:lnTo>
                  <a:lnTo>
                    <a:pt x="18620" y="18514"/>
                  </a:lnTo>
                  <a:lnTo>
                    <a:pt x="17875" y="19285"/>
                  </a:lnTo>
                  <a:lnTo>
                    <a:pt x="17130" y="20056"/>
                  </a:lnTo>
                  <a:lnTo>
                    <a:pt x="16385" y="20056"/>
                  </a:lnTo>
                  <a:lnTo>
                    <a:pt x="15641" y="20828"/>
                  </a:lnTo>
                  <a:lnTo>
                    <a:pt x="14151" y="21600"/>
                  </a:lnTo>
                  <a:lnTo>
                    <a:pt x="13406" y="21600"/>
                  </a:lnTo>
                  <a:lnTo>
                    <a:pt x="11916" y="21600"/>
                  </a:lnTo>
                  <a:lnTo>
                    <a:pt x="10427" y="21600"/>
                  </a:lnTo>
                  <a:lnTo>
                    <a:pt x="9682" y="21600"/>
                  </a:lnTo>
                  <a:lnTo>
                    <a:pt x="8192" y="21600"/>
                  </a:lnTo>
                  <a:lnTo>
                    <a:pt x="8192" y="21600"/>
                  </a:lnTo>
                  <a:lnTo>
                    <a:pt x="7448" y="21600"/>
                  </a:lnTo>
                  <a:lnTo>
                    <a:pt x="5958" y="20828"/>
                  </a:lnTo>
                  <a:lnTo>
                    <a:pt x="5213" y="20056"/>
                  </a:lnTo>
                  <a:lnTo>
                    <a:pt x="4468" y="19285"/>
                  </a:lnTo>
                  <a:lnTo>
                    <a:pt x="3724" y="18514"/>
                  </a:lnTo>
                  <a:lnTo>
                    <a:pt x="2234" y="18514"/>
                  </a:lnTo>
                  <a:lnTo>
                    <a:pt x="1489" y="16971"/>
                  </a:lnTo>
                  <a:lnTo>
                    <a:pt x="1489" y="16200"/>
                  </a:lnTo>
                  <a:lnTo>
                    <a:pt x="744" y="15428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800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0" y="7714"/>
                  </a:lnTo>
                  <a:lnTo>
                    <a:pt x="744" y="6942"/>
                  </a:lnTo>
                  <a:lnTo>
                    <a:pt x="744" y="6171"/>
                  </a:lnTo>
                  <a:lnTo>
                    <a:pt x="1489" y="4628"/>
                  </a:lnTo>
                  <a:lnTo>
                    <a:pt x="2234" y="3856"/>
                  </a:lnTo>
                  <a:lnTo>
                    <a:pt x="2979" y="3085"/>
                  </a:lnTo>
                  <a:lnTo>
                    <a:pt x="3724" y="2314"/>
                  </a:lnTo>
                  <a:lnTo>
                    <a:pt x="4468" y="1542"/>
                  </a:lnTo>
                  <a:lnTo>
                    <a:pt x="5213" y="1542"/>
                  </a:lnTo>
                  <a:lnTo>
                    <a:pt x="6703" y="771"/>
                  </a:lnTo>
                  <a:lnTo>
                    <a:pt x="7448" y="0"/>
                  </a:lnTo>
                  <a:lnTo>
                    <a:pt x="8192" y="0"/>
                  </a:lnTo>
                  <a:lnTo>
                    <a:pt x="8937" y="0"/>
                  </a:lnTo>
                </a:path>
              </a:pathLst>
            </a:cu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6059520" y="1536840"/>
              <a:ext cx="96840" cy="9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3599" y="0"/>
                  </a:lnTo>
                  <a:lnTo>
                    <a:pt x="15199" y="799"/>
                  </a:lnTo>
                  <a:lnTo>
                    <a:pt x="15999" y="799"/>
                  </a:lnTo>
                  <a:lnTo>
                    <a:pt x="16799" y="1599"/>
                  </a:lnTo>
                  <a:lnTo>
                    <a:pt x="18399" y="2399"/>
                  </a:lnTo>
                  <a:lnTo>
                    <a:pt x="19199" y="3199"/>
                  </a:lnTo>
                  <a:lnTo>
                    <a:pt x="19999" y="3999"/>
                  </a:lnTo>
                  <a:lnTo>
                    <a:pt x="20799" y="4799"/>
                  </a:lnTo>
                  <a:lnTo>
                    <a:pt x="20799" y="5599"/>
                  </a:lnTo>
                  <a:lnTo>
                    <a:pt x="20799" y="63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95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4399"/>
                  </a:lnTo>
                  <a:lnTo>
                    <a:pt x="20799" y="15199"/>
                  </a:lnTo>
                  <a:lnTo>
                    <a:pt x="20799" y="15999"/>
                  </a:lnTo>
                  <a:lnTo>
                    <a:pt x="20799" y="17599"/>
                  </a:lnTo>
                  <a:lnTo>
                    <a:pt x="19999" y="18399"/>
                  </a:lnTo>
                  <a:lnTo>
                    <a:pt x="19999" y="19199"/>
                  </a:lnTo>
                  <a:lnTo>
                    <a:pt x="18399" y="19999"/>
                  </a:lnTo>
                  <a:lnTo>
                    <a:pt x="17599" y="20799"/>
                  </a:lnTo>
                  <a:lnTo>
                    <a:pt x="16799" y="20799"/>
                  </a:lnTo>
                  <a:lnTo>
                    <a:pt x="15999" y="20799"/>
                  </a:lnTo>
                  <a:lnTo>
                    <a:pt x="14399" y="21600"/>
                  </a:lnTo>
                  <a:lnTo>
                    <a:pt x="13599" y="21600"/>
                  </a:lnTo>
                  <a:lnTo>
                    <a:pt x="119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199" y="21600"/>
                  </a:lnTo>
                  <a:lnTo>
                    <a:pt x="6399" y="20799"/>
                  </a:lnTo>
                  <a:lnTo>
                    <a:pt x="4799" y="20799"/>
                  </a:lnTo>
                  <a:lnTo>
                    <a:pt x="3999" y="19999"/>
                  </a:lnTo>
                  <a:lnTo>
                    <a:pt x="3199" y="19199"/>
                  </a:lnTo>
                  <a:lnTo>
                    <a:pt x="2399" y="19199"/>
                  </a:lnTo>
                  <a:lnTo>
                    <a:pt x="1599" y="17599"/>
                  </a:lnTo>
                  <a:lnTo>
                    <a:pt x="1599" y="16799"/>
                  </a:lnTo>
                  <a:lnTo>
                    <a:pt x="799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27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799" y="7199"/>
                  </a:lnTo>
                  <a:lnTo>
                    <a:pt x="799" y="6399"/>
                  </a:lnTo>
                  <a:lnTo>
                    <a:pt x="1599" y="5599"/>
                  </a:lnTo>
                  <a:lnTo>
                    <a:pt x="2399" y="3999"/>
                  </a:lnTo>
                  <a:lnTo>
                    <a:pt x="2399" y="3199"/>
                  </a:lnTo>
                  <a:lnTo>
                    <a:pt x="3999" y="2399"/>
                  </a:lnTo>
                  <a:lnTo>
                    <a:pt x="4799" y="1599"/>
                  </a:lnTo>
                  <a:lnTo>
                    <a:pt x="5599" y="1599"/>
                  </a:lnTo>
                  <a:lnTo>
                    <a:pt x="6399" y="799"/>
                  </a:lnTo>
                  <a:lnTo>
                    <a:pt x="7999" y="0"/>
                  </a:lnTo>
                  <a:lnTo>
                    <a:pt x="8799" y="0"/>
                  </a:lnTo>
                  <a:lnTo>
                    <a:pt x="9599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2617920" y="1522440"/>
              <a:ext cx="96840" cy="9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4399" y="0"/>
                  </a:lnTo>
                  <a:lnTo>
                    <a:pt x="15199" y="0"/>
                  </a:lnTo>
                  <a:lnTo>
                    <a:pt x="15999" y="799"/>
                  </a:lnTo>
                  <a:lnTo>
                    <a:pt x="17599" y="1599"/>
                  </a:lnTo>
                  <a:lnTo>
                    <a:pt x="18399" y="2399"/>
                  </a:lnTo>
                  <a:lnTo>
                    <a:pt x="18399" y="3199"/>
                  </a:lnTo>
                  <a:lnTo>
                    <a:pt x="19199" y="3199"/>
                  </a:lnTo>
                  <a:lnTo>
                    <a:pt x="19999" y="4799"/>
                  </a:lnTo>
                  <a:lnTo>
                    <a:pt x="19999" y="5599"/>
                  </a:lnTo>
                  <a:lnTo>
                    <a:pt x="20799" y="63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95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4399"/>
                  </a:lnTo>
                  <a:lnTo>
                    <a:pt x="20799" y="15199"/>
                  </a:lnTo>
                  <a:lnTo>
                    <a:pt x="20799" y="15999"/>
                  </a:lnTo>
                  <a:lnTo>
                    <a:pt x="19999" y="17599"/>
                  </a:lnTo>
                  <a:lnTo>
                    <a:pt x="19199" y="18399"/>
                  </a:lnTo>
                  <a:lnTo>
                    <a:pt x="18399" y="19199"/>
                  </a:lnTo>
                  <a:lnTo>
                    <a:pt x="18399" y="19999"/>
                  </a:lnTo>
                  <a:lnTo>
                    <a:pt x="17599" y="20799"/>
                  </a:lnTo>
                  <a:lnTo>
                    <a:pt x="16799" y="20799"/>
                  </a:lnTo>
                  <a:lnTo>
                    <a:pt x="15999" y="20799"/>
                  </a:lnTo>
                  <a:lnTo>
                    <a:pt x="14399" y="21600"/>
                  </a:lnTo>
                  <a:lnTo>
                    <a:pt x="13599" y="21600"/>
                  </a:lnTo>
                  <a:lnTo>
                    <a:pt x="127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999" y="21600"/>
                  </a:lnTo>
                  <a:lnTo>
                    <a:pt x="7199" y="20799"/>
                  </a:lnTo>
                  <a:lnTo>
                    <a:pt x="6399" y="20799"/>
                  </a:lnTo>
                  <a:lnTo>
                    <a:pt x="5599" y="20799"/>
                  </a:lnTo>
                  <a:lnTo>
                    <a:pt x="3999" y="19999"/>
                  </a:lnTo>
                  <a:lnTo>
                    <a:pt x="3199" y="19199"/>
                  </a:lnTo>
                  <a:lnTo>
                    <a:pt x="2399" y="18399"/>
                  </a:lnTo>
                  <a:lnTo>
                    <a:pt x="1599" y="17599"/>
                  </a:lnTo>
                  <a:lnTo>
                    <a:pt x="1599" y="16799"/>
                  </a:lnTo>
                  <a:lnTo>
                    <a:pt x="799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27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199"/>
                  </a:lnTo>
                  <a:lnTo>
                    <a:pt x="799" y="6399"/>
                  </a:lnTo>
                  <a:lnTo>
                    <a:pt x="1599" y="5599"/>
                  </a:lnTo>
                  <a:lnTo>
                    <a:pt x="2399" y="3999"/>
                  </a:lnTo>
                  <a:lnTo>
                    <a:pt x="3199" y="3199"/>
                  </a:lnTo>
                  <a:lnTo>
                    <a:pt x="3999" y="2399"/>
                  </a:lnTo>
                  <a:lnTo>
                    <a:pt x="4799" y="1599"/>
                  </a:lnTo>
                  <a:lnTo>
                    <a:pt x="5599" y="1599"/>
                  </a:lnTo>
                  <a:lnTo>
                    <a:pt x="6399" y="799"/>
                  </a:lnTo>
                  <a:lnTo>
                    <a:pt x="7199" y="0"/>
                  </a:lnTo>
                  <a:lnTo>
                    <a:pt x="7999" y="0"/>
                  </a:lnTo>
                  <a:lnTo>
                    <a:pt x="9599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5335560" y="1374840"/>
              <a:ext cx="104760" cy="10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937" y="0"/>
                  </a:moveTo>
                  <a:lnTo>
                    <a:pt x="10427" y="0"/>
                  </a:lnTo>
                  <a:lnTo>
                    <a:pt x="11172" y="0"/>
                  </a:lnTo>
                  <a:lnTo>
                    <a:pt x="12661" y="0"/>
                  </a:lnTo>
                  <a:lnTo>
                    <a:pt x="13406" y="0"/>
                  </a:lnTo>
                  <a:lnTo>
                    <a:pt x="14896" y="771"/>
                  </a:lnTo>
                  <a:lnTo>
                    <a:pt x="15641" y="771"/>
                  </a:lnTo>
                  <a:lnTo>
                    <a:pt x="16385" y="1542"/>
                  </a:lnTo>
                  <a:lnTo>
                    <a:pt x="17875" y="2314"/>
                  </a:lnTo>
                  <a:lnTo>
                    <a:pt x="18620" y="3085"/>
                  </a:lnTo>
                  <a:lnTo>
                    <a:pt x="19365" y="3856"/>
                  </a:lnTo>
                  <a:lnTo>
                    <a:pt x="20110" y="4628"/>
                  </a:lnTo>
                  <a:lnTo>
                    <a:pt x="20110" y="5400"/>
                  </a:lnTo>
                  <a:lnTo>
                    <a:pt x="20110" y="6171"/>
                  </a:lnTo>
                  <a:lnTo>
                    <a:pt x="20855" y="7714"/>
                  </a:lnTo>
                  <a:lnTo>
                    <a:pt x="20855" y="8485"/>
                  </a:lnTo>
                  <a:lnTo>
                    <a:pt x="20855" y="10028"/>
                  </a:lnTo>
                  <a:lnTo>
                    <a:pt x="21600" y="10800"/>
                  </a:lnTo>
                  <a:lnTo>
                    <a:pt x="21600" y="12342"/>
                  </a:lnTo>
                  <a:lnTo>
                    <a:pt x="20855" y="13114"/>
                  </a:lnTo>
                  <a:lnTo>
                    <a:pt x="20855" y="14656"/>
                  </a:lnTo>
                  <a:lnTo>
                    <a:pt x="20110" y="15428"/>
                  </a:lnTo>
                  <a:lnTo>
                    <a:pt x="20110" y="16200"/>
                  </a:lnTo>
                  <a:lnTo>
                    <a:pt x="20110" y="16971"/>
                  </a:lnTo>
                  <a:lnTo>
                    <a:pt x="19365" y="17742"/>
                  </a:lnTo>
                  <a:lnTo>
                    <a:pt x="18620" y="18514"/>
                  </a:lnTo>
                  <a:lnTo>
                    <a:pt x="17875" y="19285"/>
                  </a:lnTo>
                  <a:lnTo>
                    <a:pt x="17130" y="20056"/>
                  </a:lnTo>
                  <a:lnTo>
                    <a:pt x="16385" y="20056"/>
                  </a:lnTo>
                  <a:lnTo>
                    <a:pt x="15641" y="20828"/>
                  </a:lnTo>
                  <a:lnTo>
                    <a:pt x="14151" y="21600"/>
                  </a:lnTo>
                  <a:lnTo>
                    <a:pt x="13406" y="21600"/>
                  </a:lnTo>
                  <a:lnTo>
                    <a:pt x="11916" y="21600"/>
                  </a:lnTo>
                  <a:lnTo>
                    <a:pt x="11172" y="21600"/>
                  </a:lnTo>
                  <a:lnTo>
                    <a:pt x="9682" y="21600"/>
                  </a:lnTo>
                  <a:lnTo>
                    <a:pt x="8937" y="21600"/>
                  </a:lnTo>
                  <a:lnTo>
                    <a:pt x="8192" y="21600"/>
                  </a:lnTo>
                  <a:lnTo>
                    <a:pt x="7448" y="20828"/>
                  </a:lnTo>
                  <a:lnTo>
                    <a:pt x="5958" y="20828"/>
                  </a:lnTo>
                  <a:lnTo>
                    <a:pt x="5213" y="20056"/>
                  </a:lnTo>
                  <a:lnTo>
                    <a:pt x="4468" y="19285"/>
                  </a:lnTo>
                  <a:lnTo>
                    <a:pt x="3724" y="18514"/>
                  </a:lnTo>
                  <a:lnTo>
                    <a:pt x="2234" y="17742"/>
                  </a:lnTo>
                  <a:lnTo>
                    <a:pt x="2234" y="16971"/>
                  </a:lnTo>
                  <a:lnTo>
                    <a:pt x="1489" y="16971"/>
                  </a:lnTo>
                  <a:lnTo>
                    <a:pt x="744" y="16200"/>
                  </a:lnTo>
                  <a:lnTo>
                    <a:pt x="744" y="14656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8485"/>
                  </a:lnTo>
                  <a:lnTo>
                    <a:pt x="744" y="6942"/>
                  </a:lnTo>
                  <a:lnTo>
                    <a:pt x="744" y="6171"/>
                  </a:lnTo>
                  <a:lnTo>
                    <a:pt x="1489" y="5400"/>
                  </a:lnTo>
                  <a:lnTo>
                    <a:pt x="2234" y="3856"/>
                  </a:lnTo>
                  <a:lnTo>
                    <a:pt x="2979" y="3085"/>
                  </a:lnTo>
                  <a:lnTo>
                    <a:pt x="3724" y="2314"/>
                  </a:lnTo>
                  <a:lnTo>
                    <a:pt x="4468" y="1542"/>
                  </a:lnTo>
                  <a:lnTo>
                    <a:pt x="5213" y="1542"/>
                  </a:lnTo>
                  <a:lnTo>
                    <a:pt x="6703" y="771"/>
                  </a:lnTo>
                  <a:lnTo>
                    <a:pt x="7448" y="0"/>
                  </a:lnTo>
                  <a:lnTo>
                    <a:pt x="8192" y="0"/>
                  </a:lnTo>
                  <a:lnTo>
                    <a:pt x="8937" y="0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762440" y="838080"/>
              <a:ext cx="96840" cy="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799" y="0"/>
                  </a:moveTo>
                  <a:lnTo>
                    <a:pt x="10399" y="0"/>
                  </a:lnTo>
                  <a:lnTo>
                    <a:pt x="11999" y="0"/>
                  </a:lnTo>
                  <a:lnTo>
                    <a:pt x="12799" y="0"/>
                  </a:lnTo>
                  <a:lnTo>
                    <a:pt x="13599" y="0"/>
                  </a:lnTo>
                  <a:lnTo>
                    <a:pt x="14399" y="799"/>
                  </a:lnTo>
                  <a:lnTo>
                    <a:pt x="15199" y="799"/>
                  </a:lnTo>
                  <a:lnTo>
                    <a:pt x="15999" y="1599"/>
                  </a:lnTo>
                  <a:lnTo>
                    <a:pt x="17599" y="2399"/>
                  </a:lnTo>
                  <a:lnTo>
                    <a:pt x="18399" y="2399"/>
                  </a:lnTo>
                  <a:lnTo>
                    <a:pt x="19199" y="3999"/>
                  </a:lnTo>
                  <a:lnTo>
                    <a:pt x="19999" y="4799"/>
                  </a:lnTo>
                  <a:lnTo>
                    <a:pt x="19999" y="5599"/>
                  </a:lnTo>
                  <a:lnTo>
                    <a:pt x="20799" y="6399"/>
                  </a:lnTo>
                  <a:lnTo>
                    <a:pt x="21600" y="71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3599"/>
                  </a:lnTo>
                  <a:lnTo>
                    <a:pt x="20799" y="15199"/>
                  </a:lnTo>
                  <a:lnTo>
                    <a:pt x="20799" y="15999"/>
                  </a:lnTo>
                  <a:lnTo>
                    <a:pt x="19999" y="17599"/>
                  </a:lnTo>
                  <a:lnTo>
                    <a:pt x="19199" y="17599"/>
                  </a:lnTo>
                  <a:lnTo>
                    <a:pt x="18399" y="18399"/>
                  </a:lnTo>
                  <a:lnTo>
                    <a:pt x="17599" y="19199"/>
                  </a:lnTo>
                  <a:lnTo>
                    <a:pt x="16799" y="19999"/>
                  </a:lnTo>
                  <a:lnTo>
                    <a:pt x="15999" y="19999"/>
                  </a:lnTo>
                  <a:lnTo>
                    <a:pt x="15199" y="20799"/>
                  </a:lnTo>
                  <a:lnTo>
                    <a:pt x="14399" y="21600"/>
                  </a:lnTo>
                  <a:lnTo>
                    <a:pt x="13599" y="21600"/>
                  </a:lnTo>
                  <a:lnTo>
                    <a:pt x="11999" y="21600"/>
                  </a:lnTo>
                  <a:lnTo>
                    <a:pt x="11199" y="21600"/>
                  </a:lnTo>
                  <a:lnTo>
                    <a:pt x="9599" y="21600"/>
                  </a:lnTo>
                  <a:lnTo>
                    <a:pt x="8799" y="21600"/>
                  </a:lnTo>
                  <a:lnTo>
                    <a:pt x="7199" y="21600"/>
                  </a:lnTo>
                  <a:lnTo>
                    <a:pt x="6399" y="20799"/>
                  </a:lnTo>
                  <a:lnTo>
                    <a:pt x="5599" y="20799"/>
                  </a:lnTo>
                  <a:lnTo>
                    <a:pt x="3999" y="19999"/>
                  </a:lnTo>
                  <a:lnTo>
                    <a:pt x="3199" y="19199"/>
                  </a:lnTo>
                  <a:lnTo>
                    <a:pt x="3199" y="19199"/>
                  </a:lnTo>
                  <a:lnTo>
                    <a:pt x="2399" y="17599"/>
                  </a:lnTo>
                  <a:lnTo>
                    <a:pt x="1599" y="17599"/>
                  </a:lnTo>
                  <a:lnTo>
                    <a:pt x="1599" y="16799"/>
                  </a:lnTo>
                  <a:lnTo>
                    <a:pt x="799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27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999"/>
                  </a:lnTo>
                  <a:lnTo>
                    <a:pt x="0" y="6399"/>
                  </a:lnTo>
                  <a:lnTo>
                    <a:pt x="799" y="6399"/>
                  </a:lnTo>
                  <a:lnTo>
                    <a:pt x="1599" y="5599"/>
                  </a:lnTo>
                  <a:lnTo>
                    <a:pt x="2399" y="3999"/>
                  </a:lnTo>
                  <a:lnTo>
                    <a:pt x="3199" y="3199"/>
                  </a:lnTo>
                  <a:lnTo>
                    <a:pt x="3199" y="2399"/>
                  </a:lnTo>
                  <a:lnTo>
                    <a:pt x="3999" y="1599"/>
                  </a:lnTo>
                  <a:lnTo>
                    <a:pt x="4799" y="1599"/>
                  </a:lnTo>
                  <a:lnTo>
                    <a:pt x="5599" y="799"/>
                  </a:lnTo>
                  <a:lnTo>
                    <a:pt x="7199" y="0"/>
                  </a:lnTo>
                  <a:lnTo>
                    <a:pt x="7999" y="0"/>
                  </a:lnTo>
                  <a:lnTo>
                    <a:pt x="8799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341280" y="4734000"/>
              <a:ext cx="101520" cy="9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56" y="0"/>
                  </a:moveTo>
                  <a:lnTo>
                    <a:pt x="10028" y="0"/>
                  </a:lnTo>
                  <a:lnTo>
                    <a:pt x="11571" y="0"/>
                  </a:lnTo>
                  <a:lnTo>
                    <a:pt x="12342" y="0"/>
                  </a:lnTo>
                  <a:lnTo>
                    <a:pt x="13114" y="0"/>
                  </a:lnTo>
                  <a:lnTo>
                    <a:pt x="14656" y="799"/>
                  </a:lnTo>
                  <a:lnTo>
                    <a:pt x="15428" y="799"/>
                  </a:lnTo>
                  <a:lnTo>
                    <a:pt x="16971" y="1599"/>
                  </a:lnTo>
                  <a:lnTo>
                    <a:pt x="17742" y="2399"/>
                  </a:lnTo>
                  <a:lnTo>
                    <a:pt x="18514" y="3199"/>
                  </a:lnTo>
                  <a:lnTo>
                    <a:pt x="19285" y="3199"/>
                  </a:lnTo>
                  <a:lnTo>
                    <a:pt x="20056" y="3999"/>
                  </a:lnTo>
                  <a:lnTo>
                    <a:pt x="20056" y="4799"/>
                  </a:lnTo>
                  <a:lnTo>
                    <a:pt x="20828" y="5599"/>
                  </a:lnTo>
                  <a:lnTo>
                    <a:pt x="21600" y="71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4399"/>
                  </a:lnTo>
                  <a:lnTo>
                    <a:pt x="20828" y="14399"/>
                  </a:lnTo>
                  <a:lnTo>
                    <a:pt x="20828" y="15199"/>
                  </a:lnTo>
                  <a:lnTo>
                    <a:pt x="20056" y="16799"/>
                  </a:lnTo>
                  <a:lnTo>
                    <a:pt x="19285" y="17599"/>
                  </a:lnTo>
                  <a:lnTo>
                    <a:pt x="18514" y="18399"/>
                  </a:lnTo>
                  <a:lnTo>
                    <a:pt x="17742" y="19199"/>
                  </a:lnTo>
                  <a:lnTo>
                    <a:pt x="16971" y="19999"/>
                  </a:lnTo>
                  <a:lnTo>
                    <a:pt x="16200" y="19999"/>
                  </a:lnTo>
                  <a:lnTo>
                    <a:pt x="15428" y="20799"/>
                  </a:lnTo>
                  <a:lnTo>
                    <a:pt x="13885" y="21600"/>
                  </a:lnTo>
                  <a:lnTo>
                    <a:pt x="13114" y="21600"/>
                  </a:lnTo>
                  <a:lnTo>
                    <a:pt x="12342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8485" y="21600"/>
                  </a:lnTo>
                  <a:lnTo>
                    <a:pt x="6942" y="21600"/>
                  </a:lnTo>
                  <a:lnTo>
                    <a:pt x="6942" y="21600"/>
                  </a:lnTo>
                  <a:lnTo>
                    <a:pt x="6171" y="20799"/>
                  </a:lnTo>
                  <a:lnTo>
                    <a:pt x="4628" y="19999"/>
                  </a:lnTo>
                  <a:lnTo>
                    <a:pt x="3856" y="19199"/>
                  </a:lnTo>
                  <a:lnTo>
                    <a:pt x="3085" y="18399"/>
                  </a:lnTo>
                  <a:lnTo>
                    <a:pt x="2314" y="18399"/>
                  </a:lnTo>
                  <a:lnTo>
                    <a:pt x="1542" y="16799"/>
                  </a:lnTo>
                  <a:lnTo>
                    <a:pt x="1542" y="15999"/>
                  </a:lnTo>
                  <a:lnTo>
                    <a:pt x="771" y="151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19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199"/>
                  </a:lnTo>
                  <a:lnTo>
                    <a:pt x="0" y="6399"/>
                  </a:lnTo>
                  <a:lnTo>
                    <a:pt x="771" y="5599"/>
                  </a:lnTo>
                  <a:lnTo>
                    <a:pt x="1542" y="3999"/>
                  </a:lnTo>
                  <a:lnTo>
                    <a:pt x="2314" y="3199"/>
                  </a:lnTo>
                  <a:lnTo>
                    <a:pt x="2314" y="3199"/>
                  </a:lnTo>
                  <a:lnTo>
                    <a:pt x="3085" y="2399"/>
                  </a:lnTo>
                  <a:lnTo>
                    <a:pt x="4628" y="1599"/>
                  </a:lnTo>
                  <a:lnTo>
                    <a:pt x="5400" y="1599"/>
                  </a:lnTo>
                  <a:lnTo>
                    <a:pt x="6171" y="799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624800" y="2371680"/>
              <a:ext cx="101520" cy="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485" y="0"/>
                  </a:moveTo>
                  <a:lnTo>
                    <a:pt x="10028" y="0"/>
                  </a:lnTo>
                  <a:lnTo>
                    <a:pt x="11571" y="0"/>
                  </a:lnTo>
                  <a:lnTo>
                    <a:pt x="12342" y="0"/>
                  </a:lnTo>
                  <a:lnTo>
                    <a:pt x="13114" y="0"/>
                  </a:lnTo>
                  <a:lnTo>
                    <a:pt x="14656" y="799"/>
                  </a:lnTo>
                  <a:lnTo>
                    <a:pt x="15428" y="799"/>
                  </a:lnTo>
                  <a:lnTo>
                    <a:pt x="16200" y="1599"/>
                  </a:lnTo>
                  <a:lnTo>
                    <a:pt x="17742" y="2399"/>
                  </a:lnTo>
                  <a:lnTo>
                    <a:pt x="18514" y="3199"/>
                  </a:lnTo>
                  <a:lnTo>
                    <a:pt x="19285" y="3199"/>
                  </a:lnTo>
                  <a:lnTo>
                    <a:pt x="20056" y="4799"/>
                  </a:lnTo>
                  <a:lnTo>
                    <a:pt x="20056" y="5599"/>
                  </a:lnTo>
                  <a:lnTo>
                    <a:pt x="20828" y="63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95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3599"/>
                  </a:lnTo>
                  <a:lnTo>
                    <a:pt x="21600" y="15199"/>
                  </a:lnTo>
                  <a:lnTo>
                    <a:pt x="20828" y="15999"/>
                  </a:lnTo>
                  <a:lnTo>
                    <a:pt x="20056" y="16799"/>
                  </a:lnTo>
                  <a:lnTo>
                    <a:pt x="19285" y="18399"/>
                  </a:lnTo>
                  <a:lnTo>
                    <a:pt x="18514" y="19199"/>
                  </a:lnTo>
                  <a:lnTo>
                    <a:pt x="18514" y="19999"/>
                  </a:lnTo>
                  <a:lnTo>
                    <a:pt x="16971" y="20799"/>
                  </a:lnTo>
                  <a:lnTo>
                    <a:pt x="16200" y="20799"/>
                  </a:lnTo>
                  <a:lnTo>
                    <a:pt x="15428" y="21600"/>
                  </a:lnTo>
                  <a:lnTo>
                    <a:pt x="13885" y="21600"/>
                  </a:lnTo>
                  <a:lnTo>
                    <a:pt x="13114" y="21600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8485" y="21600"/>
                  </a:lnTo>
                  <a:lnTo>
                    <a:pt x="6942" y="21600"/>
                  </a:lnTo>
                  <a:lnTo>
                    <a:pt x="6942" y="21600"/>
                  </a:lnTo>
                  <a:lnTo>
                    <a:pt x="6171" y="21600"/>
                  </a:lnTo>
                  <a:lnTo>
                    <a:pt x="4628" y="20799"/>
                  </a:lnTo>
                  <a:lnTo>
                    <a:pt x="3856" y="19999"/>
                  </a:lnTo>
                  <a:lnTo>
                    <a:pt x="3085" y="19199"/>
                  </a:lnTo>
                  <a:lnTo>
                    <a:pt x="2314" y="18399"/>
                  </a:lnTo>
                  <a:lnTo>
                    <a:pt x="1542" y="17599"/>
                  </a:lnTo>
                  <a:lnTo>
                    <a:pt x="1542" y="16799"/>
                  </a:lnTo>
                  <a:lnTo>
                    <a:pt x="771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1999"/>
                  </a:lnTo>
                  <a:lnTo>
                    <a:pt x="0" y="11199"/>
                  </a:lnTo>
                  <a:lnTo>
                    <a:pt x="0" y="10399"/>
                  </a:lnTo>
                  <a:lnTo>
                    <a:pt x="0" y="9599"/>
                  </a:lnTo>
                  <a:lnTo>
                    <a:pt x="0" y="7999"/>
                  </a:lnTo>
                  <a:lnTo>
                    <a:pt x="0" y="7199"/>
                  </a:lnTo>
                  <a:lnTo>
                    <a:pt x="771" y="6399"/>
                  </a:lnTo>
                  <a:lnTo>
                    <a:pt x="1542" y="4799"/>
                  </a:lnTo>
                  <a:lnTo>
                    <a:pt x="2314" y="3999"/>
                  </a:lnTo>
                  <a:lnTo>
                    <a:pt x="3085" y="3199"/>
                  </a:lnTo>
                  <a:lnTo>
                    <a:pt x="3085" y="2399"/>
                  </a:lnTo>
                  <a:lnTo>
                    <a:pt x="4628" y="1599"/>
                  </a:lnTo>
                  <a:lnTo>
                    <a:pt x="5400" y="1599"/>
                  </a:lnTo>
                  <a:lnTo>
                    <a:pt x="6171" y="799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8485" y="0"/>
                  </a:lnTo>
                </a:path>
              </a:pathLst>
            </a:custGeom>
            <a:solidFill>
              <a:srgbClr val="84c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6889680" y="1774800"/>
              <a:ext cx="101520" cy="9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256" y="0"/>
                  </a:moveTo>
                  <a:lnTo>
                    <a:pt x="10800" y="0"/>
                  </a:lnTo>
                  <a:lnTo>
                    <a:pt x="12342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5428" y="799"/>
                  </a:lnTo>
                  <a:lnTo>
                    <a:pt x="16200" y="799"/>
                  </a:lnTo>
                  <a:lnTo>
                    <a:pt x="16200" y="1599"/>
                  </a:lnTo>
                  <a:lnTo>
                    <a:pt x="17742" y="2399"/>
                  </a:lnTo>
                  <a:lnTo>
                    <a:pt x="18514" y="3199"/>
                  </a:lnTo>
                  <a:lnTo>
                    <a:pt x="19285" y="3999"/>
                  </a:lnTo>
                  <a:lnTo>
                    <a:pt x="20056" y="4799"/>
                  </a:lnTo>
                  <a:lnTo>
                    <a:pt x="20056" y="5599"/>
                  </a:lnTo>
                  <a:lnTo>
                    <a:pt x="20828" y="6399"/>
                  </a:lnTo>
                  <a:lnTo>
                    <a:pt x="21600" y="7199"/>
                  </a:lnTo>
                  <a:lnTo>
                    <a:pt x="21600" y="7999"/>
                  </a:lnTo>
                  <a:lnTo>
                    <a:pt x="21600" y="8799"/>
                  </a:lnTo>
                  <a:lnTo>
                    <a:pt x="21600" y="10399"/>
                  </a:lnTo>
                  <a:lnTo>
                    <a:pt x="21600" y="11999"/>
                  </a:lnTo>
                  <a:lnTo>
                    <a:pt x="21600" y="12799"/>
                  </a:lnTo>
                  <a:lnTo>
                    <a:pt x="21600" y="13599"/>
                  </a:lnTo>
                  <a:lnTo>
                    <a:pt x="20828" y="15199"/>
                  </a:lnTo>
                  <a:lnTo>
                    <a:pt x="20828" y="15999"/>
                  </a:lnTo>
                  <a:lnTo>
                    <a:pt x="20056" y="16799"/>
                  </a:lnTo>
                  <a:lnTo>
                    <a:pt x="19285" y="17599"/>
                  </a:lnTo>
                  <a:lnTo>
                    <a:pt x="18514" y="18399"/>
                  </a:lnTo>
                  <a:lnTo>
                    <a:pt x="17742" y="19199"/>
                  </a:lnTo>
                  <a:lnTo>
                    <a:pt x="16971" y="19999"/>
                  </a:lnTo>
                  <a:lnTo>
                    <a:pt x="16200" y="19999"/>
                  </a:lnTo>
                  <a:lnTo>
                    <a:pt x="16200" y="20799"/>
                  </a:lnTo>
                  <a:lnTo>
                    <a:pt x="14656" y="21600"/>
                  </a:lnTo>
                  <a:lnTo>
                    <a:pt x="13885" y="21600"/>
                  </a:lnTo>
                  <a:lnTo>
                    <a:pt x="12342" y="21600"/>
                  </a:lnTo>
                  <a:lnTo>
                    <a:pt x="11571" y="21600"/>
                  </a:lnTo>
                  <a:lnTo>
                    <a:pt x="10028" y="21600"/>
                  </a:lnTo>
                  <a:lnTo>
                    <a:pt x="9256" y="21600"/>
                  </a:lnTo>
                  <a:lnTo>
                    <a:pt x="7714" y="21600"/>
                  </a:lnTo>
                  <a:lnTo>
                    <a:pt x="6942" y="21600"/>
                  </a:lnTo>
                  <a:lnTo>
                    <a:pt x="6171" y="20799"/>
                  </a:lnTo>
                  <a:lnTo>
                    <a:pt x="4628" y="19999"/>
                  </a:lnTo>
                  <a:lnTo>
                    <a:pt x="3856" y="19199"/>
                  </a:lnTo>
                  <a:lnTo>
                    <a:pt x="3085" y="18399"/>
                  </a:lnTo>
                  <a:lnTo>
                    <a:pt x="2314" y="18399"/>
                  </a:lnTo>
                  <a:lnTo>
                    <a:pt x="1542" y="17599"/>
                  </a:lnTo>
                  <a:lnTo>
                    <a:pt x="1542" y="16799"/>
                  </a:lnTo>
                  <a:lnTo>
                    <a:pt x="771" y="15999"/>
                  </a:lnTo>
                  <a:lnTo>
                    <a:pt x="0" y="14399"/>
                  </a:lnTo>
                  <a:lnTo>
                    <a:pt x="0" y="13599"/>
                  </a:lnTo>
                  <a:lnTo>
                    <a:pt x="0" y="11999"/>
                  </a:lnTo>
                  <a:lnTo>
                    <a:pt x="0" y="11199"/>
                  </a:lnTo>
                  <a:lnTo>
                    <a:pt x="0" y="9599"/>
                  </a:lnTo>
                  <a:lnTo>
                    <a:pt x="0" y="8799"/>
                  </a:lnTo>
                  <a:lnTo>
                    <a:pt x="0" y="7199"/>
                  </a:lnTo>
                  <a:lnTo>
                    <a:pt x="771" y="6399"/>
                  </a:lnTo>
                  <a:lnTo>
                    <a:pt x="771" y="6399"/>
                  </a:lnTo>
                  <a:lnTo>
                    <a:pt x="1542" y="4799"/>
                  </a:lnTo>
                  <a:lnTo>
                    <a:pt x="2314" y="3999"/>
                  </a:lnTo>
                  <a:lnTo>
                    <a:pt x="3085" y="3199"/>
                  </a:lnTo>
                  <a:lnTo>
                    <a:pt x="3856" y="2399"/>
                  </a:lnTo>
                  <a:lnTo>
                    <a:pt x="4628" y="1599"/>
                  </a:lnTo>
                  <a:lnTo>
                    <a:pt x="5400" y="1599"/>
                  </a:lnTo>
                  <a:lnTo>
                    <a:pt x="6171" y="799"/>
                  </a:lnTo>
                  <a:lnTo>
                    <a:pt x="7714" y="0"/>
                  </a:lnTo>
                  <a:lnTo>
                    <a:pt x="8485" y="0"/>
                  </a:lnTo>
                  <a:lnTo>
                    <a:pt x="925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25520" y="2868480"/>
            <a:ext cx="6796080" cy="138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 algn="ctr">
              <a:lnSpc>
                <a:spcPct val="110000"/>
              </a:lnSpc>
              <a:spcBef>
                <a:spcPts val="763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0720" algn="ctr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algn="ctr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41440" algn="ctr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»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41440">
              <a:spcBef>
                <a:spcPts val="499"/>
              </a:spcBef>
              <a:buClr>
                <a:srgbClr val="000000"/>
              </a:buClr>
              <a:buFont typeface="Winding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41440">
              <a:spcBef>
                <a:spcPts val="499"/>
              </a:spcBef>
              <a:buClr>
                <a:srgbClr val="000000"/>
              </a:buClr>
              <a:buFont typeface="Winding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25520" y="2868480"/>
            <a:ext cx="6796080" cy="138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9900"/>
                </a:solidFill>
                <a:latin typeface="Arial"/>
              </a:rPr>
              <a:t>课文名称</a:t>
            </a:r>
            <a:endParaRPr b="1" lang="en-US" sz="4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634760" y="4392720"/>
            <a:ext cx="6040440" cy="1224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1880" y="5832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课文回顾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上一节的重点内容进行回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新知识点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、课文中需掌握的生字、字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、课文中需掌握的生词、词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54040" y="2523960"/>
            <a:ext cx="64152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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79600" y="2797200"/>
            <a:ext cx="619200" cy="57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69960" y="2805120"/>
            <a:ext cx="434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79680" y="2523960"/>
            <a:ext cx="64152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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5240" y="2797200"/>
            <a:ext cx="618840" cy="579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95600" y="2805120"/>
            <a:ext cx="434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6760" y="2523960"/>
            <a:ext cx="63972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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532320" y="2797200"/>
            <a:ext cx="618840" cy="579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621240" y="2805120"/>
            <a:ext cx="4363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32400" y="2523960"/>
            <a:ext cx="64116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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557600" y="2797200"/>
            <a:ext cx="619200" cy="579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648320" y="2805120"/>
            <a:ext cx="434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57680" y="2523960"/>
            <a:ext cx="64152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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5583240" y="2797200"/>
            <a:ext cx="619200" cy="579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673600" y="2805120"/>
            <a:ext cx="4352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课文背景与知识点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背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涉及知识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11880" y="5832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课文朗读与回答问题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虑与课文相关的几个问题（读后解答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问题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问题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原文朗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27000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原文片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课文段落分析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落结构分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段落大意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要句式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0" algn="just">
              <a:lnSpc>
                <a:spcPct val="110000"/>
              </a:lnSpc>
              <a:spcBef>
                <a:spcPts val="763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11880" y="590544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中心思想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文所体现的中心思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14480" y="247680"/>
            <a:ext cx="7572240" cy="117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作业习题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28440" y="1604520"/>
            <a:ext cx="7203960" cy="4179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作业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作业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269640" algn="just">
              <a:lnSpc>
                <a:spcPct val="110000"/>
              </a:lnSpc>
              <a:spcBef>
                <a:spcPts val="763"/>
              </a:spcBef>
              <a:buClr>
                <a:srgbClr val="000000"/>
              </a:buClr>
              <a:buFont typeface="Windings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作业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84440" y="5184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240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8001000" cy="6480000"/>
            <a:chOff x="0" y="0"/>
            <a:chExt cx="8001000" cy="6480000"/>
          </a:xfrm>
        </p:grpSpPr>
        <p:sp>
          <p:nvSpPr>
            <p:cNvPr id="198" name="矩形 4"/>
            <p:cNvSpPr/>
            <p:nvPr/>
          </p:nvSpPr>
          <p:spPr>
            <a:xfrm>
              <a:off x="36108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620000"/>
              <a:ext cx="8001000" cy="48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7"/>
            <p:cNvSpPr/>
            <p:nvPr/>
          </p:nvSpPr>
          <p:spPr>
            <a:xfrm rot="20926800">
              <a:off x="1821960" y="3375000"/>
              <a:ext cx="44107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24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24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24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06Z</dcterms:created>
  <dc:creator/>
  <dc:description/>
  <dc:language>en-US</dc:language>
  <cp:lastModifiedBy/>
  <dcterms:modified xsi:type="dcterms:W3CDTF">2015-01-11T11:31:4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