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CB80-C039-40AA-9031-8503EC6D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CFA-7605-4524-B2D5-2A6AFC77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396-1FE0-4440-8374-21365293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79F-CBC1-41BA-B032-45AD60D0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B1C3-C328-4A8B-94C2-030E445F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5151-F978-40FA-A895-C2106FDD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4A1-30C1-45EB-A740-671FABFD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8CF-BCD6-4008-9949-AF1FF3DE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47A-989B-478C-9B8F-9110FE4B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BF6F-58C5-49B7-8AAB-EB30AB9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9918-07B1-4F3B-BAE4-ED8774A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B0C-9E4C-40C2-9291-8CF257BA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3358-E004-4D3E-8A5B-F9D988B9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644-F746-457B-AE69-0EDBF5AB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0ACD-9C19-40E9-93C0-63ADA694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2EB7-2E2B-4DBD-9BC2-8ABBA253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2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485-3743-462F-9B2E-180AA422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269-7CC1-4CD9-A19A-F8D0A46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E2C-D3AD-4CCE-84C0-29238457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633-B1E1-422D-A6ED-A1404B91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75C-67B6-4E82-981B-ADFB0303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83B-2C0F-4F5F-B636-241ACAD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2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187-C6C4-4786-9EC0-92442B5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8144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2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A26-6B5B-4B3B-8F78-57A192F8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AFB8-9F0C-44FC-95BC-90778E31B0C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80FC-E550-4249-9648-A9BEB8F0AFB0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Demi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quarki</a:t>
            </a: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radical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"/>
          <p:cNvSpPr/>
          <p:nvPr/>
        </p:nvSpPr>
        <p:spPr>
          <a:xfrm>
            <a:off x="7363440" y="64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transitional </a:t>
            </a: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page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a6192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0a6192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1" name=""/>
          <p:cNvSpPr/>
          <p:nvPr/>
        </p:nvSpPr>
        <p:spPr>
          <a:xfrm>
            <a:off x="7363440" y="648972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8640" y="34286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a6192"/>
                </a:solidFill>
                <a:latin typeface="Impact"/>
              </a:rPr>
              <a:t>elements</a:t>
            </a:r>
            <a:endParaRPr b="0" lang="en-US" sz="6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3" name="quarkiradical_prt" descr=""/>
          <p:cNvPicPr/>
          <p:nvPr/>
        </p:nvPicPr>
        <p:blipFill>
          <a:blip r:embed="rId1"/>
          <a:stretch/>
        </p:blipFill>
        <p:spPr>
          <a:xfrm>
            <a:off x="6891480" y="4751280"/>
            <a:ext cx="2176200" cy="1633680"/>
          </a:xfrm>
          <a:prstGeom prst="rect">
            <a:avLst/>
          </a:prstGeom>
          <a:ln w="0">
            <a:noFill/>
          </a:ln>
        </p:spPr>
      </p:pic>
      <p:pic>
        <p:nvPicPr>
          <p:cNvPr id="94" name="quarkiradical_qx" descr=""/>
          <p:cNvPicPr/>
          <p:nvPr/>
        </p:nvPicPr>
        <p:blipFill>
          <a:blip r:embed="rId2"/>
          <a:stretch/>
        </p:blipFill>
        <p:spPr>
          <a:xfrm>
            <a:off x="76320" y="4751280"/>
            <a:ext cx="2176200" cy="1633680"/>
          </a:xfrm>
          <a:prstGeom prst="rect">
            <a:avLst/>
          </a:prstGeom>
          <a:ln w="0">
            <a:noFill/>
          </a:ln>
        </p:spPr>
      </p:pic>
      <p:pic>
        <p:nvPicPr>
          <p:cNvPr id="95" name="quarkiradical_sld" descr=""/>
          <p:cNvPicPr/>
          <p:nvPr/>
        </p:nvPicPr>
        <p:blipFill>
          <a:blip r:embed="rId3"/>
          <a:stretch/>
        </p:blipFill>
        <p:spPr>
          <a:xfrm>
            <a:off x="2347920" y="4751280"/>
            <a:ext cx="2176560" cy="1633680"/>
          </a:xfrm>
          <a:prstGeom prst="rect">
            <a:avLst/>
          </a:prstGeom>
          <a:ln w="0">
            <a:noFill/>
          </a:ln>
        </p:spPr>
      </p:pic>
      <p:pic>
        <p:nvPicPr>
          <p:cNvPr id="96" name="quarkiradical_trs" descr=""/>
          <p:cNvPicPr/>
          <p:nvPr/>
        </p:nvPicPr>
        <p:blipFill>
          <a:blip r:embed="rId4"/>
          <a:stretch/>
        </p:blipFill>
        <p:spPr>
          <a:xfrm>
            <a:off x="4619520" y="4751280"/>
            <a:ext cx="2176560" cy="163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428640" y="41144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"/>
          <p:cNvSpPr/>
          <p:nvPr/>
        </p:nvSpPr>
        <p:spPr>
          <a:xfrm>
            <a:off x="2088000" y="64882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/>
  <dc:description/>
  <dc:language>en-US</dc:language>
  <cp:lastModifiedBy>eclipse</cp:lastModifiedBy>
  <dcterms:modified xsi:type="dcterms:W3CDTF">2015-01-10T12:15:0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