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475-4AA3-49F2-BDC8-E81FC082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B4F-C9B4-40A1-BF33-907F085B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90D-8198-41D9-AC0F-C1B632E6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60C-8507-4321-8CAF-B2DCCEB5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0DD-E26E-412F-BD10-B316751D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E52-E69F-4979-9FCB-8AFD6DA5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5D6-A8EB-4FB3-9663-B0B7D18C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56E-1F65-4386-9F12-BA2AA735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A38-7091-4A7E-98BD-D9EEBAE3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AE8-9435-4A72-8C9E-C8967A19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05F-F3F0-4324-894D-3929CCD5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45D-FF78-4897-B440-61A26FBF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6191-0931-482F-8D14-E633F4BE080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7320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29120"/>
            <a:ext cx="6400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07144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7144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2:23:01Z</dcterms:created>
  <dc:creator>我爱PPT官方网 - 中文演示设计平台 www.iloveppt.org; Admin</dc:creator>
  <dc:description>我爱PPT官方网 - 中文演示设计平台 www.iloveppt.org</dc:description>
  <cp:keywords>我爱PPT官方网 - 中文演示设计平台 www.iloveppt.org</cp:keywords>
  <dc:language>en-US</dc:language>
  <cp:lastModifiedBy>ilovePPT.ORG</cp:lastModifiedBy>
  <dcterms:modified xsi:type="dcterms:W3CDTF">2015-01-10T11:52:59Z</dcterms:modified>
  <cp:revision>4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