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15CE-69EA-4B36-A94D-1AB084183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DCB0-8C04-4FD2-A378-D8CD1416B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3BBA-DFD2-468E-9D6F-21380F65E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38DD-DF32-4852-9EB9-EF4C7DDBB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2526-8D66-49C8-9378-60099526E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3BFA-A040-406B-9E3D-B74E6AF65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4148-8CBF-425B-97A9-E973C7F7C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6045-78C8-4D7D-9BDA-CB017F383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D7F6-CAEB-467D-8015-F1CB84C02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8E5B-0DF7-43BE-96E1-30EF0DA6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52C2-FE3A-4226-8BB5-C6418E9A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F370-4B47-4EA5-8E09-4FFD9101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C0833-78A3-4849-9B51-69CB5FD464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680" y="638172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99840" y="274320"/>
            <a:ext cx="61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499840" y="1600200"/>
            <a:ext cx="61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2000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</a:t>
            </a:r>
            <a:r>
              <a:rPr b="1" lang="fr-FR" sz="18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----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EEPPT.COM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WWW.EEPPT.COM-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让您轻松制作出精美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</a:t>
            </a:r>
            <a:r>
              <a:rPr b="1" lang="fr-FR" sz="18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16:52:56Z</dcterms:created>
  <dc:creator/>
  <dc:description/>
  <dc:language>en-US</dc:language>
  <cp:lastModifiedBy>Eric</cp:lastModifiedBy>
  <dcterms:modified xsi:type="dcterms:W3CDTF">2015-01-11T13:49:54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