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B17-3143-4E02-9127-D0ECD239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417-D92A-4F8E-B857-2F2E2113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7AB-7D73-42C5-AFE9-5BC246CC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484-596A-4B95-9C9E-6F4D5715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1F99-6D61-481D-A9DE-37587E2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C75-AF35-4054-AA90-B072A14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791-71CE-4145-9366-1AFE6D4B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D89-BB97-4630-8412-FE8DEA1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5591-9FCE-4ABA-A43B-63BE7C1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5B0A-CB9A-4F8D-9CB5-93DB255C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B04-D59C-4813-89B2-040095DA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D87-8133-42E8-AC84-DCA9AA8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CE8A-65E9-4D36-898C-5D95422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8DE1-F88D-4A3D-8C3D-AD78C0A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DFEA-61ED-41F7-B449-02C60DB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B11C-5C38-451D-BC42-75BBA5A4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558-5967-4E49-858C-63DFCDA2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7AE-EAD3-4772-AF76-798C9E5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0AE-A1DD-4215-B9B5-48E0BD4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286-FD2F-4C17-AEE9-3E52529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37C-6CBA-407A-8085-5517AC0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D6D-9C2F-4467-9551-D633966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37C-1A44-40A2-9F56-7D10163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9CA-BA71-4943-97B0-3DA011B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4680" y="-4680"/>
            <a:ext cx="9151920" cy="686736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500800"/>
            <a:ext cx="143676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A68-EDB7-49FF-BC93-E1476B893A6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6200"/>
            <a:ext cx="2417760" cy="199080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未知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未知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未知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未知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D88-49AD-4856-A075-BDFC9B1FE26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Gulim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未知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</a:t>
            </a:r>
            <a:endParaRPr b="1" lang="en-US" sz="6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좋은 귀염둥이빼로"/>
                <a:ea typeface="좋은 귀염둥이빼로"/>
              </a:rPr>
              <a:t>111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0" y="3715920"/>
            <a:ext cx="446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좋은 귀염둥이빼로"/>
                <a:ea typeface="좋은 귀염둥이빼로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70028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좋은 귀염둥이빼로"/>
                <a:ea typeface="좋은 귀염둥이빼로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2120" y="3472560"/>
            <a:ext cx="1825920" cy="1843200"/>
            <a:chOff x="1212120" y="3472560"/>
            <a:chExt cx="1825920" cy="1843200"/>
          </a:xfrm>
        </p:grpSpPr>
        <p:sp>
          <p:nvSpPr>
            <p:cNvPr id="147" name=""/>
            <p:cNvSpPr/>
            <p:nvPr/>
          </p:nvSpPr>
          <p:spPr>
            <a:xfrm rot="3418800">
              <a:off x="1447200" y="3745440"/>
              <a:ext cx="1355400" cy="12967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a5175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77353" dir="56247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11520" y="3932640"/>
              <a:ext cx="5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A</a:t>
              </a:r>
              <a:r>
                <a:rPr b="1" lang="en-US" sz="24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620720" y="2139840"/>
            <a:ext cx="5913000" cy="2308320"/>
            <a:chOff x="1620720" y="2139840"/>
            <a:chExt cx="5913000" cy="2308320"/>
          </a:xfrm>
        </p:grpSpPr>
        <p:sp>
          <p:nvSpPr>
            <p:cNvPr id="151" name="未知"/>
            <p:cNvSpPr/>
            <p:nvPr/>
          </p:nvSpPr>
          <p:spPr>
            <a:xfrm>
              <a:off x="162072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 flipH="1">
              <a:off x="543636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4356000" y="2139840"/>
              <a:ext cx="625320" cy="230832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55" name="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56" name="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3000" y="1218240"/>
                <a:ext cx="4132440" cy="9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782800" y="1470960"/>
              <a:ext cx="3557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356120" y="5632920"/>
            <a:ext cx="1321200" cy="531720"/>
            <a:chOff x="1356120" y="5632920"/>
            <a:chExt cx="1321200" cy="531720"/>
          </a:xfrm>
        </p:grpSpPr>
        <p:grpSp>
          <p:nvGrpSpPr>
            <p:cNvPr id="160" name=""/>
            <p:cNvGrpSpPr/>
            <p:nvPr/>
          </p:nvGrpSpPr>
          <p:grpSpPr>
            <a:xfrm>
              <a:off x="1590480" y="5636160"/>
              <a:ext cx="1086840" cy="508320"/>
              <a:chOff x="1590480" y="5636160"/>
              <a:chExt cx="1086840" cy="508320"/>
            </a:xfrm>
          </p:grpSpPr>
          <p:sp>
            <p:nvSpPr>
              <p:cNvPr id="161" name=""/>
              <p:cNvSpPr/>
              <p:nvPr/>
            </p:nvSpPr>
            <p:spPr>
              <a:xfrm flipH="1" flipV="1" rot="3964800">
                <a:off x="2172240" y="549756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 rot="4780200">
                <a:off x="2049840" y="554544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 rot="5076000">
                <a:off x="1975320" y="555372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 rot="5608200">
                <a:off x="1884600" y="556020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356120" y="5632920"/>
              <a:ext cx="1083600" cy="531720"/>
              <a:chOff x="1356120" y="5632920"/>
              <a:chExt cx="1083600" cy="531720"/>
            </a:xfrm>
          </p:grpSpPr>
          <p:sp>
            <p:nvSpPr>
              <p:cNvPr id="166" name=""/>
              <p:cNvSpPr/>
              <p:nvPr/>
            </p:nvSpPr>
            <p:spPr>
              <a:xfrm flipH="1" flipV="1" rot="5317800">
                <a:off x="1939680" y="555768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 rot="6133800">
                <a:off x="1809000" y="555624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 rot="6429000">
                <a:off x="1735920" y="55350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 rot="6961200">
                <a:off x="1649880" y="55062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 rot="5400000">
            <a:off x="586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755640" y="3324240"/>
            <a:ext cx="2448000" cy="55404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32136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3492360" y="3324240"/>
            <a:ext cx="2448000" cy="47628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058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97080" y="241632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40080" y="293040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700360" y="3645000"/>
            <a:ext cx="244620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2276640"/>
            <a:ext cx="2303280" cy="1152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411280" y="3933720"/>
            <a:ext cx="2841840" cy="1224000"/>
          </a:xfrm>
          <a:prstGeom prst="line">
            <a:avLst/>
          </a:prstGeom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11680" y="4016520"/>
            <a:ext cx="2055960" cy="7808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11680" y="2492280"/>
            <a:ext cx="1768680" cy="106704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8360" y="332100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021040" y="1484280"/>
            <a:ext cx="1167120" cy="1175400"/>
            <a:chOff x="2021040" y="1484280"/>
            <a:chExt cx="1167120" cy="1175400"/>
          </a:xfrm>
        </p:grpSpPr>
        <p:sp>
          <p:nvSpPr>
            <p:cNvPr id="188" name=""/>
            <p:cNvSpPr/>
            <p:nvPr/>
          </p:nvSpPr>
          <p:spPr>
            <a:xfrm>
              <a:off x="2021040" y="148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055600" y="1520640"/>
              <a:ext cx="1118520" cy="1139040"/>
              <a:chOff x="2055600" y="1520640"/>
              <a:chExt cx="1118520" cy="113904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20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055600" y="1520640"/>
                <a:ext cx="107928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066040" y="1565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3" name=""/>
              <p:cNvGrpSpPr/>
              <p:nvPr/>
            </p:nvGrpSpPr>
            <p:grpSpPr>
              <a:xfrm>
                <a:off x="2405880" y="1958040"/>
                <a:ext cx="768240" cy="701640"/>
                <a:chOff x="2405880" y="1958040"/>
                <a:chExt cx="768240" cy="7016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2582640" y="1958040"/>
                  <a:ext cx="591480" cy="694440"/>
                  <a:chOff x="2582640" y="1958040"/>
                  <a:chExt cx="591480" cy="6944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 rot="1528800">
                    <a:off x="2912760" y="195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flipV="1" rot="2344200">
                    <a:off x="2867040" y="2044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2640000">
                    <a:off x="2829960" y="208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3172200">
                    <a:off x="2784240" y="213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2405880" y="2149920"/>
                  <a:ext cx="743760" cy="509760"/>
                  <a:chOff x="2405880" y="2149920"/>
                  <a:chExt cx="743760" cy="509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 flipV="1" rot="2881800">
                    <a:off x="2817360" y="210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 rot="3697200">
                    <a:off x="2743200" y="216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3993000">
                    <a:off x="2692800" y="219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4525200">
                    <a:off x="2632680" y="221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"/>
            <p:cNvGrpSpPr/>
            <p:nvPr/>
          </p:nvGrpSpPr>
          <p:grpSpPr>
            <a:xfrm>
              <a:off x="2511000" y="1985760"/>
              <a:ext cx="677160" cy="617760"/>
              <a:chOff x="2511000" y="1985760"/>
              <a:chExt cx="677160" cy="6177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666880" y="1985760"/>
                <a:ext cx="521280" cy="611640"/>
                <a:chOff x="2666880" y="1985760"/>
                <a:chExt cx="521280" cy="6116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flipV="1" rot="1528800">
                  <a:off x="2956320" y="198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 rot="2344200">
                  <a:off x="2917800" y="2062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 rot="2640000">
                  <a:off x="2885400" y="2098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3172200">
                  <a:off x="2844720" y="2140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511000" y="2154240"/>
                <a:ext cx="654120" cy="449280"/>
                <a:chOff x="2511000" y="2154240"/>
                <a:chExt cx="654120" cy="449280"/>
              </a:xfrm>
            </p:grpSpPr>
            <p:sp>
              <p:nvSpPr>
                <p:cNvPr id="211" name=""/>
                <p:cNvSpPr/>
                <p:nvPr/>
              </p:nvSpPr>
              <p:spPr>
                <a:xfrm flipH="1" flipV="1" rot="2881800">
                  <a:off x="2872080" y="211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 rot="3697200">
                  <a:off x="2807280" y="2170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3993000">
                  <a:off x="2763360" y="2190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4525200">
                  <a:off x="2710080" y="2215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2522160" y="1760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35280" y="3068640"/>
            <a:ext cx="1167120" cy="1175400"/>
            <a:chOff x="1835280" y="3068640"/>
            <a:chExt cx="1167120" cy="1175400"/>
          </a:xfrm>
        </p:grpSpPr>
        <p:sp>
          <p:nvSpPr>
            <p:cNvPr id="217" name=""/>
            <p:cNvSpPr/>
            <p:nvPr/>
          </p:nvSpPr>
          <p:spPr>
            <a:xfrm>
              <a:off x="1835280" y="306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869840" y="3105000"/>
              <a:ext cx="1118520" cy="1139040"/>
              <a:chOff x="1869840" y="3105000"/>
              <a:chExt cx="1118520" cy="11390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9840" y="310500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1869840" y="3105000"/>
                <a:ext cx="107928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1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80280" y="315000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2" name=""/>
              <p:cNvGrpSpPr/>
              <p:nvPr/>
            </p:nvGrpSpPr>
            <p:grpSpPr>
              <a:xfrm>
                <a:off x="2220120" y="3542400"/>
                <a:ext cx="768240" cy="701640"/>
                <a:chOff x="2220120" y="3542400"/>
                <a:chExt cx="768240" cy="7016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2396880" y="3542400"/>
                  <a:ext cx="591480" cy="694440"/>
                  <a:chOff x="2396880" y="3542400"/>
                  <a:chExt cx="591480" cy="6944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flipV="1" rot="1528800">
                    <a:off x="2727000" y="3544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flipV="1" rot="2344200">
                    <a:off x="2681280" y="362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 rot="2640000">
                    <a:off x="2644200" y="3670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3172200">
                    <a:off x="2598480" y="3718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220120" y="3734280"/>
                  <a:ext cx="743760" cy="509760"/>
                  <a:chOff x="2220120" y="3734280"/>
                  <a:chExt cx="743760" cy="5097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flipV="1" rot="2881800">
                    <a:off x="2631600" y="3690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flipV="1" rot="3697200">
                    <a:off x="2557440" y="3750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flipV="1" rot="3993000">
                    <a:off x="2507040" y="3775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4525200">
                    <a:off x="2446920" y="3802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2325240" y="3570120"/>
              <a:ext cx="677160" cy="617760"/>
              <a:chOff x="2325240" y="3570120"/>
              <a:chExt cx="677160" cy="6177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2481120" y="3570120"/>
                <a:ext cx="521280" cy="611640"/>
                <a:chOff x="2481120" y="3570120"/>
                <a:chExt cx="521280" cy="6116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 flipV="1" rot="1528800">
                  <a:off x="2770560" y="3571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 rot="2344200">
                  <a:off x="2732040" y="36464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 rot="2640000">
                  <a:off x="2699640" y="3682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3172200">
                  <a:off x="2658960" y="3724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325240" y="3738600"/>
                <a:ext cx="654120" cy="449280"/>
                <a:chOff x="2325240" y="3738600"/>
                <a:chExt cx="654120" cy="449280"/>
              </a:xfrm>
            </p:grpSpPr>
            <p:sp>
              <p:nvSpPr>
                <p:cNvPr id="240" name=""/>
                <p:cNvSpPr/>
                <p:nvPr/>
              </p:nvSpPr>
              <p:spPr>
                <a:xfrm flipH="1" flipV="1" rot="2881800">
                  <a:off x="2686320" y="3700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3697200">
                  <a:off x="2621520" y="37548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 rot="3993000">
                  <a:off x="2577600" y="37753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4525200">
                  <a:off x="2524320" y="379944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2325600" y="33940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021040" y="4653000"/>
            <a:ext cx="1167120" cy="1175400"/>
            <a:chOff x="2021040" y="4653000"/>
            <a:chExt cx="1167120" cy="1175400"/>
          </a:xfrm>
        </p:grpSpPr>
        <p:sp>
          <p:nvSpPr>
            <p:cNvPr id="246" name=""/>
            <p:cNvSpPr/>
            <p:nvPr/>
          </p:nvSpPr>
          <p:spPr>
            <a:xfrm>
              <a:off x="202104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055600" y="4689360"/>
              <a:ext cx="1118520" cy="1139040"/>
              <a:chOff x="2055600" y="4689360"/>
              <a:chExt cx="1118520" cy="1139040"/>
            </a:xfrm>
          </p:grpSpPr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689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2055600" y="4689360"/>
                <a:ext cx="1079280" cy="108576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066040" y="4734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" name=""/>
              <p:cNvGrpSpPr/>
              <p:nvPr/>
            </p:nvGrpSpPr>
            <p:grpSpPr>
              <a:xfrm>
                <a:off x="2405880" y="5126760"/>
                <a:ext cx="768240" cy="701640"/>
                <a:chOff x="2405880" y="5126760"/>
                <a:chExt cx="768240" cy="70164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2582640" y="5126760"/>
                  <a:ext cx="591480" cy="694440"/>
                  <a:chOff x="2582640" y="5126760"/>
                  <a:chExt cx="591480" cy="6944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flipV="1" rot="1528800">
                    <a:off x="2912760" y="5128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 rot="2344200">
                    <a:off x="2867040" y="5213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 rot="2640000">
                    <a:off x="2829960" y="525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3172200">
                    <a:off x="2784240" y="5302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2405880" y="5318640"/>
                  <a:ext cx="743760" cy="509760"/>
                  <a:chOff x="2405880" y="5318640"/>
                  <a:chExt cx="743760" cy="5097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 flipV="1" rot="2881800">
                    <a:off x="2817360" y="5274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 rot="3697200">
                    <a:off x="2743200" y="5335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flipV="1" rot="3993000">
                    <a:off x="2692800" y="5360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4525200">
                    <a:off x="2632680" y="5386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2511000" y="5154480"/>
              <a:ext cx="677160" cy="617760"/>
              <a:chOff x="2511000" y="5154480"/>
              <a:chExt cx="677160" cy="6177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666880" y="5154480"/>
                <a:ext cx="521280" cy="611640"/>
                <a:chOff x="2666880" y="5154480"/>
                <a:chExt cx="521280" cy="61164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flipV="1" rot="1528800">
                  <a:off x="2956320" y="5156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2344200">
                  <a:off x="2917800" y="5230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2640000">
                  <a:off x="2885400" y="5267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3172200">
                  <a:off x="2844720" y="5308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511000" y="5322960"/>
                <a:ext cx="654120" cy="449280"/>
                <a:chOff x="2511000" y="5322960"/>
                <a:chExt cx="654120" cy="4492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flipV="1" rot="2881800">
                  <a:off x="2872080" y="5284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 rot="3697200">
                  <a:off x="2807280" y="5339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3993000">
                  <a:off x="2763360" y="5359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4525200">
                  <a:off x="2710080" y="5383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2533320" y="4903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596360" y="4221000"/>
            <a:ext cx="1167120" cy="1175400"/>
            <a:chOff x="7596360" y="4221000"/>
            <a:chExt cx="1167120" cy="1175400"/>
          </a:xfrm>
        </p:grpSpPr>
        <p:sp>
          <p:nvSpPr>
            <p:cNvPr id="275" name=""/>
            <p:cNvSpPr/>
            <p:nvPr/>
          </p:nvSpPr>
          <p:spPr>
            <a:xfrm>
              <a:off x="7596360" y="4221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630920" y="4257360"/>
              <a:ext cx="1118520" cy="1139040"/>
              <a:chOff x="7630920" y="4257360"/>
              <a:chExt cx="1118520" cy="11390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0920" y="4257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7630920" y="425736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7641360" y="4302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0" name=""/>
              <p:cNvGrpSpPr/>
              <p:nvPr/>
            </p:nvGrpSpPr>
            <p:grpSpPr>
              <a:xfrm>
                <a:off x="7981200" y="4694760"/>
                <a:ext cx="768240" cy="701640"/>
                <a:chOff x="7981200" y="4694760"/>
                <a:chExt cx="768240" cy="70164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8157960" y="4694760"/>
                  <a:ext cx="591480" cy="694440"/>
                  <a:chOff x="8157960" y="4694760"/>
                  <a:chExt cx="591480" cy="6944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flipV="1" rot="1528800">
                    <a:off x="8488080" y="469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flipV="1" rot="2344200">
                    <a:off x="8442360" y="4781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 rot="2640000">
                    <a:off x="8405280" y="482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3172200">
                    <a:off x="8359560" y="4870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981200" y="4886640"/>
                  <a:ext cx="743760" cy="509760"/>
                  <a:chOff x="7981200" y="4886640"/>
                  <a:chExt cx="743760" cy="509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 flipV="1" rot="2881800">
                    <a:off x="8392680" y="4842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flipV="1" rot="3697200">
                    <a:off x="8318520" y="4903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 rot="3993000">
                    <a:off x="8268120" y="4928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4525200">
                    <a:off x="8208000" y="4954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086320" y="4722480"/>
              <a:ext cx="677160" cy="617760"/>
              <a:chOff x="8086320" y="4722480"/>
              <a:chExt cx="677160" cy="6177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8242200" y="4722480"/>
                <a:ext cx="521280" cy="611640"/>
                <a:chOff x="8242200" y="4722480"/>
                <a:chExt cx="521280" cy="61164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flipV="1" rot="1528800">
                  <a:off x="8531640" y="4724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2344200">
                  <a:off x="8493120" y="4798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2640000">
                  <a:off x="8460720" y="4835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3172200">
                  <a:off x="8420040" y="4876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086320" y="4890960"/>
                <a:ext cx="654120" cy="449280"/>
                <a:chOff x="8086320" y="4890960"/>
                <a:chExt cx="654120" cy="44928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2881800">
                  <a:off x="8447400" y="4852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3697200">
                  <a:off x="8382600" y="4907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3993000">
                  <a:off x="8338680" y="4927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4525200">
                  <a:off x="8285400" y="4951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7948440" y="4394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93080" y="1773360"/>
            <a:ext cx="1167120" cy="1175400"/>
            <a:chOff x="7093080" y="1773360"/>
            <a:chExt cx="1167120" cy="1175400"/>
          </a:xfrm>
        </p:grpSpPr>
        <p:sp>
          <p:nvSpPr>
            <p:cNvPr id="304" name=""/>
            <p:cNvSpPr/>
            <p:nvPr/>
          </p:nvSpPr>
          <p:spPr>
            <a:xfrm>
              <a:off x="7093080" y="1773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127640" y="1809720"/>
              <a:ext cx="1118520" cy="1139040"/>
              <a:chOff x="7127640" y="1809720"/>
              <a:chExt cx="1118520" cy="1139040"/>
            </a:xfrm>
          </p:grpSpPr>
          <p:pic>
            <p:nvPicPr>
              <p:cNvPr id="3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7640" y="180972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7127640" y="180972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7138080" y="185472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" name=""/>
              <p:cNvGrpSpPr/>
              <p:nvPr/>
            </p:nvGrpSpPr>
            <p:grpSpPr>
              <a:xfrm>
                <a:off x="7477920" y="2247120"/>
                <a:ext cx="768240" cy="701640"/>
                <a:chOff x="7477920" y="2247120"/>
                <a:chExt cx="768240" cy="7016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7654680" y="2247120"/>
                  <a:ext cx="591480" cy="694440"/>
                  <a:chOff x="7654680" y="2247120"/>
                  <a:chExt cx="591480" cy="6944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flipV="1" rot="1528800">
                    <a:off x="7984800" y="224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flipV="1" rot="2344200">
                    <a:off x="7939080" y="2333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flipV="1" rot="2640000">
                    <a:off x="7902000" y="2375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flipV="1" rot="3172200">
                    <a:off x="7856280" y="2422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477920" y="2439000"/>
                  <a:ext cx="743760" cy="509760"/>
                  <a:chOff x="7477920" y="2439000"/>
                  <a:chExt cx="743760" cy="5097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flipV="1" rot="2881800">
                    <a:off x="7889400" y="2395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flipV="1" rot="3697200">
                    <a:off x="7815240" y="2455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 rot="3993000">
                    <a:off x="7764840" y="2480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 rot="4525200">
                    <a:off x="7704720" y="2507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0" name=""/>
            <p:cNvGrpSpPr/>
            <p:nvPr/>
          </p:nvGrpSpPr>
          <p:grpSpPr>
            <a:xfrm>
              <a:off x="7583040" y="2274840"/>
              <a:ext cx="677160" cy="617760"/>
              <a:chOff x="7583040" y="2274840"/>
              <a:chExt cx="677160" cy="6177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738920" y="2274840"/>
                <a:ext cx="521280" cy="611640"/>
                <a:chOff x="7738920" y="2274840"/>
                <a:chExt cx="521280" cy="611640"/>
              </a:xfrm>
            </p:grpSpPr>
            <p:sp>
              <p:nvSpPr>
                <p:cNvPr id="322" name=""/>
                <p:cNvSpPr/>
                <p:nvPr/>
              </p:nvSpPr>
              <p:spPr>
                <a:xfrm flipH="1" flipV="1" rot="1528800">
                  <a:off x="8028360" y="22766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 rot="2344200">
                  <a:off x="7989840" y="235116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2640000">
                  <a:off x="7957440" y="2387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3172200">
                  <a:off x="7916760" y="2429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583040" y="2443320"/>
                <a:ext cx="654120" cy="449280"/>
                <a:chOff x="7583040" y="2443320"/>
                <a:chExt cx="654120" cy="4492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 rot="2881800">
                  <a:off x="7944120" y="240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 rot="3697200">
                  <a:off x="7879320" y="24595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 rot="3993000">
                  <a:off x="7835400" y="24800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4525200">
                  <a:off x="7782120" y="250416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7445160" y="19465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988160" y="3397320"/>
            <a:ext cx="829080" cy="845280"/>
            <a:chOff x="4988160" y="3397320"/>
            <a:chExt cx="829080" cy="845280"/>
          </a:xfrm>
        </p:grpSpPr>
        <p:pic>
          <p:nvPicPr>
            <p:cNvPr id="333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5112000" y="352980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4977000">
              <a:off x="5113080" y="352800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91120" y="3590280"/>
              <a:ext cx="226440" cy="501120"/>
              <a:chOff x="5091120" y="3590280"/>
              <a:chExt cx="226440" cy="50112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097600" y="3683160"/>
                <a:ext cx="219960" cy="408240"/>
                <a:chOff x="5097600" y="3683160"/>
                <a:chExt cx="219960" cy="408240"/>
              </a:xfrm>
            </p:grpSpPr>
            <p:sp>
              <p:nvSpPr>
                <p:cNvPr id="337" name=""/>
                <p:cNvSpPr/>
                <p:nvPr/>
              </p:nvSpPr>
              <p:spPr>
                <a:xfrm flipH="1" flipV="1" rot="8941800">
                  <a:off x="5169600" y="3790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9757200">
                  <a:off x="5145120" y="3747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 rot="10053000">
                  <a:off x="5138640" y="37188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10585200">
                  <a:off x="5130720" y="36846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091120" y="3590280"/>
                <a:ext cx="169560" cy="423000"/>
                <a:chOff x="5091120" y="3590280"/>
                <a:chExt cx="169560" cy="423000"/>
              </a:xfrm>
            </p:grpSpPr>
            <p:sp>
              <p:nvSpPr>
                <p:cNvPr id="342" name=""/>
                <p:cNvSpPr/>
                <p:nvPr/>
              </p:nvSpPr>
              <p:spPr>
                <a:xfrm flipH="1" flipV="1" rot="10294800">
                  <a:off x="5132880" y="3706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11110200">
                  <a:off x="5127840" y="3656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11406000">
                  <a:off x="5133240" y="3628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11938200">
                  <a:off x="5137920" y="35938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 flipH="1" rot="1129200">
              <a:off x="5078880" y="348336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5268240" y="356040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450720"/>
            <a:ext cx="378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  <a:ea typeface="좋은 귀염둥이빼로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8360" y="1916280"/>
            <a:ext cx="647640" cy="648720"/>
            <a:chOff x="468360" y="1916280"/>
            <a:chExt cx="647640" cy="648720"/>
          </a:xfrm>
        </p:grpSpPr>
        <p:sp>
          <p:nvSpPr>
            <p:cNvPr id="351" name="未知"/>
            <p:cNvSpPr/>
            <p:nvPr/>
          </p:nvSpPr>
          <p:spPr>
            <a:xfrm>
              <a:off x="506520" y="2289960"/>
              <a:ext cx="571320" cy="2750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8360" y="1916280"/>
              <a:ext cx="647640" cy="569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360" y="3017880"/>
            <a:ext cx="647640" cy="626760"/>
            <a:chOff x="468360" y="3017880"/>
            <a:chExt cx="647640" cy="626760"/>
          </a:xfrm>
        </p:grpSpPr>
        <p:sp>
          <p:nvSpPr>
            <p:cNvPr id="354" name="未知"/>
            <p:cNvSpPr/>
            <p:nvPr/>
          </p:nvSpPr>
          <p:spPr>
            <a:xfrm>
              <a:off x="506520" y="3378960"/>
              <a:ext cx="571320" cy="265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360" y="3017880"/>
              <a:ext cx="647640" cy="5497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6" name=""/>
          <p:cNvCxnSpPr>
            <a:stCxn id="351" idx="0"/>
            <a:endCxn id="355" idx="0"/>
          </p:cNvCxnSpPr>
          <p:nvPr/>
        </p:nvCxnSpPr>
        <p:spPr>
          <a:xfrm>
            <a:off x="790560" y="2490840"/>
            <a:ext cx="2160" cy="527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7" name=""/>
          <p:cNvCxnSpPr>
            <a:stCxn id="354" idx="0"/>
            <a:endCxn id="358" idx="0"/>
          </p:cNvCxnSpPr>
          <p:nvPr/>
        </p:nvCxnSpPr>
        <p:spPr>
          <a:xfrm>
            <a:off x="790560" y="3573000"/>
            <a:ext cx="2160" cy="5756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68360" y="4148280"/>
            <a:ext cx="647640" cy="575640"/>
            <a:chOff x="468360" y="4148280"/>
            <a:chExt cx="647640" cy="575640"/>
          </a:xfrm>
        </p:grpSpPr>
        <p:sp>
          <p:nvSpPr>
            <p:cNvPr id="361" name="未知"/>
            <p:cNvSpPr/>
            <p:nvPr/>
          </p:nvSpPr>
          <p:spPr>
            <a:xfrm>
              <a:off x="506520" y="4479840"/>
              <a:ext cx="571320" cy="2440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360" y="4148280"/>
              <a:ext cx="647640" cy="505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900000" y="3214800"/>
            <a:ext cx="7704000" cy="579240"/>
            <a:chOff x="900000" y="3214800"/>
            <a:chExt cx="7704000" cy="579240"/>
          </a:xfrm>
        </p:grpSpPr>
        <p:sp>
          <p:nvSpPr>
            <p:cNvPr id="363" name=""/>
            <p:cNvSpPr/>
            <p:nvPr/>
          </p:nvSpPr>
          <p:spPr>
            <a:xfrm>
              <a:off x="900000" y="374148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160" y="3214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00000" y="4294080"/>
            <a:ext cx="7704000" cy="579600"/>
            <a:chOff x="900000" y="4294080"/>
            <a:chExt cx="7704000" cy="579600"/>
          </a:xfrm>
        </p:grpSpPr>
        <p:sp>
          <p:nvSpPr>
            <p:cNvPr id="366" name=""/>
            <p:cNvSpPr/>
            <p:nvPr/>
          </p:nvSpPr>
          <p:spPr>
            <a:xfrm>
              <a:off x="900000" y="4821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73160" y="42940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8" name=""/>
          <p:cNvCxnSpPr>
            <a:endCxn id="369" idx="0"/>
          </p:cNvCxnSpPr>
          <p:nvPr/>
        </p:nvCxnSpPr>
        <p:spPr>
          <a:xfrm flipH="1">
            <a:off x="791640" y="4654440"/>
            <a:ext cx="5760" cy="5040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68360" y="5157720"/>
            <a:ext cx="647640" cy="576360"/>
            <a:chOff x="468360" y="5157720"/>
            <a:chExt cx="647640" cy="576360"/>
          </a:xfrm>
        </p:grpSpPr>
        <p:sp>
          <p:nvSpPr>
            <p:cNvPr id="371" name="未知"/>
            <p:cNvSpPr/>
            <p:nvPr/>
          </p:nvSpPr>
          <p:spPr>
            <a:xfrm>
              <a:off x="506520" y="5489640"/>
              <a:ext cx="571320" cy="2444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8360" y="5157720"/>
              <a:ext cx="647640" cy="50544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828720" y="5297400"/>
            <a:ext cx="7704000" cy="581400"/>
            <a:chOff x="828720" y="5297400"/>
            <a:chExt cx="7704000" cy="581400"/>
          </a:xfrm>
        </p:grpSpPr>
        <p:sp>
          <p:nvSpPr>
            <p:cNvPr id="373" name=""/>
            <p:cNvSpPr/>
            <p:nvPr/>
          </p:nvSpPr>
          <p:spPr>
            <a:xfrm>
              <a:off x="828720" y="5829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3320" y="52974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Arial"/>
              <a:ea typeface="좋은 귀염둥이빼로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378" name="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3070440"/>
              <a:ext cx="331128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74920" y="3070440"/>
              <a:ext cx="338436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4901d"/>
                </a:gs>
                <a:gs pos="50000">
                  <a:srgbClr val="a8d02a"/>
                </a:gs>
                <a:gs pos="100000">
                  <a:srgbClr val="749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14240" y="2133720"/>
            <a:ext cx="1409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cc"/>
              </a:solidFill>
              <a:latin typeface="좋은 귀염둥이빼로"/>
              <a:ea typeface="좋은 귀염둥이빼로"/>
            </a:endParaRPr>
          </a:p>
        </p:txBody>
      </p:sp>
      <p:sp>
        <p:nvSpPr>
          <p:cNvPr id="393" name="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1080" y="1989000"/>
            <a:ext cx="1744560" cy="4103280"/>
            <a:chOff x="811080" y="1989000"/>
            <a:chExt cx="1744560" cy="4103280"/>
          </a:xfrm>
        </p:grpSpPr>
        <p:cxnSp>
          <p:nvCxnSpPr>
            <p:cNvPr id="397" name=""/>
            <p:cNvCxnSpPr>
              <a:stCxn id="398" idx="0"/>
              <a:endCxn id="399" idx="0"/>
            </p:cNvCxnSpPr>
            <p:nvPr/>
          </p:nvCxnSpPr>
          <p:spPr>
            <a:xfrm>
              <a:off x="1665000" y="3732120"/>
              <a:ext cx="5760" cy="5752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0" name=""/>
            <p:cNvCxnSpPr>
              <a:stCxn id="401" idx="0"/>
              <a:endCxn id="402" idx="0"/>
            </p:cNvCxnSpPr>
            <p:nvPr/>
          </p:nvCxnSpPr>
          <p:spPr>
            <a:xfrm>
              <a:off x="1665000" y="4876560"/>
              <a:ext cx="576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3" name=""/>
            <p:cNvCxnSpPr/>
            <p:nvPr/>
          </p:nvCxnSpPr>
          <p:spPr>
            <a:xfrm>
              <a:off x="1691640" y="2491920"/>
              <a:ext cx="252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04" name=""/>
            <p:cNvGrpSpPr/>
            <p:nvPr/>
          </p:nvGrpSpPr>
          <p:grpSpPr>
            <a:xfrm>
              <a:off x="811080" y="3154320"/>
              <a:ext cx="1717560" cy="2937960"/>
              <a:chOff x="811080" y="3154320"/>
              <a:chExt cx="1717560" cy="29379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811080" y="4306680"/>
                <a:ext cx="1717560" cy="642600"/>
                <a:chOff x="811080" y="4306680"/>
                <a:chExt cx="1717560" cy="642600"/>
              </a:xfrm>
            </p:grpSpPr>
            <p:sp>
              <p:nvSpPr>
                <p:cNvPr id="401" name="未知"/>
                <p:cNvSpPr/>
                <p:nvPr/>
              </p:nvSpPr>
              <p:spPr>
                <a:xfrm>
                  <a:off x="912240" y="4676760"/>
                  <a:ext cx="1514520" cy="2725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11080" y="4306680"/>
                  <a:ext cx="171756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deec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811080" y="5457960"/>
                <a:ext cx="1717560" cy="634320"/>
                <a:chOff x="811080" y="5457960"/>
                <a:chExt cx="1717560" cy="634320"/>
              </a:xfrm>
            </p:grpSpPr>
            <p:sp>
              <p:nvSpPr>
                <p:cNvPr id="407" name="未知"/>
                <p:cNvSpPr/>
                <p:nvPr/>
              </p:nvSpPr>
              <p:spPr>
                <a:xfrm>
                  <a:off x="912240" y="5823360"/>
                  <a:ext cx="1514520" cy="2689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1080" y="5457960"/>
                  <a:ext cx="1717560" cy="5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d6ebf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811080" y="3154320"/>
                <a:ext cx="1717560" cy="651960"/>
                <a:chOff x="811080" y="3154320"/>
                <a:chExt cx="1717560" cy="651960"/>
              </a:xfrm>
            </p:grpSpPr>
            <p:sp>
              <p:nvSpPr>
                <p:cNvPr id="398" name="未知"/>
                <p:cNvSpPr/>
                <p:nvPr/>
              </p:nvSpPr>
              <p:spPr>
                <a:xfrm>
                  <a:off x="912240" y="3529800"/>
                  <a:ext cx="1514520" cy="2764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1080" y="3154320"/>
                  <a:ext cx="1717560" cy="57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319"/>
                    </a:gs>
                    <a:gs pos="100000">
                      <a:srgbClr val="fedf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838080" y="1989000"/>
              <a:ext cx="1717560" cy="651960"/>
              <a:chOff x="838080" y="1989000"/>
              <a:chExt cx="1717560" cy="651960"/>
            </a:xfrm>
          </p:grpSpPr>
          <p:sp>
            <p:nvSpPr>
              <p:cNvPr id="411" name="未知"/>
              <p:cNvSpPr/>
              <p:nvPr/>
            </p:nvSpPr>
            <p:spPr>
              <a:xfrm>
                <a:off x="939240" y="2364480"/>
                <a:ext cx="1514520" cy="276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38080" y="1989000"/>
                <a:ext cx="1717560" cy="57204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/>
  <dc:description/>
  <dc:language>en-US</dc:language>
  <cp:lastModifiedBy>微软用户</cp:lastModifiedBy>
  <dcterms:modified xsi:type="dcterms:W3CDTF">2015-01-11T12:32:58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