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699-5067-4676-A7BA-820C2CCA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EB8-68C3-4A93-9667-7FEC716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8E6-6676-4F9C-811D-33604776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C89-1F66-4086-B4A1-A8E21951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980-A73D-43F3-B184-50ACFCCE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CC72-7975-40E5-ABB3-4C72A20A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59F9-685B-40B4-8E8C-6742B4A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E55-749C-404E-9FA1-F53C78A7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9C84-5894-4DE8-9D0B-707246F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77A0-0B7E-45EF-81A8-D1F8F10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5DC3-BB17-4FCA-967A-8C31F5B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E2F-AD22-454F-8D29-C1D5C31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0963-0C30-4FEC-B568-443851F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0606-B2A7-4245-A7F0-E87CD5D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DE7-0BAB-4396-AB88-A01690D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9B8F-3C11-4FEA-9286-A59CF754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DD1-A49F-45A6-9FD2-7A4AF655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A2E0-9657-4683-8356-836BBAF4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7853-A70F-4307-8AF7-11B0CEDB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2FAB-2EA4-42A5-B8F6-021E8C6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9AC4-B39B-420E-BD0C-9259D61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E5B0-0FEA-4BBD-A2D4-CB4DA054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F45-B0C2-4795-9BB2-45C206E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9363-E6D5-465D-8BA9-7F6B317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2405-DD16-4A27-A1DF-6B91FE5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A0C3-85CC-4FA7-A8EF-3F25AC3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75DF-0A29-4D15-8C4C-0ACC52E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121A-5319-4383-8A59-4A5F4665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845C-1259-470A-9075-58AC63FF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C272-D154-49F3-8B1F-18907EE2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7F8-0B57-488D-8E1A-5E01A8C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2F0-6546-4B1F-B4C7-21C75EC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CB4-83E2-47BF-A676-4C7CF1D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254-C5E7-4130-A8EF-FA72AFB5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CCC-3439-43B5-899A-FC7E41E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DA3-0B1A-47FB-9144-F05328BE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A80-AC49-4D31-AA83-043CABA6F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7729-F14F-4293-AABA-F9CBDB30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657-DE24-46FA-8881-FEF1CD28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18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0:44:56Z</dcterms:created>
  <dc:creator>Administrator</dc:creator>
  <dc:description/>
  <dc:language>en-US</dc:language>
  <cp:lastModifiedBy/>
  <dcterms:modified xsi:type="dcterms:W3CDTF">2015-01-11T13:53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