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1D9-9D39-43BB-87E4-554E21FE1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F1D-F744-4406-8B2F-D95C7458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8D0-D2FE-4756-A9DC-871AD57E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B2DA-72D7-49BB-A268-96E5D63D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A9F-3368-4ADB-A767-6B10CA48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9DA-DFE5-4829-88C9-FC4B7B0C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6FF-1713-4BA6-8B05-B7B98903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8B5-05C0-43BF-ADB4-EB3F2424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7E7-2E8A-42BD-90C7-FDC44038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2DD9-E6A1-4E5C-814E-67CE412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EDB4-20AB-450E-96AB-C5E1A959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593-7509-4DF3-A167-98C8A68E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961F-A0C4-42B0-8EEE-D0C810FF2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066680"/>
            <a:ext cx="7315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真的遇到一条微笑的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条漂浮在水中的，可爱的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当我寂寞时，她总是摇摇摆摆的游向我，对我微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喜欢这条给我带来欢乐的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谢谢你，我的鱼！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619760" cy="24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651640" y="189000"/>
            <a:ext cx="2809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方正舒体"/>
              </a:rPr>
              <a:t>几米作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4" name=""/>
          <p:cNvSpPr/>
          <p:nvPr/>
        </p:nvSpPr>
        <p:spPr>
          <a:xfrm>
            <a:off x="63597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0320" y="874800"/>
            <a:ext cx="43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看见了一条鱼，一条发着绿光，漂浮在屋中的，我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00120" y="18288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优雅的在空中漂浮，我在她身后慌忙追赶，我害怕失去我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328920" y="3699000"/>
            <a:ext cx="39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跟着一条发着绿光的鱼，游荡在午夜的街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3718080"/>
            <a:ext cx="39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都市里的每一个人都睡着了吗？他们正在做着美梦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95520" y="3753000"/>
            <a:ext cx="39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好久没有抬头看天上的月亮，忘了怎么跟星星许愿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540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6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4600"/>
                            </p:stCondLst>
                            <p:childTnLst>
                              <p:par>
                                <p:cTn id="2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1200"/>
                            </p:stCondLst>
                            <p:childTnLst>
                              <p:par>
                                <p:cTn id="20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33200" y="2276640"/>
            <a:ext cx="45468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想起了年少时熟悉的舞步，不自觉的跳了一段小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600"/>
                            </p:stCondLst>
                            <p:childTnLst>
                              <p:par>
                                <p:cTn id="22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62120" y="4935600"/>
            <a:ext cx="48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树林里真适合玩躲猫猫的游戏，而我的朋友都躲到哪儿去了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75080" y="500220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晨的露水把裤管都沾湿了，草原中还有着千奇百怪的小昆虫吧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4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3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400"/>
                            </p:stCondLst>
                            <p:childTnLst>
                              <p:par>
                                <p:cTn id="2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70120" y="1506600"/>
            <a:ext cx="45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看见一条发着绿光的鱼，幽幽地飘向海洋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98720" y="1452600"/>
            <a:ext cx="34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一同跃入澄净清冷的海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4720" y="148608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和我的鱼在海洋中快乐地嬉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1320" y="1600200"/>
            <a:ext cx="35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仰式、蝶式、蛙式、自由式、花式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93920" y="176220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恩，还有狗爬式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0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600"/>
                            </p:stCondLst>
                            <p:childTnLst>
                              <p:par>
                                <p:cTn id="27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600"/>
                            </p:stCondLst>
                            <p:childTnLst>
                              <p:par>
                                <p:cTn id="2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4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400"/>
                            </p:stCondLst>
                            <p:childTnLst>
                              <p:par>
                                <p:cTn id="2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66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600"/>
                            </p:stCondLst>
                            <p:childTnLst>
                              <p:par>
                                <p:cTn id="2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12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84360" y="29973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像一条鱼，自由自在的在大海中游来游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35120" y="290520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才发现，我也是一条被囚禁在大鱼缸中的小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925720"/>
            <a:ext cx="40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怎么努力挣扎，也游不出这透明的界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7720" y="287820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看见一条鱼，一条发着绿光，漂浮在空中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4280" y="2824200"/>
            <a:ext cx="35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摇着尾巴，依然带着微笑的表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7320" y="2917800"/>
            <a:ext cx="32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的微笑，忽然让我感到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2480" y="274320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，无法拥有这条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28920" y="303840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条像狗一样忠心，像猫一样贴心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10080" y="3038400"/>
            <a:ext cx="26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爱人一样深情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03520" y="289080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经过老桥时，想起年少时爱唱的一首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7720" y="285120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情不自禁地在车中轻轻哼了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07008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送一条鱼回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25720" y="316080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到真正的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24120" y="3254400"/>
            <a:ext cx="40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摇着尾巴，滑入一望无际的蓝色大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72080" y="3119400"/>
            <a:ext cx="25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次我真的睡着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6120" y="3052800"/>
            <a:ext cx="25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轻轻的亲吻我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800"/>
                            </p:stCondLst>
                            <p:childTnLst>
                              <p:par>
                                <p:cTn id="31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800"/>
                            </p:stCondLst>
                            <p:childTnLst>
                              <p:par>
                                <p:cTn id="3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8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9400"/>
                            </p:stCondLst>
                            <p:childTnLst>
                              <p:par>
                                <p:cTn id="33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400"/>
                            </p:stCondLst>
                            <p:childTnLst>
                              <p:par>
                                <p:cTn id="3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6600"/>
                            </p:stCondLst>
                            <p:childTnLst>
                              <p:par>
                                <p:cTn id="34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7600"/>
                            </p:stCondLst>
                            <p:childTnLst>
                              <p:par>
                                <p:cTn id="3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2600"/>
                            </p:stCondLst>
                            <p:childTnLst>
                              <p:par>
                                <p:cTn id="35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3600"/>
                            </p:stCondLst>
                            <p:childTnLst>
                              <p:par>
                                <p:cTn id="3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8200"/>
                            </p:stCondLst>
                            <p:childTnLst>
                              <p:par>
                                <p:cTn id="36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9200"/>
                            </p:stCondLst>
                            <p:childTnLst>
                              <p:par>
                                <p:cTn id="3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3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4000"/>
                            </p:stCondLst>
                            <p:childTnLst>
                              <p:par>
                                <p:cTn id="3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9000"/>
                            </p:stCondLst>
                            <p:childTnLst>
                              <p:par>
                                <p:cTn id="38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0"/>
                            </p:stCondLst>
                            <p:childTnLst>
                              <p:par>
                                <p:cTn id="3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3800"/>
                            </p:stCondLst>
                            <p:childTnLst>
                              <p:par>
                                <p:cTn id="39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4800"/>
                            </p:stCondLst>
                            <p:childTnLst>
                              <p:par>
                                <p:cTn id="3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200"/>
                            </p:stCondLst>
                            <p:childTnLst>
                              <p:par>
                                <p:cTn id="40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1200"/>
                            </p:stCondLst>
                            <p:childTnLst>
                              <p:par>
                                <p:cTn id="4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41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7000"/>
                            </p:stCondLst>
                            <p:childTnLst>
                              <p:par>
                                <p:cTn id="4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0400"/>
                            </p:stCondLst>
                            <p:childTnLst>
                              <p:par>
                                <p:cTn id="42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2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1400"/>
                            </p:stCondLst>
                            <p:childTnLst>
                              <p:par>
                                <p:cTn id="4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4600"/>
                            </p:stCondLst>
                            <p:childTnLst>
                              <p:par>
                                <p:cTn id="43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5600"/>
                            </p:stCondLst>
                            <p:childTnLst>
                              <p:par>
                                <p:cTn id="4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1000"/>
                            </p:stCondLst>
                            <p:childTnLst>
                              <p:par>
                                <p:cTn id="44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2000"/>
                            </p:stCondLst>
                            <p:childTnLst>
                              <p:par>
                                <p:cTn id="4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5600"/>
                            </p:stCondLst>
                            <p:childTnLst>
                              <p:par>
                                <p:cTn id="45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6600"/>
                            </p:stCondLst>
                            <p:childTnLst>
                              <p:par>
                                <p:cTn id="4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90400"/>
                            </p:stCondLst>
                            <p:childTnLst>
                              <p:par>
                                <p:cTn id="46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6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87520" y="3200400"/>
            <a:ext cx="43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看见一条鱼，一条平凡无奇，被困在我家中的小鱼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200"/>
                            </p:stCondLst>
                            <p:childTnLst>
                              <p:par>
                                <p:cTn id="476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87280" y="2854440"/>
            <a:ext cx="65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都仿佛是一条鱼，游不出包容我们的界限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2565360"/>
            <a:ext cx="63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某一天，我闭上眼，然后睁开眼，突然发现：我，就像这条微笑的鱼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300"/>
                            </p:stCondLst>
                            <p:childTnLst>
                              <p:par>
                                <p:cTn id="489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300"/>
                            </p:stCondLst>
                            <p:childTnLst>
                              <p:par>
                                <p:cTn id="4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2600"/>
                            </p:stCondLst>
                            <p:childTnLst>
                              <p:par>
                                <p:cTn id="499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263700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看见一条鱼，一条对我微笑的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2494080"/>
            <a:ext cx="43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管白天、夜晚，每当我经过时，她总是摇摇摆摆地游向我，对我微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2120" y="2556000"/>
            <a:ext cx="43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论天晴、天雨，她似乎都在等着我，等着我给她一个深情凝视的眼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2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200"/>
                            </p:stCondLst>
                            <p:childTnLst>
                              <p:par>
                                <p:cTn id="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34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7120" y="1560600"/>
            <a:ext cx="41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想拥有这条鱼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44520" y="685800"/>
            <a:ext cx="49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带着一条鱼，一条对我微笑的鱼回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4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4720" y="1701720"/>
            <a:ext cx="45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对她说话，她摇一摇尾巴，对我微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4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2600" y="981000"/>
            <a:ext cx="4546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看电视到深夜，她无聊地吐了几个气泡，对我微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600"/>
                            </p:stCondLst>
                            <p:childTnLst>
                              <p:par>
                                <p:cTn id="8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933680" y="1438200"/>
            <a:ext cx="45468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洗澡的时候，她眷恋的陪在我身边，对我微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66880" y="165420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始终带着微笑的表情。我喜欢这条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3416400"/>
            <a:ext cx="43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拥有一条像狗一样忠心，像猫一样贴心，像爱人一样深情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400"/>
                            </p:stCondLst>
                            <p:childTnLst>
                              <p:par>
                                <p:cTn id="109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400"/>
                            </p:stCondLst>
                            <p:childTnLst>
                              <p:par>
                                <p:cTn id="1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829480" y="1654200"/>
            <a:ext cx="29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轻轻的亲吻我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1855800"/>
            <a:ext cx="14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晚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46880" y="1990800"/>
            <a:ext cx="32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以为，我以为，我和我的鱼都睡着了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8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80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200"/>
                            </p:stCondLst>
                            <p:childTnLst>
                              <p:par>
                                <p:cTn id="14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2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8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7:32:47Z</dcterms:created>
  <dc:creator/>
  <dc:description/>
  <dc:language>en-US</dc:language>
  <cp:lastModifiedBy/>
  <dcterms:modified xsi:type="dcterms:W3CDTF">2015-01-11T09:21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