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FF76-D208-4315-B4B5-D983CC629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F6D9-ED65-4FA7-81D0-F8533F737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1E5B-4D8F-411D-932E-A6DE688CF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704F-895F-409B-A8EC-2CE88AD5F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28C35-9BC3-48EF-803D-5897C7C45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4AE5F-0ABD-4384-A67F-64CA3E1B6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EFA5C-3F92-4BB2-9225-20B12BE67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19111-87CB-42FA-B8EA-F32FC5ED1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6BE4C-9635-4216-A159-9FF04EA2C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B178E-324C-4B4F-AD79-33CE3172A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E5262-4A61-43C5-8A40-FAF8EA91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7991-6BB5-434E-A97B-67C70482A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EA3AE-DDC1-4CF3-85E7-BCA3105B8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971AE-9482-4527-A282-24353F02B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F34A9-C545-433D-B6C2-131BE5E17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0C745-41BB-4EE6-8D71-338EA67DE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FC58C-9A98-4B4C-8CDD-E0F699D7A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6A62-AC46-4751-ADD5-4726AE375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7CFB-EE20-460F-A3D1-9757B1924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414C-B472-4C57-B565-0BA95EBD1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E494-16CC-40ED-B86C-1D0A7805D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AC2B-3440-4F81-901A-8B7C30029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54EC-6F2C-4468-BA2F-32EEB036F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4059-C7E7-4541-83FB-9064E597D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C8F98-B04B-4B50-98A7-C30794B8AC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440" y="4869000"/>
            <a:ext cx="9142560" cy="2004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640" y="1123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A32F2-0F2D-4BE4-9EAD-EE9F018286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5640" y="1123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55640" y="2637000"/>
            <a:ext cx="6400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61840" y="63244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5640" y="1123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ffff"/>
                </a:solidFill>
                <a:latin typeface="Arial"/>
              </a:rPr>
              <a:t>The end,thank you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0T16:34:19Z</dcterms:created>
  <dc:creator/>
  <dc:description/>
  <dc:language>en-US</dc:language>
  <cp:lastModifiedBy/>
  <dcterms:modified xsi:type="dcterms:W3CDTF">2015-01-10T12:24:5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