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214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146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214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146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6A6C-8001-4E4A-8371-DBB3C73A13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C18A-AEC8-4CB2-8802-692441B0A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408-7274-4C8D-9B31-CC55649FA2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A1EB-C3DA-494D-A485-D881AEFC7C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438D-FC6B-44DD-9548-200691D55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F540-ED9A-4F82-9662-0F5D8F38F3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9480-685A-442E-9A06-7C788BB23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019-13C7-40B2-AD63-729DCDDEE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CCE5-D06B-411B-A552-BDAE46E086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2767-05C1-4C3D-9907-D94911F6DE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B60D-526A-4591-997F-8871331E71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214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14640" y="152388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5214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814640" y="38880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568E-3C13-47D3-8E9C-D30F525C3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03680" y="38880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03680" y="152388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880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EA2-021B-4CCB-BE96-75422E03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586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4080" y="18288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0:37:06Z</dcterms:created>
  <dc:creator>Nan Shastry</dc:creator>
  <dc:description/>
  <dc:language>en-US</dc:language>
  <cp:lastModifiedBy>Nan Shastry</cp:lastModifiedBy>
  <dcterms:modified xsi:type="dcterms:W3CDTF">2015-01-11T12:28:57Z</dcterms:modified>
  <cp:revision>2</cp:revision>
  <dc:subject/>
  <dc:title>The Road Not Tak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