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65E65-E774-4933-AC01-F4A61B8236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219640" y="333000"/>
            <a:ext cx="347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9280" y="3141720"/>
            <a:ext cx="814716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9280" y="4834080"/>
            <a:ext cx="814716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E07CB-9144-43EF-862F-166D3393FE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219640" y="333000"/>
            <a:ext cx="347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9280" y="3141720"/>
            <a:ext cx="397548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3840" y="3141720"/>
            <a:ext cx="397548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9280" y="4834080"/>
            <a:ext cx="397548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13840" y="4834080"/>
            <a:ext cx="397548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85AE7-98E2-4375-BCE0-1577DAB1F6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219640" y="333000"/>
            <a:ext cx="347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9280" y="3141720"/>
            <a:ext cx="262332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94000" y="3141720"/>
            <a:ext cx="262332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49080" y="3141720"/>
            <a:ext cx="262332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9280" y="4834080"/>
            <a:ext cx="262332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94000" y="4834080"/>
            <a:ext cx="262332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49080" y="4834080"/>
            <a:ext cx="262332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79F75-9AD4-4CEA-BD33-25F616FD6E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919DF0-2853-481B-8FAE-7501C9D43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219640" y="333000"/>
            <a:ext cx="347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39280" y="3141720"/>
            <a:ext cx="814716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81AB13-CAB4-4EB6-A051-3B9AB6935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219640" y="333000"/>
            <a:ext cx="347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280" y="3141720"/>
            <a:ext cx="81471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E56835-B015-4B6F-A1FC-D66C05EE8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219640" y="333000"/>
            <a:ext cx="347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9280" y="3141720"/>
            <a:ext cx="397548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13840" y="3141720"/>
            <a:ext cx="397548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ECB77C-A792-4B8D-9008-B91B78808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219640" y="333000"/>
            <a:ext cx="347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3C6B07-2879-434C-9B81-51073CC5D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219640" y="333000"/>
            <a:ext cx="3478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90CF8E-9579-4F94-8B3A-19B9F1914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219640" y="333000"/>
            <a:ext cx="347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9280" y="3141720"/>
            <a:ext cx="397548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3840" y="3141720"/>
            <a:ext cx="397548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39280" y="4834080"/>
            <a:ext cx="397548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0C5D94-29D3-4549-A247-89B0A32A6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219640" y="333000"/>
            <a:ext cx="347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39280" y="3141720"/>
            <a:ext cx="814716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30BEE-4EC9-417A-A063-0F922B3D7C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219640" y="333000"/>
            <a:ext cx="347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9280" y="3141720"/>
            <a:ext cx="397548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3840" y="3141720"/>
            <a:ext cx="397548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13840" y="4834080"/>
            <a:ext cx="397548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2BF46F-B7C8-4385-BA28-8E2D264DE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219640" y="333000"/>
            <a:ext cx="347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9280" y="3141720"/>
            <a:ext cx="397548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3840" y="3141720"/>
            <a:ext cx="397548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9280" y="4834080"/>
            <a:ext cx="814716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B0D1C8-9A46-491F-9C26-C0480AF3A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219640" y="333000"/>
            <a:ext cx="347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9280" y="3141720"/>
            <a:ext cx="814716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9280" y="4834080"/>
            <a:ext cx="814716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1A07F9-FDB6-4173-ADCF-603FD65E9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219640" y="333000"/>
            <a:ext cx="347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9280" y="3141720"/>
            <a:ext cx="397548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3840" y="3141720"/>
            <a:ext cx="397548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9280" y="4834080"/>
            <a:ext cx="397548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13840" y="4834080"/>
            <a:ext cx="397548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B06FB6-BAEC-4F84-A7BD-84C4724DD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219640" y="333000"/>
            <a:ext cx="347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9280" y="3141720"/>
            <a:ext cx="262332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4000" y="3141720"/>
            <a:ext cx="262332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49080" y="3141720"/>
            <a:ext cx="262332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39280" y="4834080"/>
            <a:ext cx="262332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4000" y="4834080"/>
            <a:ext cx="262332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49080" y="4834080"/>
            <a:ext cx="262332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8D544F-A7AD-4337-8191-3AEF3B756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219640" y="333000"/>
            <a:ext cx="347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39280" y="3141720"/>
            <a:ext cx="81471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9BBD1-4983-46B0-AF9F-1465B1D19F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219640" y="333000"/>
            <a:ext cx="347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9280" y="3141720"/>
            <a:ext cx="397548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13840" y="3141720"/>
            <a:ext cx="397548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2BE7F-657D-4C1B-8C77-88956A4FA3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219640" y="333000"/>
            <a:ext cx="347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EED7C-2DBD-45BE-B274-D1F7B38E97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219640" y="333000"/>
            <a:ext cx="3478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63C21-B341-4B69-9156-B8F20F12C7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219640" y="333000"/>
            <a:ext cx="347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9280" y="3141720"/>
            <a:ext cx="397548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3840" y="3141720"/>
            <a:ext cx="397548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39280" y="4834080"/>
            <a:ext cx="397548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2AE96-CD86-4B90-9323-684F38D7F7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219640" y="333000"/>
            <a:ext cx="347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9280" y="3141720"/>
            <a:ext cx="397548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3840" y="3141720"/>
            <a:ext cx="397548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13840" y="4834080"/>
            <a:ext cx="397548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BEEBB-7457-47BE-A609-28DB049E30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219640" y="333000"/>
            <a:ext cx="347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9280" y="3141720"/>
            <a:ext cx="397548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3840" y="3141720"/>
            <a:ext cx="397548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9280" y="4834080"/>
            <a:ext cx="814716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60621-D311-4A95-9BB4-6CFF44F3AA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219640" y="333000"/>
            <a:ext cx="347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280" y="3141720"/>
            <a:ext cx="81471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-203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30960" indent="-203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30960" indent="-203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30960" indent="-203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597440" y="6244920"/>
            <a:ext cx="1089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D7D21-F38B-4DD4-A00C-A75A3F8AB3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131640" y="1052280"/>
            <a:ext cx="53247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7121B-CF42-478D-812F-9AA891BA5F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31640" y="1052280"/>
            <a:ext cx="53247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3780000" y="2637000"/>
            <a:ext cx="40320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08120" y="638172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219280" y="333000"/>
            <a:ext cx="347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9280" y="3141720"/>
            <a:ext cx="81471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9T13:20:28Z</dcterms:created>
  <dc:creator/>
  <dc:description/>
  <dc:language>en-US</dc:language>
  <cp:lastModifiedBy/>
  <dcterms:modified xsi:type="dcterms:W3CDTF">2015-01-11T08:43:23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