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3963-D520-48D0-B8BD-4A37A2A7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BB1F-46EF-4104-A163-50BE56BA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B445-74F4-42C5-A5FB-065634E6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F582-09ED-4E5A-8DF0-BA3ECAD6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B1A6-B427-4DDD-BBB3-EE7586AF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DB04-52AB-4D6A-8AC3-42CC79EE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FEE9-CF2F-474E-A34B-93681E09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7E3C-453A-4469-B325-1CE713C3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BA42-BFBA-4350-9343-E035A38E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0049-97E5-43DE-8E1A-E6853697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9B12-DC83-4856-AB89-8C1181AA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4E4E-4793-493A-95CF-89907F2F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61AF-B32A-45A2-9BB8-95133764B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C:\Documents and Settings\Administrator\桌面\图片1.png"/>
          <p:cNvPicPr/>
          <p:nvPr/>
        </p:nvPicPr>
        <p:blipFill>
          <a:blip r:embed="rId1"/>
          <a:stretch/>
        </p:blipFill>
        <p:spPr>
          <a:xfrm>
            <a:off x="2073240" y="2693880"/>
            <a:ext cx="4230720" cy="12384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2340000" y="3608280"/>
            <a:ext cx="4395600" cy="181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2135160" y="2644920"/>
            <a:ext cx="49579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C:\Documents and Settings\Administrator\桌面\abstract-design-with-beautiful-flowers2.png"/>
          <p:cNvPicPr/>
          <p:nvPr/>
        </p:nvPicPr>
        <p:blipFill>
          <a:blip r:embed="rId2"/>
          <a:stretch/>
        </p:blipFill>
        <p:spPr>
          <a:xfrm flipH="1" rot="831600">
            <a:off x="1798920" y="2477880"/>
            <a:ext cx="1219320" cy="110484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0" y="5586480"/>
            <a:ext cx="9144000" cy="1371600"/>
            <a:chOff x="0" y="5586480"/>
            <a:chExt cx="9144000" cy="1371600"/>
          </a:xfrm>
        </p:grpSpPr>
        <p:pic>
          <p:nvPicPr>
            <p:cNvPr id="82" name="Picture 2" descr=""/>
            <p:cNvPicPr/>
            <p:nvPr/>
          </p:nvPicPr>
          <p:blipFill>
            <a:blip r:embed="rId3"/>
            <a:stretch/>
          </p:blipFill>
          <p:spPr>
            <a:xfrm>
              <a:off x="2428920" y="5864040"/>
              <a:ext cx="3079800" cy="10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" descr=""/>
            <p:cNvPicPr/>
            <p:nvPr/>
          </p:nvPicPr>
          <p:blipFill>
            <a:blip r:embed="rId4"/>
            <a:stretch/>
          </p:blipFill>
          <p:spPr>
            <a:xfrm>
              <a:off x="0" y="5664240"/>
              <a:ext cx="346212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2" descr=""/>
            <p:cNvPicPr/>
            <p:nvPr/>
          </p:nvPicPr>
          <p:blipFill>
            <a:blip r:embed="rId5"/>
            <a:stretch/>
          </p:blipFill>
          <p:spPr>
            <a:xfrm>
              <a:off x="6443640" y="5586480"/>
              <a:ext cx="270036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2" descr=""/>
            <p:cNvPicPr/>
            <p:nvPr/>
          </p:nvPicPr>
          <p:blipFill>
            <a:blip r:embed="rId6"/>
            <a:stretch/>
          </p:blipFill>
          <p:spPr>
            <a:xfrm flipH="1">
              <a:off x="5006520" y="5801760"/>
              <a:ext cx="1876320" cy="109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6540120" y="616572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05120" y="285444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蜜蜂卡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112E-017 1.85185E-006 L 0.44063 1.85185E-006 E">
                                      <p:cBhvr>
                                        <p:cTn id="9" dur="3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120000">
                                      <p:cBhvr>
                                        <p:cTn id="11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12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14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2"/>
          <p:cNvSpPr/>
          <p:nvPr/>
        </p:nvSpPr>
        <p:spPr>
          <a:xfrm>
            <a:off x="0" y="5248440"/>
            <a:ext cx="9161640" cy="1609560"/>
          </a:xfrm>
          <a:custGeom>
            <a:avLst/>
            <a:gdLst/>
            <a:ahLst/>
            <a:rect l="l" t="t" r="r" b="b"/>
            <a:pathLst>
              <a:path w="9163051" h="1609378">
                <a:moveTo>
                  <a:pt x="0" y="628650"/>
                </a:moveTo>
                <a:lnTo>
                  <a:pt x="9163051" y="0"/>
                </a:lnTo>
                <a:lnTo>
                  <a:pt x="9144001" y="1609378"/>
                </a:lnTo>
                <a:lnTo>
                  <a:pt x="0" y="1609378"/>
                </a:lnTo>
                <a:lnTo>
                  <a:pt x="0" y="62865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-11160" y="4305240"/>
            <a:ext cx="9153720" cy="1571760"/>
          </a:xfrm>
          <a:custGeom>
            <a:avLst/>
            <a:gdLst/>
            <a:ahLst/>
            <a:rect l="l" t="t" r="r" b="b"/>
            <a:pathLst>
              <a:path w="9163051" h="1571972">
                <a:moveTo>
                  <a:pt x="0" y="1571972"/>
                </a:moveTo>
                <a:lnTo>
                  <a:pt x="9163051" y="943322"/>
                </a:lnTo>
                <a:lnTo>
                  <a:pt x="9163051" y="42862"/>
                </a:lnTo>
                <a:lnTo>
                  <a:pt x="0" y="0"/>
                </a:lnTo>
                <a:lnTo>
                  <a:pt x="0" y="1571972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-11160" y="2665440"/>
            <a:ext cx="9155160" cy="1695600"/>
          </a:xfrm>
          <a:custGeom>
            <a:avLst/>
            <a:gdLst/>
            <a:ahLst/>
            <a:rect l="l" t="t" r="r" b="b"/>
            <a:pathLst>
              <a:path w="9164854" h="1695783">
                <a:moveTo>
                  <a:pt x="0" y="483507"/>
                </a:moveTo>
                <a:lnTo>
                  <a:pt x="9148537" y="0"/>
                </a:lnTo>
                <a:cubicBezTo>
                  <a:pt x="9145967" y="5403"/>
                  <a:pt x="9167208" y="6043"/>
                  <a:pt x="9164638" y="11446"/>
                </a:cubicBezTo>
                <a:cubicBezTo>
                  <a:pt x="9162522" y="572892"/>
                  <a:pt x="9160405" y="1134337"/>
                  <a:pt x="9158289" y="1695783"/>
                </a:cubicBezTo>
                <a:lnTo>
                  <a:pt x="0" y="1640221"/>
                </a:lnTo>
                <a:lnTo>
                  <a:pt x="0" y="483507"/>
                </a:lnTo>
                <a:close/>
              </a:path>
            </a:pathLst>
          </a:cu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"/>
          <p:cNvSpPr/>
          <p:nvPr/>
        </p:nvSpPr>
        <p:spPr>
          <a:xfrm>
            <a:off x="-11160" y="1701720"/>
            <a:ext cx="9159840" cy="1446120"/>
          </a:xfrm>
          <a:custGeom>
            <a:avLst/>
            <a:gdLst/>
            <a:ahLst/>
            <a:rect l="l" t="t" r="r" b="b"/>
            <a:pathLst>
              <a:path w="9169401" h="1446786">
                <a:moveTo>
                  <a:pt x="0" y="1446786"/>
                </a:moveTo>
                <a:lnTo>
                  <a:pt x="9162824" y="968042"/>
                </a:lnTo>
                <a:cubicBezTo>
                  <a:pt x="9165016" y="645361"/>
                  <a:pt x="9167209" y="322681"/>
                  <a:pt x="9169401" y="0"/>
                </a:cubicBezTo>
                <a:lnTo>
                  <a:pt x="12700" y="317500"/>
                </a:lnTo>
                <a:lnTo>
                  <a:pt x="0" y="144678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0" y="227160"/>
            <a:ext cx="9148680" cy="1792080"/>
          </a:xfrm>
          <a:custGeom>
            <a:avLst/>
            <a:gdLst/>
            <a:ahLst/>
            <a:rect l="l" t="t" r="r" b="b"/>
            <a:pathLst>
              <a:path w="9156701" h="1792621">
                <a:moveTo>
                  <a:pt x="7937" y="1024844"/>
                </a:moveTo>
                <a:lnTo>
                  <a:pt x="9150124" y="0"/>
                </a:lnTo>
                <a:cubicBezTo>
                  <a:pt x="9152316" y="491707"/>
                  <a:pt x="9154509" y="983414"/>
                  <a:pt x="9156701" y="1475121"/>
                </a:cubicBezTo>
                <a:lnTo>
                  <a:pt x="0" y="1792621"/>
                </a:lnTo>
                <a:cubicBezTo>
                  <a:pt x="2646" y="1536695"/>
                  <a:pt x="5291" y="1280770"/>
                  <a:pt x="7937" y="102484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"/>
          <p:cNvSpPr/>
          <p:nvPr/>
        </p:nvSpPr>
        <p:spPr>
          <a:xfrm>
            <a:off x="0" y="-15840"/>
            <a:ext cx="9151920" cy="1281240"/>
          </a:xfrm>
          <a:custGeom>
            <a:avLst/>
            <a:gdLst/>
            <a:ahLst/>
            <a:rect l="l" t="t" r="r" b="b"/>
            <a:pathLst>
              <a:path w="9155305" h="1291210">
                <a:moveTo>
                  <a:pt x="192" y="1291210"/>
                </a:moveTo>
                <a:lnTo>
                  <a:pt x="9147141" y="252079"/>
                </a:lnTo>
                <a:lnTo>
                  <a:pt x="9155305" y="0"/>
                </a:lnTo>
                <a:lnTo>
                  <a:pt x="1779" y="25400"/>
                </a:lnTo>
                <a:cubicBezTo>
                  <a:pt x="2838" y="439399"/>
                  <a:pt x="-867" y="877211"/>
                  <a:pt x="192" y="1291210"/>
                </a:cubicBezTo>
                <a:close/>
              </a:path>
            </a:pathLst>
          </a:custGeom>
          <a:solidFill>
            <a:srgbClr val="f179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C:\Documents and Settings\Administrator\桌面\abstract-design-with-beautiful-flowers2.png"/>
          <p:cNvPicPr/>
          <p:nvPr/>
        </p:nvPicPr>
        <p:blipFill>
          <a:blip r:embed="rId1"/>
          <a:stretch/>
        </p:blipFill>
        <p:spPr>
          <a:xfrm>
            <a:off x="4211640" y="4797360"/>
            <a:ext cx="905040" cy="844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 rot="21435600">
            <a:off x="-2171880" y="2012760"/>
            <a:ext cx="7712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少儿简体"/>
                <a:ea typeface="方正少儿简体"/>
              </a:rPr>
              <a:t>单击此处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 rot="21420000">
            <a:off x="258840" y="2603160"/>
            <a:ext cx="511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卡通简体"/>
                <a:ea typeface="方正卡通简体"/>
              </a:rPr>
              <a:t>适用于儿童类别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5" descr="H:\Files\4cbb49c3e377d8365aa20a00\abstract-design-with-beautiful-flowers2.png"/>
          <p:cNvPicPr/>
          <p:nvPr/>
        </p:nvPicPr>
        <p:blipFill>
          <a:blip r:embed="rId2"/>
          <a:stretch/>
        </p:blipFill>
        <p:spPr>
          <a:xfrm>
            <a:off x="4788000" y="1773360"/>
            <a:ext cx="4344840" cy="5132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C:\Documents and Settings\Administrator\桌面\abstract-design-with-beautiful-flowers2.png"/>
          <p:cNvPicPr/>
          <p:nvPr/>
        </p:nvPicPr>
        <p:blipFill>
          <a:blip r:embed="rId3"/>
          <a:stretch/>
        </p:blipFill>
        <p:spPr>
          <a:xfrm>
            <a:off x="5075280" y="2803680"/>
            <a:ext cx="15541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8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59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61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4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65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67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椭圆 19"/>
          <p:cNvSpPr/>
          <p:nvPr/>
        </p:nvSpPr>
        <p:spPr>
          <a:xfrm>
            <a:off x="7064280" y="833400"/>
            <a:ext cx="676440" cy="660600"/>
          </a:xfrm>
          <a:prstGeom prst="ellipse">
            <a:avLst/>
          </a:prstGeom>
          <a:solidFill>
            <a:srgbClr val="d9d9d9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2"/>
          <p:cNvSpPr/>
          <p:nvPr/>
        </p:nvSpPr>
        <p:spPr>
          <a:xfrm>
            <a:off x="-387360" y="5516640"/>
            <a:ext cx="1430280" cy="1441440"/>
          </a:xfrm>
          <a:prstGeom prst="ellipse">
            <a:avLst/>
          </a:prstGeom>
          <a:solidFill>
            <a:srgbClr val="d9d9d9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349560" y="-693720"/>
            <a:ext cx="1970280" cy="1871640"/>
            <a:chOff x="-349560" y="-693720"/>
            <a:chExt cx="1970280" cy="1871640"/>
          </a:xfrm>
        </p:grpSpPr>
        <p:sp>
          <p:nvSpPr>
            <p:cNvPr id="103" name="Rectangle 4"/>
            <p:cNvSpPr/>
            <p:nvPr/>
          </p:nvSpPr>
          <p:spPr>
            <a:xfrm>
              <a:off x="-7200" y="6480"/>
              <a:ext cx="965880" cy="8265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5"/>
            <p:cNvSpPr/>
            <p:nvPr/>
          </p:nvSpPr>
          <p:spPr>
            <a:xfrm rot="19526400">
              <a:off x="-150840" y="-352080"/>
              <a:ext cx="15732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0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4"/>
          <p:cNvSpPr/>
          <p:nvPr/>
        </p:nvSpPr>
        <p:spPr>
          <a:xfrm>
            <a:off x="0" y="6477120"/>
            <a:ext cx="914256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C:\Documents and Settings\Administrator\桌面\abstract-design-with-beautiful-flowers2.png"/>
          <p:cNvPicPr/>
          <p:nvPr/>
        </p:nvPicPr>
        <p:blipFill>
          <a:blip r:embed="rId1"/>
          <a:stretch/>
        </p:blipFill>
        <p:spPr>
          <a:xfrm>
            <a:off x="6130800" y="5492880"/>
            <a:ext cx="601920" cy="561960"/>
          </a:xfrm>
          <a:prstGeom prst="rect">
            <a:avLst/>
          </a:prstGeom>
          <a:ln w="0">
            <a:noFill/>
          </a:ln>
        </p:spPr>
      </p:pic>
      <p:sp>
        <p:nvSpPr>
          <p:cNvPr id="107" name="椭圆 16"/>
          <p:cNvSpPr/>
          <p:nvPr/>
        </p:nvSpPr>
        <p:spPr>
          <a:xfrm>
            <a:off x="4718160" y="3838680"/>
            <a:ext cx="1295280" cy="1319040"/>
          </a:xfrm>
          <a:prstGeom prst="ellipse">
            <a:avLst/>
          </a:prstGeom>
          <a:solidFill>
            <a:srgbClr val="d9d9d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17"/>
          <p:cNvSpPr/>
          <p:nvPr/>
        </p:nvSpPr>
        <p:spPr>
          <a:xfrm>
            <a:off x="1314360" y="2217600"/>
            <a:ext cx="2178000" cy="2148120"/>
          </a:xfrm>
          <a:prstGeom prst="ellipse">
            <a:avLst/>
          </a:prstGeom>
          <a:solidFill>
            <a:srgbClr val="d9d9d9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18"/>
          <p:cNvSpPr/>
          <p:nvPr/>
        </p:nvSpPr>
        <p:spPr>
          <a:xfrm>
            <a:off x="4743360" y="2297160"/>
            <a:ext cx="906480" cy="922320"/>
          </a:xfrm>
          <a:prstGeom prst="ellipse">
            <a:avLst/>
          </a:prstGeom>
          <a:solidFill>
            <a:srgbClr val="d9d9d9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5" descr="H:\Files\4cbb49c3e377d8365aa20a00\abstract-design-with-beautiful-flowers2.png"/>
          <p:cNvPicPr/>
          <p:nvPr/>
        </p:nvPicPr>
        <p:blipFill>
          <a:blip r:embed="rId2"/>
          <a:stretch/>
        </p:blipFill>
        <p:spPr>
          <a:xfrm>
            <a:off x="6378480" y="3627360"/>
            <a:ext cx="2721240" cy="321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C:\Documents and Settings\Administrator\桌面\abstract-design-with-beautiful-flowers2.png"/>
          <p:cNvPicPr/>
          <p:nvPr/>
        </p:nvPicPr>
        <p:blipFill>
          <a:blip r:embed="rId3"/>
          <a:stretch/>
        </p:blipFill>
        <p:spPr>
          <a:xfrm>
            <a:off x="6659640" y="4365720"/>
            <a:ext cx="97308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4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85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87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91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93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2"/>
          <p:cNvSpPr/>
          <p:nvPr/>
        </p:nvSpPr>
        <p:spPr>
          <a:xfrm>
            <a:off x="0" y="5248440"/>
            <a:ext cx="9161640" cy="1609560"/>
          </a:xfrm>
          <a:custGeom>
            <a:avLst/>
            <a:gdLst/>
            <a:ahLst/>
            <a:rect l="l" t="t" r="r" b="b"/>
            <a:pathLst>
              <a:path w="9163051" h="1609378">
                <a:moveTo>
                  <a:pt x="0" y="628650"/>
                </a:moveTo>
                <a:lnTo>
                  <a:pt x="9163051" y="0"/>
                </a:lnTo>
                <a:lnTo>
                  <a:pt x="9144001" y="1609378"/>
                </a:lnTo>
                <a:lnTo>
                  <a:pt x="0" y="1609378"/>
                </a:lnTo>
                <a:lnTo>
                  <a:pt x="0" y="62865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"/>
          <p:cNvSpPr/>
          <p:nvPr/>
        </p:nvSpPr>
        <p:spPr>
          <a:xfrm>
            <a:off x="-11160" y="4305240"/>
            <a:ext cx="9153720" cy="1571760"/>
          </a:xfrm>
          <a:custGeom>
            <a:avLst/>
            <a:gdLst/>
            <a:ahLst/>
            <a:rect l="l" t="t" r="r" b="b"/>
            <a:pathLst>
              <a:path w="9163051" h="1571972">
                <a:moveTo>
                  <a:pt x="0" y="1571972"/>
                </a:moveTo>
                <a:lnTo>
                  <a:pt x="9163051" y="943322"/>
                </a:lnTo>
                <a:lnTo>
                  <a:pt x="9163051" y="42862"/>
                </a:lnTo>
                <a:lnTo>
                  <a:pt x="0" y="0"/>
                </a:lnTo>
                <a:lnTo>
                  <a:pt x="0" y="1571972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"/>
          <p:cNvSpPr/>
          <p:nvPr/>
        </p:nvSpPr>
        <p:spPr>
          <a:xfrm>
            <a:off x="-11160" y="2665440"/>
            <a:ext cx="9155160" cy="1695600"/>
          </a:xfrm>
          <a:custGeom>
            <a:avLst/>
            <a:gdLst/>
            <a:ahLst/>
            <a:rect l="l" t="t" r="r" b="b"/>
            <a:pathLst>
              <a:path w="9164854" h="1695783">
                <a:moveTo>
                  <a:pt x="0" y="483507"/>
                </a:moveTo>
                <a:lnTo>
                  <a:pt x="9148537" y="0"/>
                </a:lnTo>
                <a:cubicBezTo>
                  <a:pt x="9145967" y="5403"/>
                  <a:pt x="9167208" y="6043"/>
                  <a:pt x="9164638" y="11446"/>
                </a:cubicBezTo>
                <a:cubicBezTo>
                  <a:pt x="9162522" y="572892"/>
                  <a:pt x="9160405" y="1134337"/>
                  <a:pt x="9158289" y="1695783"/>
                </a:cubicBezTo>
                <a:lnTo>
                  <a:pt x="0" y="1640221"/>
                </a:lnTo>
                <a:lnTo>
                  <a:pt x="0" y="483507"/>
                </a:lnTo>
                <a:close/>
              </a:path>
            </a:pathLst>
          </a:cu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"/>
          <p:cNvSpPr/>
          <p:nvPr/>
        </p:nvSpPr>
        <p:spPr>
          <a:xfrm>
            <a:off x="-11160" y="1701720"/>
            <a:ext cx="9159840" cy="1446120"/>
          </a:xfrm>
          <a:custGeom>
            <a:avLst/>
            <a:gdLst/>
            <a:ahLst/>
            <a:rect l="l" t="t" r="r" b="b"/>
            <a:pathLst>
              <a:path w="9169401" h="1446786">
                <a:moveTo>
                  <a:pt x="0" y="1446786"/>
                </a:moveTo>
                <a:lnTo>
                  <a:pt x="9162824" y="968042"/>
                </a:lnTo>
                <a:cubicBezTo>
                  <a:pt x="9165016" y="645361"/>
                  <a:pt x="9167209" y="322681"/>
                  <a:pt x="9169401" y="0"/>
                </a:cubicBezTo>
                <a:lnTo>
                  <a:pt x="12700" y="317500"/>
                </a:lnTo>
                <a:lnTo>
                  <a:pt x="0" y="144678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2"/>
          <p:cNvSpPr/>
          <p:nvPr/>
        </p:nvSpPr>
        <p:spPr>
          <a:xfrm>
            <a:off x="0" y="227160"/>
            <a:ext cx="9148680" cy="1792080"/>
          </a:xfrm>
          <a:custGeom>
            <a:avLst/>
            <a:gdLst/>
            <a:ahLst/>
            <a:rect l="l" t="t" r="r" b="b"/>
            <a:pathLst>
              <a:path w="9156701" h="1792621">
                <a:moveTo>
                  <a:pt x="7937" y="1024844"/>
                </a:moveTo>
                <a:lnTo>
                  <a:pt x="9150124" y="0"/>
                </a:lnTo>
                <a:cubicBezTo>
                  <a:pt x="9152316" y="491707"/>
                  <a:pt x="9154509" y="983414"/>
                  <a:pt x="9156701" y="1475121"/>
                </a:cubicBezTo>
                <a:lnTo>
                  <a:pt x="0" y="1792621"/>
                </a:lnTo>
                <a:cubicBezTo>
                  <a:pt x="2646" y="1536695"/>
                  <a:pt x="5291" y="1280770"/>
                  <a:pt x="7937" y="102484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2"/>
          <p:cNvSpPr/>
          <p:nvPr/>
        </p:nvSpPr>
        <p:spPr>
          <a:xfrm>
            <a:off x="0" y="-15840"/>
            <a:ext cx="9151920" cy="1281240"/>
          </a:xfrm>
          <a:custGeom>
            <a:avLst/>
            <a:gdLst/>
            <a:ahLst/>
            <a:rect l="l" t="t" r="r" b="b"/>
            <a:pathLst>
              <a:path w="9155305" h="1291210">
                <a:moveTo>
                  <a:pt x="192" y="1291210"/>
                </a:moveTo>
                <a:lnTo>
                  <a:pt x="9147141" y="252079"/>
                </a:lnTo>
                <a:lnTo>
                  <a:pt x="9155305" y="0"/>
                </a:lnTo>
                <a:lnTo>
                  <a:pt x="1779" y="25400"/>
                </a:lnTo>
                <a:cubicBezTo>
                  <a:pt x="2838" y="439399"/>
                  <a:pt x="-867" y="877211"/>
                  <a:pt x="192" y="1291210"/>
                </a:cubicBezTo>
                <a:close/>
              </a:path>
            </a:pathLst>
          </a:custGeom>
          <a:solidFill>
            <a:srgbClr val="f179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C:\Documents and Settings\Administrator\桌面\abstract-design-with-beautiful-flowers2.png"/>
          <p:cNvPicPr/>
          <p:nvPr/>
        </p:nvPicPr>
        <p:blipFill>
          <a:blip r:embed="rId1"/>
          <a:stretch/>
        </p:blipFill>
        <p:spPr>
          <a:xfrm>
            <a:off x="4211640" y="4797360"/>
            <a:ext cx="905040" cy="8445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5" descr="H:\Files\4cbb49c3e377d8365aa20a00\abstract-design-with-beautiful-flowers2.png"/>
          <p:cNvPicPr/>
          <p:nvPr/>
        </p:nvPicPr>
        <p:blipFill>
          <a:blip r:embed="rId2"/>
          <a:stretch/>
        </p:blipFill>
        <p:spPr>
          <a:xfrm>
            <a:off x="4788000" y="1773360"/>
            <a:ext cx="4344840" cy="5132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C:\Documents and Settings\Administrator\桌面\abstract-design-with-beautiful-flowers2.png"/>
          <p:cNvPicPr/>
          <p:nvPr/>
        </p:nvPicPr>
        <p:blipFill>
          <a:blip r:embed="rId3"/>
          <a:stretch/>
        </p:blipFill>
        <p:spPr>
          <a:xfrm>
            <a:off x="5075280" y="2803680"/>
            <a:ext cx="1554120" cy="14065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 rot="21435600">
            <a:off x="-2239920" y="1797120"/>
            <a:ext cx="7711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少儿简体"/>
                <a:ea typeface="方正少儿简体"/>
              </a:rPr>
              <a:t>谢谢观赏</a:t>
            </a:r>
            <a:r>
              <a:rPr b="0" lang="zh-CN" sz="6000" spc="-1" strike="noStrike">
                <a:solidFill>
                  <a:srgbClr val="ffffff"/>
                </a:solidFill>
                <a:latin typeface="方正少儿简体"/>
                <a:ea typeface="方正少儿简体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 rot="21420000">
            <a:off x="-90000" y="2603520"/>
            <a:ext cx="5101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卡通简体"/>
                <a:ea typeface="方正卡通简体"/>
              </a:rPr>
              <a:t>适用于儿童类别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44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145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6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147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8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50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151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2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153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4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08:43:37Z</dcterms:created>
  <dc:creator/>
  <dc:description/>
  <dc:language>en-US</dc:language>
  <cp:lastModifiedBy>user</cp:lastModifiedBy>
  <dcterms:modified xsi:type="dcterms:W3CDTF">2015-01-10T08:47:44Z</dcterms:modified>
  <cp:revision>40</cp:revision>
  <dc:subject/>
  <dc:title>WPS在线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