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2B6-455C-49BF-8643-0D4CFCF9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2D5-5429-49F1-B269-FA696A3F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E45-2BCA-4EA0-BD20-B0028C5B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8CD-BC23-4DDE-9F74-F2356868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2DA1-89FF-458F-86C1-DAF396D2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7D74-7135-4977-8D20-EBCD3457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D8D1-4CE7-4090-91DA-9B9979EB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85E0-EEF0-4993-B298-FA679E1E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C72B-E12F-4137-A27B-3E4912F5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55CF-14D7-4F83-9585-1B30BDC4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1F5B-524D-4B7B-A6E1-BF601BE3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E11-F558-4084-A60F-22A7D39E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F694-FAA5-420E-BE56-097B53F4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DDC1-1510-48BA-AF64-4EE71A51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1371-0F06-496C-AC1D-B66CF7D4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A410-1B9D-43F2-BA60-37381ACA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91F7-E5EC-4655-AB45-B9D0A185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161-7422-4806-B813-4C94C2AD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FF01-6820-47D3-8B36-95D33B35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159-286B-4481-980F-613F9B66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B2B-82F7-4F36-9C34-EA197FF1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F217-F64F-4C4A-A246-F1E755E3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BE1-9079-49CD-A4E8-C5AD06BD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789-6AA8-4FCC-BE43-83131429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3240"/>
            <a:ext cx="9140400" cy="257040"/>
            <a:chOff x="3240" y="3240"/>
            <a:chExt cx="9140400" cy="257040"/>
          </a:xfrm>
        </p:grpSpPr>
        <p:sp>
          <p:nvSpPr>
            <p:cNvPr id="1" name=""/>
            <p:cNvSpPr/>
            <p:nvPr/>
          </p:nvSpPr>
          <p:spPr>
            <a:xfrm>
              <a:off x="3240" y="3240"/>
              <a:ext cx="9140400" cy="257040"/>
            </a:xfrm>
            <a:prstGeom prst="rect">
              <a:avLst/>
            </a:pr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625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05000" y="3240"/>
              <a:ext cx="343080" cy="2570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625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648440" y="3240"/>
              <a:ext cx="704520" cy="2570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625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46480" y="3240"/>
              <a:ext cx="228240" cy="257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625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a4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391D-3F94-4F2C-9EA5-75F2543D6FB9}" type="slidenum">
              <a:rPr b="0" lang="en-US" sz="1400" spc="-1" strike="noStrike">
                <a:solidFill>
                  <a:srgbClr val="0026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240" y="1677960"/>
            <a:ext cx="9140760" cy="382680"/>
            <a:chOff x="3240" y="1677960"/>
            <a:chExt cx="9140760" cy="382680"/>
          </a:xfrm>
        </p:grpSpPr>
        <p:sp>
          <p:nvSpPr>
            <p:cNvPr id="47" name=""/>
            <p:cNvSpPr/>
            <p:nvPr/>
          </p:nvSpPr>
          <p:spPr>
            <a:xfrm>
              <a:off x="3240" y="1793880"/>
              <a:ext cx="9140760" cy="266760"/>
            </a:xfrm>
            <a:prstGeom prst="rect">
              <a:avLst/>
            </a:pr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625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0" y="1677960"/>
              <a:ext cx="9140760" cy="87480"/>
            </a:xfrm>
            <a:prstGeom prst="rect">
              <a:avLst/>
            </a:pr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625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05000" y="1793880"/>
              <a:ext cx="342720" cy="2667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625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47720" y="1793880"/>
              <a:ext cx="704880" cy="266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625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46480" y="1793880"/>
              <a:ext cx="228600" cy="26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625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ECDB-7BA5-4B4B-B995-65DCE914ED45}" type="slidenum">
              <a:rPr b="0" lang="en-US" sz="1400" spc="-1" strike="noStrike">
                <a:solidFill>
                  <a:srgbClr val="0026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379440" y="2274840"/>
            <a:ext cx="842472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a4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25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262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2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625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2625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2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2625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2625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2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625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262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2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625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262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2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62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9440" y="2274840"/>
            <a:ext cx="842472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a48"/>
                </a:solidFill>
                <a:latin typeface="Arial"/>
              </a:rPr>
              <a:t>&lt;</a:t>
            </a: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项目建设方案标题</a:t>
            </a:r>
            <a:r>
              <a:rPr b="1" lang="en-US" sz="4400" spc="-1" strike="noStrike">
                <a:solidFill>
                  <a:srgbClr val="004a48"/>
                </a:solidFill>
                <a:latin typeface="Arial"/>
              </a:rPr>
              <a:t>&gt;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3644640"/>
            <a:ext cx="5616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项目负责小组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636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12E4-AA4E-42F1-9EAD-1C220DE0DE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4247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a48"/>
                </a:solidFill>
                <a:latin typeface="Arial"/>
              </a:rPr>
              <a:t>Q &amp; A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59280" y="3500280"/>
            <a:ext cx="3384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8000"/>
                    </a:srgbClr>
                  </a:outerShdw>
                </a:effectLst>
                <a:latin typeface="隶书"/>
              </a:rPr>
              <a:t>谢谢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86B8-EC9E-4B7A-99F7-EB994D6E8C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25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625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6C6-4E53-40DE-B8ED-B27B826182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项目背景与工作进展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项目背景介绍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相关工作进展说明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56D-33C1-4764-8791-8EE2DCF7D2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存在的问题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目前工作流程存在的问题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问题</a:t>
            </a:r>
            <a:r>
              <a:rPr b="0" lang="en-US" sz="2800" spc="-1" strike="noStrike">
                <a:solidFill>
                  <a:srgbClr val="002625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问题</a:t>
            </a:r>
            <a:r>
              <a:rPr b="0" lang="en-US" sz="2800" spc="-1" strike="noStrike">
                <a:solidFill>
                  <a:srgbClr val="002625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问题</a:t>
            </a:r>
            <a:r>
              <a:rPr b="0" lang="en-US" sz="2800" spc="-1" strike="noStrike">
                <a:solidFill>
                  <a:srgbClr val="002625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通过存在的问题强调该项目建设的重要性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B79-AE5B-445C-9E2E-79995D7E17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主要措施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针对上述问题采取的措施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目前措施的效果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进一步强调该项目建设的重要性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019-AE26-4AC4-AB56-FF2FC3570D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项目方案设计目标与原则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总体目标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原则说明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原则一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原则二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原则三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811A-FE17-4688-ADBC-940ABDA644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主体构架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主体构架说明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可考虑配合图示说明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850-AAE1-49FF-8C35-28DFA9F259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流程图说明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（项目方案流程图……）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C45-5779-4488-AB05-7F4F712850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主要功能概述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25"/>
                </a:solidFill>
                <a:latin typeface="Arial"/>
              </a:rPr>
              <a:t>概述该项目系统的几大突出功能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功能</a:t>
            </a:r>
            <a:r>
              <a:rPr b="0" lang="en-US" sz="2800" spc="-1" strike="noStrike">
                <a:solidFill>
                  <a:srgbClr val="002625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功能</a:t>
            </a:r>
            <a:r>
              <a:rPr b="0" lang="en-US" sz="2800" spc="-1" strike="noStrike">
                <a:solidFill>
                  <a:srgbClr val="002625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功能</a:t>
            </a:r>
            <a:r>
              <a:rPr b="0" lang="en-US" sz="2800" spc="-1" strike="noStrike">
                <a:solidFill>
                  <a:srgbClr val="002625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22A-7349-4DF8-AAE7-DE60E824C3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a48"/>
                </a:solidFill>
                <a:latin typeface="Arial"/>
              </a:rPr>
              <a:t>进度安排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第一阶段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25"/>
                </a:solidFill>
                <a:latin typeface="Arial"/>
              </a:rPr>
              <a:t>时间期限</a:t>
            </a:r>
            <a:endParaRPr b="0" lang="en-US" sz="24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25"/>
                </a:solidFill>
                <a:latin typeface="Arial"/>
              </a:rPr>
              <a:t>主要任务</a:t>
            </a:r>
            <a:endParaRPr b="0" lang="en-US" sz="2400" spc="-1" strike="noStrike">
              <a:solidFill>
                <a:srgbClr val="00262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第二阶段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25"/>
                </a:solidFill>
                <a:latin typeface="Arial"/>
              </a:rPr>
              <a:t>时间期限</a:t>
            </a:r>
            <a:endParaRPr b="0" lang="en-US" sz="24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25"/>
                </a:solidFill>
                <a:latin typeface="Arial"/>
              </a:rPr>
              <a:t>主要任务</a:t>
            </a:r>
            <a:endParaRPr b="0" lang="en-US" sz="2400" spc="-1" strike="noStrike">
              <a:solidFill>
                <a:srgbClr val="00262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625"/>
                </a:solidFill>
                <a:latin typeface="Arial"/>
              </a:rPr>
              <a:t>第三阶段</a:t>
            </a:r>
            <a:endParaRPr b="0" lang="en-US" sz="28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25"/>
                </a:solidFill>
                <a:latin typeface="Arial"/>
              </a:rPr>
              <a:t>时间期限</a:t>
            </a:r>
            <a:endParaRPr b="0" lang="en-US" sz="24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25"/>
                </a:solidFill>
                <a:latin typeface="Arial"/>
              </a:rPr>
              <a:t>主要任务</a:t>
            </a:r>
            <a:endParaRPr b="0" lang="en-US" sz="24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C6C-3263-4763-85D7-FF0727E5D5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6:45Z</dcterms:created>
  <dc:creator/>
  <dc:description/>
  <dc:language>en-US</dc:language>
  <cp:lastModifiedBy/>
  <dcterms:modified xsi:type="dcterms:W3CDTF">2015-01-11T12:26:1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