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9088-8C99-4E92-ACC2-B3B656BB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C153-5BE7-4460-AA5D-9DCFD942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C8D-5B5E-41A9-9D61-191BB9CF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5CD5-139B-45A4-9BBD-62DEE469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34C-AAB5-4B7D-9E73-59A04A32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3F9F-AC67-424B-8E56-A1D1FA0E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EA9B-6CF7-49A2-AC98-C0B61BA6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8BE-DCA4-420F-BF5A-2B5E98B5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B68-D41B-4789-8C4A-2C30FA48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CE5-0092-4A98-888A-B75AE989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07C-7FE2-40E3-9CD9-8F62E692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071E-F733-4C14-B799-6A477755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1F37-1A24-4B79-9000-AD60C269088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AC01-9D49-4998-9CB6-F29240A348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081200" y="6454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7:01:59Z</dcterms:created>
  <dc:creator>Administrator</dc:creator>
  <dc:description/>
  <dc:language>en-US</dc:language>
  <cp:lastModifiedBy>微软用户</cp:lastModifiedBy>
  <dcterms:modified xsi:type="dcterms:W3CDTF">2015-01-11T08:42:55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