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AF7-325B-402C-8FD3-A016B64E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7F47-4D06-4020-B54A-B88F90F4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51FB-2F7F-4113-93C5-576A3EE5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3662-2367-4370-A8D6-5BF712CE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B86F-3B47-4E0D-BC34-7669879B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EBB4-CD4D-4BED-A5EA-F2F38618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71F8-61E1-49DB-AB5D-659ED2FA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2796-FBCC-4D13-85B2-AD43D84B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9791-107F-4048-BBA4-97AA4CAD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CCD7-3101-4035-B461-6FA682AC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3676-2D68-4D28-A349-0539194C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53A3-CECB-47B0-8D72-2C54CAB4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0892-1470-4608-A655-F7DF37691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4280"/>
            <a:ext cx="64008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4280"/>
            <a:ext cx="64008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3889080"/>
            <a:ext cx="64008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4280"/>
            <a:ext cx="64008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hank You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！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zh-TW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zh-TW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7T07:41:40Z</dcterms:created>
  <dc:creator/>
  <dc:description/>
  <dc:language>en-US</dc:language>
  <cp:lastModifiedBy>MC SYSTEM</cp:lastModifiedBy>
  <dcterms:modified xsi:type="dcterms:W3CDTF">2015-01-11T12:29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