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DC8-9CC5-4807-A1D0-8963DB64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9296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89D-5278-480C-9ADD-6EA16E23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010-20D8-49CF-BD8D-07D790D0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730-6BB6-4D00-87D0-D4A60BD8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3C5F-50FD-42DF-BBC6-C9FFB62E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41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AF7C-C661-43D5-B62D-10BF182F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325C-13EF-4DE3-BA89-C15928EF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934F-1806-45F8-B969-E2EC6D40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260A-7649-4192-A46B-E8E10342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3040" y="7790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913D-987D-466B-AD3A-100BF28C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38D4-4346-4A29-8992-56C35DBD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41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50F-ADFB-4CFB-BEAF-CD483F74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BF3B-6A8C-4886-BDCC-2CDA3B1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2620-A0F8-4420-824D-383735DB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9296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66BE-934D-43B1-91A8-4E04D7F6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7D98-6C92-4979-831C-6ECE75A7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4D2F-1314-4705-9251-49F68278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AE4-2E22-485E-BE53-6B2B1D95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BB6-EBDA-4A35-B53A-387FEF81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231-2F32-44B6-93DD-05F6DC92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3040" y="7790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A62-9261-4DDA-8828-F92988A1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A19-1986-4280-83AA-A1F6F12D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8C7-F2A0-4088-86E9-03F58B92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79F-9467-48D7-891E-66F05B5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F5B5-6093-4C5D-ACA0-04C6ABDF1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541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9C81-312B-4773-9944-03C50CC7F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736560" y="498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6560" y="498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57280" y="155700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8280" y="64404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20202"/>
                </a:solidFill>
                <a:latin typeface="Arial"/>
              </a:rPr>
              <a:t>配色方案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52520" y="1285920"/>
            <a:ext cx="6645240" cy="2698200"/>
            <a:chOff x="1352520" y="1285920"/>
            <a:chExt cx="6645240" cy="2698200"/>
          </a:xfrm>
        </p:grpSpPr>
        <p:sp>
          <p:nvSpPr>
            <p:cNvPr id="89" name=""/>
            <p:cNvSpPr/>
            <p:nvPr/>
          </p:nvSpPr>
          <p:spPr>
            <a:xfrm>
              <a:off x="3105720" y="1974240"/>
              <a:ext cx="1356840" cy="55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71520" y="1974240"/>
              <a:ext cx="1357560" cy="551520"/>
            </a:xfrm>
            <a:prstGeom prst="rect">
              <a:avLst/>
            </a:prstGeom>
            <a:solidFill>
              <a:srgbClr val="bbc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8440" y="3432240"/>
              <a:ext cx="1357560" cy="551880"/>
            </a:xfrm>
            <a:prstGeom prst="rect">
              <a:avLst/>
            </a:prstGeom>
            <a:solidFill>
              <a:srgbClr val="67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2000" y="3432240"/>
              <a:ext cx="1356840" cy="551880"/>
            </a:xfrm>
            <a:prstGeom prst="rect">
              <a:avLst/>
            </a:prstGeom>
            <a:solidFill>
              <a:srgbClr val="f2e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85200" y="3432240"/>
              <a:ext cx="1356840" cy="551880"/>
            </a:xfrm>
            <a:prstGeom prst="rect">
              <a:avLst/>
            </a:prstGeom>
            <a:solidFill>
              <a:srgbClr val="f193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40920" y="3432240"/>
              <a:ext cx="1356840" cy="55188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12120" y="1974240"/>
              <a:ext cx="1357560" cy="551520"/>
            </a:xfrm>
            <a:prstGeom prst="rect">
              <a:avLst/>
            </a:prstGeom>
            <a:solidFill>
              <a:srgbClr val="020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52520" y="1974240"/>
              <a:ext cx="1356840" cy="551520"/>
            </a:xfrm>
            <a:prstGeom prst="rect">
              <a:avLst/>
            </a:prstGeom>
            <a:solidFill>
              <a:srgbClr val="abc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00400" y="139644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g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04520" y="1285920"/>
              <a:ext cx="76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42520" y="139644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adow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01640" y="1285920"/>
              <a:ext cx="57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86320" y="285444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24680" y="285444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28480" y="2744280"/>
              <a:ext cx="102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nt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er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04000" y="2742480"/>
              <a:ext cx="102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llow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er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Sample Graph (3 colour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74720" y="1442880"/>
            <a:ext cx="6732720" cy="3740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560" y="6424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41520"/>
            <a:ext cx="40273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10240" y="2593800"/>
            <a:ext cx="3097080" cy="3853080"/>
          </a:xfrm>
          <a:prstGeom prst="rect">
            <a:avLst/>
          </a:prstGeom>
          <a:ln w="57240">
            <a:solidFill>
              <a:srgbClr val="fcdb36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748e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96080" y="3087720"/>
            <a:ext cx="1376280" cy="2354400"/>
          </a:xfrm>
          <a:prstGeom prst="rect">
            <a:avLst/>
          </a:prstGeom>
          <a:solidFill>
            <a:srgbClr val="ffc9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/>
            <a:ahLst/>
            <a:rect l="l" t="t" r="r" b="b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/>
            <a:ahLst/>
            <a:rect l="l" t="t" r="r" b="b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2760" y="6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 of a 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01800" y="1273320"/>
          <a:ext cx="7296120" cy="3267000"/>
        </p:xfrm>
        <a:graphic>
          <a:graphicData uri="http://schemas.openxmlformats.org/drawingml/2006/table">
            <a:tbl>
              <a:tblPr/>
              <a:tblGrid>
                <a:gridCol w="3645000"/>
                <a:gridCol w="3651120"/>
              </a:tblGrid>
              <a:tr h="509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7c1e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7c1e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6560" y="498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20202"/>
                </a:solidFill>
                <a:latin typeface="Arial"/>
              </a:rPr>
              <a:t>感谢您的关注</a:t>
            </a:r>
            <a:endParaRPr b="0" lang="en-US" sz="4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57280" y="155700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unf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9bb36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9bb36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9bb36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/>
  <dc:description/>
  <dc:language>en-US</dc:language>
  <cp:lastModifiedBy>Clearly Presented</cp:lastModifiedBy>
  <dcterms:modified xsi:type="dcterms:W3CDTF">2015-01-11T08:43:50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