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4C6-D433-4C2C-8218-AD494155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3480" y="396432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1C9C-A806-4715-9C43-AB3C0F7F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976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764-E2D5-484E-95F0-81002DA5C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004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36600" y="160020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6348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004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36600" y="3964320"/>
            <a:ext cx="284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9C52-E7E2-4449-915F-7C0928EC6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3A09-661B-4D42-BA00-62C52E2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F75F-BC1A-4916-B3C6-D5B77D17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0AD-2AAA-44F9-B1F3-82702B5ED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C88-BBC5-4163-B2AF-96B7E5FF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60240" y="228600"/>
            <a:ext cx="88329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123F-CE87-4FE3-A698-3703E4F3B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2AF-8882-48CA-957C-1F04C436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9760" y="396432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C1CB-FDE2-492C-91D7-CEEDE599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6348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9760" y="1600200"/>
            <a:ext cx="4310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63480" y="3964320"/>
            <a:ext cx="8832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1D9-3C5A-4CA1-B1F5-9F0458EA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4f271c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3480" y="1600200"/>
            <a:ext cx="8832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3891a7"/>
              </a:buClr>
              <a:buSzPct val="70000"/>
              <a:buFont typeface="Wingdings 2" charset="2"/>
              <a:buChar char="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eb80a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c32d2e"/>
              </a:buClr>
              <a:buSzPct val="7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4aa33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3840" y="6248520"/>
            <a:ext cx="288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f271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9B8F-7217-43B7-989B-E98F42BA64AF}" type="datetime">
              <a:rPr b="0" lang="zh-CN" sz="1400" spc="-1" strike="noStrike">
                <a:solidFill>
                  <a:srgbClr val="4f271c"/>
                </a:solidFill>
                <a:latin typeface="Arial"/>
              </a:rPr>
              <a:t>26/7/28</a:t>
            </a:fld>
            <a:r>
              <a:rPr b="0" lang="zh-CN" sz="1400" spc="-1" strike="noStrike">
                <a:solidFill>
                  <a:srgbClr val="4f271c"/>
                </a:solidFill>
                <a:latin typeface="Arial"/>
              </a:rPr>
              <a:t> </a:t>
            </a:r>
            <a:fld id="{1343DDED-4C0F-44A2-B751-CF8C81B466F9}" type="datetime10">
              <a:rPr b="0" lang="zh-CN" sz="1400" spc="-1" strike="noStrike">
                <a:solidFill>
                  <a:srgbClr val="4f271c"/>
                </a:solidFill>
                <a:latin typeface="Arial"/>
              </a:rPr>
              <a:t>09:4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60240" y="6248520"/>
            <a:ext cx="587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90612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7780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639720" y="1279440"/>
            <a:ext cx="9266400" cy="2286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-360" y="1271160"/>
            <a:ext cx="5778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9F8D-6033-45E6-A416-7A6E21A5C957}" type="slidenum">
              <a:rPr b="1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90612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3240" y="6053040"/>
            <a:ext cx="2430360" cy="7128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556000" y="6043680"/>
            <a:ext cx="7350120" cy="712800"/>
          </a:xfrm>
          <a:prstGeom prst="rect">
            <a:avLst/>
          </a:prstGeom>
          <a:solidFill>
            <a:srgbClr val="3891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080" y="4343400"/>
            <a:ext cx="70167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296c7d"/>
                </a:solidFill>
                <a:latin typeface="Tw Cen MT"/>
                <a:ea typeface="宋体"/>
              </a:rPr>
              <a:t>演示文稿标题</a:t>
            </a:r>
            <a:br>
              <a:rPr sz="3600"/>
            </a:br>
            <a:r>
              <a:rPr b="0" lang="zh-CN" sz="3600" spc="-1" strike="noStrike">
                <a:solidFill>
                  <a:srgbClr val="296c7d"/>
                </a:solidFill>
                <a:latin typeface="Tw Cen MT"/>
                <a:ea typeface="宋体"/>
              </a:rPr>
              <a:t>演示文稿副标题</a:t>
            </a:r>
            <a:endParaRPr b="0" lang="en-US" sz="36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558520" y="6049440"/>
            <a:ext cx="7264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宋体"/>
              </a:rPr>
              <a:t>讲师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Tw Cen MT"/>
                <a:ea typeface="宋体"/>
              </a:rPr>
              <a:t>课程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"/>
          <p:cNvSpPr/>
          <p:nvPr/>
        </p:nvSpPr>
        <p:spPr>
          <a:xfrm>
            <a:off x="352080" y="6238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总结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在此处添加总结。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DA5D-6F2D-4D46-A4DF-89E1D27EFD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663480" y="1755720"/>
            <a:ext cx="174960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9880" y="272520"/>
            <a:ext cx="87505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问题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讨论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588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问题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讨论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1F1D-3E37-416C-996D-3CE9DEF09C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4f271c"/>
                </a:solidFill>
                <a:latin typeface="Tw Cen MT"/>
              </a:rPr>
              <a:t>使用规范说明</a:t>
            </a:r>
            <a:endParaRPr b="0" lang="en-US" sz="40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7960" y="1376280"/>
            <a:ext cx="9126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w Cen MT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w Cen MT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w Cen MT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8dc76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587520" y="4222800"/>
            <a:ext cx="8970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信息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59880" y="1752480"/>
            <a:ext cx="4210200" cy="4572000"/>
          </a:xfrm>
          <a:prstGeom prst="rect">
            <a:avLst/>
          </a:prstGeom>
          <a:noFill/>
          <a:ln w="1908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课目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地点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日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一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三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五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实验 周二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-</a:t>
            </a: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周四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办公室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电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电子邮件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248440" y="1752480"/>
            <a:ext cx="4209840" cy="4572000"/>
          </a:xfrm>
          <a:prstGeom prst="rect">
            <a:avLst/>
          </a:prstGeom>
          <a:noFill/>
          <a:ln w="12600">
            <a:solidFill>
              <a:srgbClr val="c58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书籍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必需的文字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其他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资料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项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A27-C05A-405A-8D9E-CF1BEC5A1B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日程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63480" y="1600200"/>
          <a:ext cx="8832960" cy="3336840"/>
        </p:xfrm>
        <a:graphic>
          <a:graphicData uri="http://schemas.openxmlformats.org/drawingml/2006/table">
            <a:tbl>
              <a:tblPr/>
              <a:tblGrid>
                <a:gridCol w="2208240"/>
                <a:gridCol w="2208240"/>
                <a:gridCol w="2208240"/>
                <a:gridCol w="2208240"/>
              </a:tblGrid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课目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/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阅读内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w Cen MT"/>
                          <a:ea typeface="宋体"/>
                        </a:rPr>
                        <a:t>作业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主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章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w Cen MT"/>
                          <a:ea typeface="宋体"/>
                        </a:rPr>
                        <a:t>任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16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4040" rIns="1040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040" marR="104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677E-D744-4FFE-96AE-C4604E1E41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663480" y="1755720"/>
            <a:ext cx="1749600" cy="2146320"/>
          </a:xfrm>
          <a:prstGeom prst="rect">
            <a:avLst/>
          </a:prstGeom>
          <a:ln cap="sq" w="50760">
            <a:solidFill>
              <a:srgbClr val="feb80a"/>
            </a:solidFill>
            <a:miter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59880" y="272520"/>
            <a:ext cx="8750520" cy="8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简介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课程说明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588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简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介绍性注释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"/>
          <p:cNvSpPr/>
          <p:nvPr/>
        </p:nvSpPr>
        <p:spPr>
          <a:xfrm>
            <a:off x="35136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1425-577B-479E-B1E6-570315A46B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目标和结果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6024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目标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课程目标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结果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预期结果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培养的技能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技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技能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B2A-E460-4A4D-A0E5-5CE2B9FA3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词汇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术语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宋体"/>
              </a:rPr>
              <a:t>3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定义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24E3-6469-468E-B656-E3AC3991EC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6024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过程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演讲幻灯片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9880" y="1589040"/>
            <a:ext cx="4210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0000"/>
              </a:lnSpc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"/>
            </a:pPr>
            <a:r>
              <a:rPr b="0" lang="zh-CN" sz="2900" spc="-1" strike="noStrike">
                <a:solidFill>
                  <a:srgbClr val="000000"/>
                </a:solidFill>
                <a:latin typeface="Tw Cen MT"/>
                <a:ea typeface="宋体"/>
              </a:rPr>
              <a:t>在此处添加过程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步骤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SzPct val="70000"/>
              <a:buFont typeface="Wingdings" charset="2"/>
              <a:buChar char=""/>
            </a:pPr>
            <a:r>
              <a:rPr b="0" lang="zh-CN" sz="2600" spc="-1" strike="noStrike">
                <a:solidFill>
                  <a:srgbClr val="000000"/>
                </a:solidFill>
                <a:latin typeface="Tw Cen MT"/>
                <a:ea typeface="宋体"/>
              </a:rPr>
              <a:t>步骤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宋体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52880" y="1600200"/>
            <a:ext cx="478800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pic>
        <p:nvPicPr>
          <p:cNvPr id="66" name="Content Placeholder 4" descr=""/>
          <p:cNvPicPr/>
          <p:nvPr/>
        </p:nvPicPr>
        <p:blipFill>
          <a:blip r:embed="rId3"/>
          <a:stretch/>
        </p:blipFill>
        <p:spPr>
          <a:xfrm>
            <a:off x="4952880" y="1600200"/>
            <a:ext cx="4788000" cy="4572000"/>
          </a:xfrm>
          <a:prstGeom prst="rect">
            <a:avLst/>
          </a:prstGeom>
          <a:ln w="50760">
            <a:solidFill>
              <a:srgbClr val="feb80a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29664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A7A-0D53-43F0-848F-953983190A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形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表 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1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69" name="Content Placeholder 5"/>
          <p:cNvSpPr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27E-6D00-4260-ADCA-507AB894A8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63480" y="228600"/>
            <a:ext cx="88329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形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/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图表 </a:t>
            </a:r>
            <a:r>
              <a:rPr b="0" lang="zh-CN" sz="4400" spc="-1" strike="noStrike">
                <a:solidFill>
                  <a:srgbClr val="4f271c"/>
                </a:solidFill>
                <a:latin typeface="Tw Cen MT"/>
                <a:ea typeface="宋体"/>
              </a:rPr>
              <a:t>2</a:t>
            </a:r>
            <a:endParaRPr b="0" lang="en-US" sz="4400" spc="-1" strike="noStrike">
              <a:solidFill>
                <a:srgbClr val="4f271c"/>
              </a:solidFill>
              <a:latin typeface="Tw Cen M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spcBef>
                <a:spcPts val="700"/>
              </a:spcBef>
              <a:buClr>
                <a:srgbClr val="feb80a"/>
              </a:buClr>
              <a:buSzPct val="60000"/>
              <a:buFont typeface="Wingdings" charset="2"/>
              <a:buChar char=""/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Content Placeholder 3"/>
          <p:cNvSpPr/>
          <p:nvPr/>
        </p:nvSpPr>
        <p:spPr>
          <a:xfrm>
            <a:off x="663480" y="1600200"/>
            <a:ext cx="883296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1360" y="6454800"/>
            <a:ext cx="142128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BDD-8756-482C-9E82-4BB9C00379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17:19:18Z</dcterms:created>
  <dc:creator>Administrator</dc:creator>
  <dc:description/>
  <dc:language>en-US</dc:language>
  <cp:lastModifiedBy/>
  <dcterms:modified xsi:type="dcterms:W3CDTF">2015-01-11T08:30:0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_TemplateID">
    <vt:lpwstr>TC101671252052</vt:lpwstr>
  </property>
</Properties>
</file>