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72C-03B2-4FD6-B39D-0B8CDD9D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B76-DB2E-4DBD-87BD-1917F59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394-DF96-4FAA-9C7D-50DAFC68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8F6-F0A3-4992-AC05-8BF0C977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50E6-9A01-43F5-8B25-CAF9D646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05D-83F0-428C-8D95-0617661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085-055F-46EE-BE0F-7B1212CE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536-010C-47A2-BE79-46DDAEE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0FE-8860-44FA-BCDB-70B9A6DC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B0EF-6844-422A-AC3A-8725A17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3E47-0591-4704-9434-0552192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9D8-540D-47C5-A7A8-8CF8BBFA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16B0-871F-40C4-BDBF-15A9272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109-693D-4B11-99FD-0D7A5AA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7335-61CB-4E6B-8FF8-133CC2AB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31D-3819-4C20-945E-D7A27A2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BBB7-F06F-4548-A6A1-B7A79C6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CA6-69EC-4A05-81AA-6388E11F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CC6-C708-44E1-AD7B-D337ED2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2F1-BB6E-426C-BDFC-F753815C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457-82F8-4DB9-A736-3085588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06F-65A7-4422-A89A-2CA79029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811-05D9-4096-BE2C-6870606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C29-30AE-42AD-A5B1-B992046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4601-E297-4400-9228-A5CE9D2117B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CC32-292F-4247-A32C-3B66889168B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  <p:sp>
        <p:nvSpPr>
          <p:cNvPr id="91" name=""/>
          <p:cNvSpPr/>
          <p:nvPr/>
        </p:nvSpPr>
        <p:spPr>
          <a:xfrm>
            <a:off x="1002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33cc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eaeaea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11:08Z</dcterms:created>
  <dc:creator>echo</dc:creator>
  <dc:description/>
  <dc:language>en-US</dc:language>
  <cp:lastModifiedBy>echo</cp:lastModifiedBy>
  <dcterms:modified xsi:type="dcterms:W3CDTF">2014-05-25T06:32:0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596802052</vt:lpwstr>
  </property>
</Properties>
</file>