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C49-4C48-4363-A3E1-4828DB13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AE9-975D-4EC4-AED6-70A49C77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F5D-0A6C-45CC-A3EC-60601720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D47-B957-4ACB-AE05-3405DA02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3DE-0063-46E8-AA1F-8DA39B6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EE5-7F91-47EB-B3F3-D8527C0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FF7-232E-4A62-829B-C303948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6D4-AEB4-4312-919C-6AB9C54E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10E-BFB4-4694-97C3-804BD52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B7A-1EC9-4B5E-BB88-7E48CF73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338-E2A9-4224-90F5-CFFAA25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663-2117-4A3B-B38E-D4E719B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97F9-4452-4A26-BB0B-560DC505A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443400" y="2133720"/>
            <a:ext cx="315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华文行楷"/>
              </a:rPr>
              <a:t>寻找遗失的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华文行楷"/>
              </a:rPr>
              <a:t>“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叶根友毛笔行书简体"/>
              </a:rPr>
              <a:t>绿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华文行楷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627280" y="1268280"/>
            <a:ext cx="0" cy="352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1908000" y="3933720"/>
            <a:ext cx="5543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宫崎骏 - 龙猫 - 胎教水晶音乐盒 散步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1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1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二二二二二"/>
          <p:cNvPicPr/>
          <p:nvPr/>
        </p:nvPicPr>
        <p:blipFill>
          <a:blip r:embed="rId1"/>
          <a:stretch/>
        </p:blipFill>
        <p:spPr>
          <a:xfrm>
            <a:off x="914400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二"/>
          <p:cNvPicPr/>
          <p:nvPr/>
        </p:nvPicPr>
        <p:blipFill>
          <a:blip r:embed="rId2"/>
          <a:stretch/>
        </p:blipFill>
        <p:spPr>
          <a:xfrm>
            <a:off x="91440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二二"/>
          <p:cNvPicPr/>
          <p:nvPr/>
        </p:nvPicPr>
        <p:blipFill>
          <a:blip r:embed="rId3"/>
          <a:stretch/>
        </p:blipFill>
        <p:spPr>
          <a:xfrm>
            <a:off x="-3043080" y="4572000"/>
            <a:ext cx="30430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二二二"/>
          <p:cNvPicPr/>
          <p:nvPr/>
        </p:nvPicPr>
        <p:blipFill>
          <a:blip r:embed="rId4"/>
          <a:stretch/>
        </p:blipFill>
        <p:spPr>
          <a:xfrm>
            <a:off x="3060720" y="2276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二二二二"/>
          <p:cNvPicPr/>
          <p:nvPr/>
        </p:nvPicPr>
        <p:blipFill>
          <a:blip r:embed="rId5"/>
          <a:stretch/>
        </p:blipFill>
        <p:spPr>
          <a:xfrm>
            <a:off x="-3043080" y="63360"/>
            <a:ext cx="3043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082880" y="3278160"/>
            <a:ext cx="6555960" cy="374760"/>
            <a:chOff x="1082880" y="3278160"/>
            <a:chExt cx="6555960" cy="374760"/>
          </a:xfrm>
        </p:grpSpPr>
        <p:sp>
          <p:nvSpPr>
            <p:cNvPr id="52" name="Text Box 7"/>
            <p:cNvSpPr/>
            <p:nvPr/>
          </p:nvSpPr>
          <p:spPr>
            <a:xfrm>
              <a:off x="1082880" y="3284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6600"/>
                  </a:solidFill>
                  <a:latin typeface="Arial"/>
                </a:rPr>
                <a:t>绿，是屋后的田野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7346880" y="327816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6600"/>
                  </a:solidFill>
                  <a:latin typeface="Arial"/>
                </a:rPr>
                <a:t>绿，是屋后的田野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11" descr="二二二"/>
          <p:cNvPicPr/>
          <p:nvPr/>
        </p:nvPicPr>
        <p:blipFill>
          <a:blip r:embed="rId6"/>
          <a:stretch/>
        </p:blipFill>
        <p:spPr>
          <a:xfrm>
            <a:off x="3059280" y="236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-0.01318 L 0.32813 -0.01318 E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7 -0.00254 L -0.33594 -0.00254 E">
                                      <p:cBhvr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0.00277 L 0.32813 0.00277 E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7 0.00277 L -0.32813 0.00277 E">
                                      <p:cBhvr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五五五五五"/>
          <p:cNvPicPr/>
          <p:nvPr/>
        </p:nvPicPr>
        <p:blipFill>
          <a:blip r:embed="rId1"/>
          <a:stretch/>
        </p:blipFill>
        <p:spPr>
          <a:xfrm>
            <a:off x="179280" y="350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五"/>
          <p:cNvPicPr/>
          <p:nvPr/>
        </p:nvPicPr>
        <p:blipFill>
          <a:blip r:embed="rId2"/>
          <a:stretch/>
        </p:blipFill>
        <p:spPr>
          <a:xfrm>
            <a:off x="5003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五五"/>
          <p:cNvPicPr/>
          <p:nvPr/>
        </p:nvPicPr>
        <p:blipFill>
          <a:blip r:embed="rId3"/>
          <a:stretch/>
        </p:blipFill>
        <p:spPr>
          <a:xfrm>
            <a:off x="5003640" y="121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五五五"/>
          <p:cNvPicPr/>
          <p:nvPr/>
        </p:nvPicPr>
        <p:blipFill>
          <a:blip r:embed="rId4"/>
          <a:stretch/>
        </p:blipFill>
        <p:spPr>
          <a:xfrm>
            <a:off x="179280" y="3500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967120" y="1933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  <a:ea typeface="经典繁圆新"/>
              </a:rPr>
              <a:t>绿，是溪边的百年老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911840" y="4941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  <a:ea typeface="经典繁圆新"/>
              </a:rPr>
              <a:t>绿，是湖边生长的小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"/>
                            </p:stCondLst>
                            <p:childTnLst>
                              <p:par>
                                <p:cTn id="64" nodeType="after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400"/>
                            </p:stCondLst>
                            <p:childTnLst>
                              <p:par>
                                <p:cTn id="76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七七七"/>
          <p:cNvPicPr/>
          <p:nvPr/>
        </p:nvPicPr>
        <p:blipFill>
          <a:blip r:embed="rId1"/>
          <a:stretch/>
        </p:blipFill>
        <p:spPr>
          <a:xfrm>
            <a:off x="1332000" y="1270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七"/>
          <p:cNvPicPr/>
          <p:nvPr/>
        </p:nvPicPr>
        <p:blipFill>
          <a:blip r:embed="rId2"/>
          <a:stretch/>
        </p:blipFill>
        <p:spPr>
          <a:xfrm>
            <a:off x="5292720" y="2997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504680" y="315648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绿，是爬上墙壁、屋顶的藤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006560" y="549360"/>
            <a:ext cx="8137080" cy="1523880"/>
            <a:chOff x="1006560" y="549360"/>
            <a:chExt cx="8137080" cy="1523880"/>
          </a:xfrm>
        </p:grpSpPr>
        <p:pic>
          <p:nvPicPr>
            <p:cNvPr id="65" name="Picture 5" descr="三三三"/>
            <p:cNvPicPr/>
            <p:nvPr/>
          </p:nvPicPr>
          <p:blipFill>
            <a:blip r:embed="rId1"/>
            <a:stretch/>
          </p:blipFill>
          <p:spPr>
            <a:xfrm>
              <a:off x="3041640" y="549360"/>
              <a:ext cx="20340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三三三三"/>
            <p:cNvPicPr/>
            <p:nvPr/>
          </p:nvPicPr>
          <p:blipFill>
            <a:blip r:embed="rId2"/>
            <a:stretch/>
          </p:blipFill>
          <p:spPr>
            <a:xfrm>
              <a:off x="5076000" y="54936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三三三三三"/>
            <p:cNvPicPr/>
            <p:nvPr/>
          </p:nvPicPr>
          <p:blipFill>
            <a:blip r:embed="rId3"/>
            <a:stretch/>
          </p:blipFill>
          <p:spPr>
            <a:xfrm>
              <a:off x="7110000" y="54936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9" descr="三三三三三三三三"/>
            <p:cNvPicPr/>
            <p:nvPr/>
          </p:nvPicPr>
          <p:blipFill>
            <a:blip r:embed="rId4"/>
            <a:stretch/>
          </p:blipFill>
          <p:spPr>
            <a:xfrm>
              <a:off x="1006560" y="549360"/>
              <a:ext cx="20336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006560" y="476280"/>
            <a:ext cx="8137080" cy="1523880"/>
            <a:chOff x="1006560" y="476280"/>
            <a:chExt cx="8137080" cy="1523880"/>
          </a:xfrm>
        </p:grpSpPr>
        <p:pic>
          <p:nvPicPr>
            <p:cNvPr id="70" name="Picture 27" descr="三三三"/>
            <p:cNvPicPr/>
            <p:nvPr/>
          </p:nvPicPr>
          <p:blipFill>
            <a:blip r:embed="rId5"/>
            <a:stretch/>
          </p:blipFill>
          <p:spPr>
            <a:xfrm>
              <a:off x="3041640" y="476280"/>
              <a:ext cx="20340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8" descr="三三三三"/>
            <p:cNvPicPr/>
            <p:nvPr/>
          </p:nvPicPr>
          <p:blipFill>
            <a:blip r:embed="rId6"/>
            <a:stretch/>
          </p:blipFill>
          <p:spPr>
            <a:xfrm>
              <a:off x="5076000" y="47628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9" descr="三三三三三"/>
            <p:cNvPicPr/>
            <p:nvPr/>
          </p:nvPicPr>
          <p:blipFill>
            <a:blip r:embed="rId7"/>
            <a:stretch/>
          </p:blipFill>
          <p:spPr>
            <a:xfrm>
              <a:off x="7110000" y="47628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0" descr="三三三三三三三三"/>
            <p:cNvPicPr/>
            <p:nvPr/>
          </p:nvPicPr>
          <p:blipFill>
            <a:blip r:embed="rId8"/>
            <a:stretch/>
          </p:blipFill>
          <p:spPr>
            <a:xfrm>
              <a:off x="1006560" y="476280"/>
              <a:ext cx="203364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0"/>
          <p:cNvSpPr/>
          <p:nvPr/>
        </p:nvSpPr>
        <p:spPr>
          <a:xfrm>
            <a:off x="3639600" y="3068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创艺简行楷"/>
              </a:rPr>
              <a:t>绿，是田中的菜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1" descr="图片1"/>
          <p:cNvPicPr/>
          <p:nvPr/>
        </p:nvPicPr>
        <p:blipFill>
          <a:blip r:embed="rId9"/>
          <a:stretch/>
        </p:blipFill>
        <p:spPr>
          <a:xfrm>
            <a:off x="0" y="4724280"/>
            <a:ext cx="8258040" cy="156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3"/>
          <p:cNvSpPr/>
          <p:nvPr/>
        </p:nvSpPr>
        <p:spPr>
          <a:xfrm>
            <a:off x="3665160" y="3068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创艺简行楷"/>
              </a:rPr>
              <a:t>绿，是田中的菜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2" descr="图片1"/>
          <p:cNvPicPr/>
          <p:nvPr/>
        </p:nvPicPr>
        <p:blipFill>
          <a:blip r:embed="rId10"/>
          <a:stretch/>
        </p:blipFill>
        <p:spPr>
          <a:xfrm>
            <a:off x="0" y="4653000"/>
            <a:ext cx="8258040" cy="156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四四四"/>
          <p:cNvPicPr/>
          <p:nvPr/>
        </p:nvPicPr>
        <p:blipFill>
          <a:blip r:embed="rId1"/>
          <a:stretch/>
        </p:blipFill>
        <p:spPr>
          <a:xfrm>
            <a:off x="2340000" y="292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四"/>
          <p:cNvPicPr/>
          <p:nvPr/>
        </p:nvPicPr>
        <p:blipFill>
          <a:blip r:embed="rId2"/>
          <a:stretch/>
        </p:blipFill>
        <p:spPr>
          <a:xfrm>
            <a:off x="5076720" y="1341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四四"/>
          <p:cNvPicPr/>
          <p:nvPr/>
        </p:nvPicPr>
        <p:blipFill>
          <a:blip r:embed="rId3"/>
          <a:stretch/>
        </p:blipFill>
        <p:spPr>
          <a:xfrm>
            <a:off x="684360" y="8366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926160" y="5661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华文新魏"/>
              </a:rPr>
              <a:t>绿，是门前的植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六六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六"/>
          <p:cNvPicPr/>
          <p:nvPr/>
        </p:nvPicPr>
        <p:blipFill>
          <a:blip r:embed="rId2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274640" y="29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汉仪丫丫体简"/>
              </a:rPr>
              <a:t>绿，是阳台上的盆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900000" y="1989000"/>
            <a:ext cx="1127160" cy="23976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710" h="151">
                <a:moveTo>
                  <a:pt x="0" y="45"/>
                </a:moveTo>
                <a:cubicBezTo>
                  <a:pt x="26" y="83"/>
                  <a:pt x="53" y="121"/>
                  <a:pt x="136" y="136"/>
                </a:cubicBezTo>
                <a:cubicBezTo>
                  <a:pt x="219" y="151"/>
                  <a:pt x="408" y="144"/>
                  <a:pt x="499" y="136"/>
                </a:cubicBezTo>
                <a:cubicBezTo>
                  <a:pt x="590" y="128"/>
                  <a:pt x="650" y="114"/>
                  <a:pt x="680" y="91"/>
                </a:cubicBezTo>
                <a:cubicBezTo>
                  <a:pt x="710" y="68"/>
                  <a:pt x="680" y="15"/>
                  <a:pt x="68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1979640" y="895320"/>
            <a:ext cx="431640" cy="1093680"/>
          </a:xfrm>
          <a:custGeom>
            <a:avLst/>
            <a:gdLst>
              <a:gd name="textAreaLeft" fmla="*/ 0 w 431640"/>
              <a:gd name="textAreaRight" fmla="*/ 432000 w 43164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72" h="689">
                <a:moveTo>
                  <a:pt x="0" y="689"/>
                </a:moveTo>
                <a:cubicBezTo>
                  <a:pt x="53" y="643"/>
                  <a:pt x="107" y="598"/>
                  <a:pt x="136" y="553"/>
                </a:cubicBezTo>
                <a:cubicBezTo>
                  <a:pt x="165" y="508"/>
                  <a:pt x="167" y="493"/>
                  <a:pt x="173" y="417"/>
                </a:cubicBezTo>
                <a:cubicBezTo>
                  <a:pt x="179" y="341"/>
                  <a:pt x="157" y="168"/>
                  <a:pt x="173" y="99"/>
                </a:cubicBezTo>
                <a:cubicBezTo>
                  <a:pt x="189" y="30"/>
                  <a:pt x="256" y="15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468360" y="836640"/>
            <a:ext cx="539640" cy="1224000"/>
          </a:xfrm>
          <a:custGeom>
            <a:avLst/>
            <a:gdLst>
              <a:gd name="textAreaLeft" fmla="*/ 0 w 539640"/>
              <a:gd name="textAreaRight" fmla="*/ 540000 w 539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340" h="778">
                <a:moveTo>
                  <a:pt x="272" y="778"/>
                </a:moveTo>
                <a:cubicBezTo>
                  <a:pt x="306" y="770"/>
                  <a:pt x="340" y="763"/>
                  <a:pt x="317" y="733"/>
                </a:cubicBezTo>
                <a:cubicBezTo>
                  <a:pt x="294" y="703"/>
                  <a:pt x="166" y="703"/>
                  <a:pt x="136" y="597"/>
                </a:cubicBezTo>
                <a:cubicBezTo>
                  <a:pt x="106" y="491"/>
                  <a:pt x="159" y="196"/>
                  <a:pt x="136" y="98"/>
                </a:cubicBezTo>
                <a:cubicBezTo>
                  <a:pt x="113" y="0"/>
                  <a:pt x="23" y="22"/>
                  <a:pt x="0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>
            <a:off x="468360" y="176040"/>
            <a:ext cx="2003400" cy="73188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1262" h="461">
                <a:moveTo>
                  <a:pt x="0" y="416"/>
                </a:moveTo>
                <a:cubicBezTo>
                  <a:pt x="56" y="405"/>
                  <a:pt x="113" y="394"/>
                  <a:pt x="136" y="371"/>
                </a:cubicBezTo>
                <a:cubicBezTo>
                  <a:pt x="159" y="348"/>
                  <a:pt x="113" y="303"/>
                  <a:pt x="136" y="280"/>
                </a:cubicBezTo>
                <a:cubicBezTo>
                  <a:pt x="159" y="257"/>
                  <a:pt x="249" y="265"/>
                  <a:pt x="272" y="235"/>
                </a:cubicBezTo>
                <a:cubicBezTo>
                  <a:pt x="295" y="205"/>
                  <a:pt x="249" y="137"/>
                  <a:pt x="272" y="99"/>
                </a:cubicBezTo>
                <a:cubicBezTo>
                  <a:pt x="295" y="61"/>
                  <a:pt x="370" y="16"/>
                  <a:pt x="408" y="8"/>
                </a:cubicBezTo>
                <a:cubicBezTo>
                  <a:pt x="446" y="0"/>
                  <a:pt x="460" y="53"/>
                  <a:pt x="498" y="53"/>
                </a:cubicBezTo>
                <a:cubicBezTo>
                  <a:pt x="536" y="53"/>
                  <a:pt x="590" y="8"/>
                  <a:pt x="635" y="8"/>
                </a:cubicBezTo>
                <a:cubicBezTo>
                  <a:pt x="680" y="8"/>
                  <a:pt x="733" y="38"/>
                  <a:pt x="771" y="53"/>
                </a:cubicBezTo>
                <a:cubicBezTo>
                  <a:pt x="809" y="68"/>
                  <a:pt x="846" y="76"/>
                  <a:pt x="861" y="99"/>
                </a:cubicBezTo>
                <a:cubicBezTo>
                  <a:pt x="876" y="122"/>
                  <a:pt x="846" y="166"/>
                  <a:pt x="861" y="189"/>
                </a:cubicBezTo>
                <a:cubicBezTo>
                  <a:pt x="876" y="212"/>
                  <a:pt x="929" y="205"/>
                  <a:pt x="952" y="235"/>
                </a:cubicBezTo>
                <a:cubicBezTo>
                  <a:pt x="975" y="265"/>
                  <a:pt x="952" y="341"/>
                  <a:pt x="997" y="371"/>
                </a:cubicBezTo>
                <a:cubicBezTo>
                  <a:pt x="1042" y="401"/>
                  <a:pt x="1186" y="401"/>
                  <a:pt x="1224" y="416"/>
                </a:cubicBezTo>
                <a:cubicBezTo>
                  <a:pt x="1262" y="431"/>
                  <a:pt x="1224" y="454"/>
                  <a:pt x="1224" y="4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7164360" y="6453360"/>
            <a:ext cx="1295280" cy="39672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816" h="250">
                <a:moveTo>
                  <a:pt x="0" y="91"/>
                </a:moveTo>
                <a:cubicBezTo>
                  <a:pt x="45" y="147"/>
                  <a:pt x="90" y="204"/>
                  <a:pt x="181" y="227"/>
                </a:cubicBezTo>
                <a:cubicBezTo>
                  <a:pt x="272" y="250"/>
                  <a:pt x="461" y="242"/>
                  <a:pt x="544" y="227"/>
                </a:cubicBezTo>
                <a:cubicBezTo>
                  <a:pt x="627" y="212"/>
                  <a:pt x="657" y="159"/>
                  <a:pt x="680" y="136"/>
                </a:cubicBezTo>
                <a:cubicBezTo>
                  <a:pt x="703" y="113"/>
                  <a:pt x="657" y="114"/>
                  <a:pt x="680" y="91"/>
                </a:cubicBezTo>
                <a:cubicBezTo>
                  <a:pt x="703" y="68"/>
                  <a:pt x="793" y="15"/>
                  <a:pt x="81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7667640" y="4572000"/>
            <a:ext cx="1225440" cy="188136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1881360"/>
              <a:gd name="textAreaBottom" fmla="*/ 1881720 h 1881360"/>
            </a:gdLst>
            <a:ahLst/>
            <a:rect l="textAreaLeft" t="textAreaTop" r="textAreaRight" b="textAreaBottom"/>
            <a:pathLst>
              <a:path w="706" h="1185">
                <a:moveTo>
                  <a:pt x="460" y="1185"/>
                </a:moveTo>
                <a:cubicBezTo>
                  <a:pt x="500" y="1045"/>
                  <a:pt x="541" y="905"/>
                  <a:pt x="557" y="822"/>
                </a:cubicBezTo>
                <a:cubicBezTo>
                  <a:pt x="573" y="739"/>
                  <a:pt x="535" y="730"/>
                  <a:pt x="557" y="686"/>
                </a:cubicBezTo>
                <a:cubicBezTo>
                  <a:pt x="579" y="642"/>
                  <a:pt x="668" y="586"/>
                  <a:pt x="687" y="556"/>
                </a:cubicBezTo>
                <a:cubicBezTo>
                  <a:pt x="706" y="526"/>
                  <a:pt x="703" y="529"/>
                  <a:pt x="673" y="505"/>
                </a:cubicBezTo>
                <a:cubicBezTo>
                  <a:pt x="643" y="481"/>
                  <a:pt x="549" y="425"/>
                  <a:pt x="506" y="409"/>
                </a:cubicBezTo>
                <a:cubicBezTo>
                  <a:pt x="463" y="393"/>
                  <a:pt x="430" y="431"/>
                  <a:pt x="415" y="409"/>
                </a:cubicBezTo>
                <a:cubicBezTo>
                  <a:pt x="400" y="387"/>
                  <a:pt x="430" y="308"/>
                  <a:pt x="415" y="278"/>
                </a:cubicBezTo>
                <a:cubicBezTo>
                  <a:pt x="400" y="248"/>
                  <a:pt x="343" y="241"/>
                  <a:pt x="324" y="226"/>
                </a:cubicBezTo>
                <a:cubicBezTo>
                  <a:pt x="305" y="211"/>
                  <a:pt x="311" y="216"/>
                  <a:pt x="301" y="187"/>
                </a:cubicBezTo>
                <a:cubicBezTo>
                  <a:pt x="291" y="158"/>
                  <a:pt x="284" y="81"/>
                  <a:pt x="265" y="51"/>
                </a:cubicBezTo>
                <a:cubicBezTo>
                  <a:pt x="246" y="21"/>
                  <a:pt x="223" y="14"/>
                  <a:pt x="188" y="7"/>
                </a:cubicBezTo>
                <a:cubicBezTo>
                  <a:pt x="153" y="0"/>
                  <a:pt x="82" y="0"/>
                  <a:pt x="52" y="7"/>
                </a:cubicBezTo>
                <a:cubicBezTo>
                  <a:pt x="22" y="14"/>
                  <a:pt x="14" y="52"/>
                  <a:pt x="7" y="52"/>
                </a:cubicBezTo>
                <a:cubicBezTo>
                  <a:pt x="0" y="52"/>
                  <a:pt x="3" y="29"/>
                  <a:pt x="7" y="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6564240" y="4570560"/>
            <a:ext cx="1139760" cy="202716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2027160"/>
              <a:gd name="textAreaBottom" fmla="*/ 2027520 h 2027160"/>
            </a:gdLst>
            <a:ahLst/>
            <a:rect l="textAreaLeft" t="textAreaTop" r="textAreaRight" b="textAreaBottom"/>
            <a:pathLst>
              <a:path w="718" h="1277">
                <a:moveTo>
                  <a:pt x="378" y="1277"/>
                </a:moveTo>
                <a:cubicBezTo>
                  <a:pt x="329" y="1258"/>
                  <a:pt x="280" y="1239"/>
                  <a:pt x="242" y="1141"/>
                </a:cubicBezTo>
                <a:cubicBezTo>
                  <a:pt x="204" y="1043"/>
                  <a:pt x="166" y="770"/>
                  <a:pt x="151" y="687"/>
                </a:cubicBezTo>
                <a:cubicBezTo>
                  <a:pt x="136" y="604"/>
                  <a:pt x="174" y="665"/>
                  <a:pt x="151" y="642"/>
                </a:cubicBezTo>
                <a:cubicBezTo>
                  <a:pt x="128" y="619"/>
                  <a:pt x="30" y="581"/>
                  <a:pt x="15" y="551"/>
                </a:cubicBezTo>
                <a:cubicBezTo>
                  <a:pt x="0" y="521"/>
                  <a:pt x="30" y="475"/>
                  <a:pt x="60" y="460"/>
                </a:cubicBezTo>
                <a:cubicBezTo>
                  <a:pt x="90" y="445"/>
                  <a:pt x="189" y="475"/>
                  <a:pt x="197" y="460"/>
                </a:cubicBezTo>
                <a:cubicBezTo>
                  <a:pt x="205" y="445"/>
                  <a:pt x="106" y="408"/>
                  <a:pt x="106" y="370"/>
                </a:cubicBezTo>
                <a:cubicBezTo>
                  <a:pt x="106" y="332"/>
                  <a:pt x="167" y="257"/>
                  <a:pt x="197" y="234"/>
                </a:cubicBezTo>
                <a:cubicBezTo>
                  <a:pt x="227" y="211"/>
                  <a:pt x="264" y="249"/>
                  <a:pt x="287" y="234"/>
                </a:cubicBezTo>
                <a:cubicBezTo>
                  <a:pt x="310" y="219"/>
                  <a:pt x="310" y="173"/>
                  <a:pt x="333" y="143"/>
                </a:cubicBezTo>
                <a:cubicBezTo>
                  <a:pt x="356" y="113"/>
                  <a:pt x="385" y="67"/>
                  <a:pt x="423" y="52"/>
                </a:cubicBezTo>
                <a:cubicBezTo>
                  <a:pt x="461" y="37"/>
                  <a:pt x="536" y="59"/>
                  <a:pt x="559" y="52"/>
                </a:cubicBezTo>
                <a:cubicBezTo>
                  <a:pt x="582" y="45"/>
                  <a:pt x="536" y="14"/>
                  <a:pt x="559" y="7"/>
                </a:cubicBezTo>
                <a:cubicBezTo>
                  <a:pt x="582" y="0"/>
                  <a:pt x="672" y="0"/>
                  <a:pt x="695" y="7"/>
                </a:cubicBezTo>
                <a:cubicBezTo>
                  <a:pt x="718" y="14"/>
                  <a:pt x="706" y="33"/>
                  <a:pt x="695" y="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diamond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557680" y="3571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华文行楷"/>
              </a:rPr>
              <a:t>就在我们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864800" y="1628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叶根友毛笔行书简体"/>
              </a:rPr>
              <a:t>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1476360" y="1341360"/>
            <a:ext cx="0" cy="23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971640" y="3213000"/>
            <a:ext cx="2592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0:42:21Z</dcterms:created>
  <dc:creator/>
  <dc:description/>
  <dc:language>en-US</dc:language>
  <cp:lastModifiedBy>锐普PPT</cp:lastModifiedBy>
  <dcterms:modified xsi:type="dcterms:W3CDTF">2015-01-11T08:29:20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