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jpeg" ContentType="image/jpeg"/>
  <Override PartName="/ppt/media/image15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BA55-967E-45B8-841B-1BED7DD3F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AE38-C250-4EA0-9ED7-0D2F49F1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26F6-9912-4E36-84A4-15DEF3E5D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034B-DC41-4C03-8A89-2F75E6745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9F4C-1635-4753-AECA-66E536D8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A687-118A-4CFF-A6B6-10E3876A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14B7-66DA-4901-84F1-39C88FD9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2580-62EF-426E-90CA-BFF220F5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0F6F-3578-4E53-A6E1-646F6975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2C5F-BDB7-4341-946A-C688BFFC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A418-9132-431E-A9E5-4ADD8AD8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02A7-8A04-416A-9D1A-5B95C406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608B-F678-4DB2-B370-5D82A72D1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6920" y="2709720"/>
            <a:ext cx="3525840" cy="38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rot="21540000">
            <a:off x="5559840" y="1317240"/>
            <a:ext cx="667800" cy="46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寻找走失的那“</a:t>
            </a:r>
            <a:r>
              <a:rPr b="1" lang="zh-CN" sz="32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一抺绿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春野 班得瑞" descr=""/>
          <p:cNvPicPr/>
          <p:nvPr/>
        </p:nvPicPr>
        <p:blipFill>
          <a:blip r:embed="rId2"/>
          <a:stretch/>
        </p:blipFill>
        <p:spPr>
          <a:xfrm>
            <a:off x="95400" y="64580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164360" y="64022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700360" y="3070080"/>
            <a:ext cx="294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Monotype Corsiva"/>
              </a:rPr>
              <a:t>En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35280" y="1557360"/>
            <a:ext cx="4897440" cy="64260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珍惜环境，爱护地球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1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340000" y="242100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时候，我经常跟家人去郊处玩耍，那时候天很蓝，云朵很白，树木成林，草地成毯，常常 躺在草地上遥望蓝天，构想着美丽的未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160" y="47520"/>
            <a:ext cx="9001080" cy="2230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6360" y="4365720"/>
            <a:ext cx="9001440" cy="2465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64000" y="2781360"/>
            <a:ext cx="332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想到高兴时会傻傻的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想到难过时会忧郁的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想到快乐时会快乐的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草为我舞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大树为我歌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河流为我伴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5257800" cy="4537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5029200" cy="2752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5437440" cy="6813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039440" y="711360"/>
            <a:ext cx="48528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快乐在身边扩散，幸福在心间蔓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076640" y="755640"/>
            <a:ext cx="395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981000"/>
            <a:ext cx="4680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绿色的摇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盛着我少年时期的梦想与欢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陪我一起长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861080" y="44280"/>
            <a:ext cx="4165560" cy="3257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4920" y="2854440"/>
            <a:ext cx="6048360" cy="3976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01040" y="981000"/>
            <a:ext cx="454680" cy="25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是，当我长大时再回到我的摇篮时，我看到那一座座耸入云天的高楼大厦，数不清的工业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24360" y="117360"/>
            <a:ext cx="5029200" cy="6264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164360" y="64022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124000" y="1844640"/>
            <a:ext cx="410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的绿色摇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生命中那一抹绿走失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6360" y="3141720"/>
            <a:ext cx="9001440" cy="3689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6360" y="2997360"/>
            <a:ext cx="9001440" cy="2320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4920" y="5302080"/>
            <a:ext cx="9109080" cy="1511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987640" y="1773360"/>
            <a:ext cx="47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要去寻找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寻找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44720" y="2565360"/>
            <a:ext cx="69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寻找走失的那</a:t>
            </a:r>
            <a:r>
              <a:rPr b="1" lang="zh-CN" sz="4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"</a:t>
            </a:r>
            <a:r>
              <a:rPr b="1" lang="zh-CN" sz="4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一抹绿</a:t>
            </a:r>
            <a:r>
              <a:rPr b="1" lang="zh-CN" sz="4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"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873680" y="76320"/>
            <a:ext cx="5027400" cy="22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08000" y="3645000"/>
            <a:ext cx="5029200" cy="3257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22:33:10Z</dcterms:created>
  <dc:creator/>
  <dc:description/>
  <dc:language>en-US</dc:language>
  <cp:lastModifiedBy/>
  <dcterms:modified xsi:type="dcterms:W3CDTF">2015-01-11T08:29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