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A96-4462-452D-B8EE-C37DC921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3E3-E25D-4446-A1E7-2B744678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1F5-4CD5-462D-8643-C18583F1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403-8AA6-4A0E-AC2D-1DAC5368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8505-92F8-4A49-8AE3-624F93A9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122B-6F1F-4D1A-AD33-D6A573F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A325-7614-41A9-8CA7-DFB2C4C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8DE4-6BAD-44CD-A303-B90AD50B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07E-A50C-452C-9595-3029D1DC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D654-A112-4A13-BDEB-837D704D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B108-6CEB-4060-823E-C826B9F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A17-273D-4B9E-ABF6-0FC2C09F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3F2B-B920-4B9B-B991-9CE2E82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E072-8A1C-486E-BF3A-4C77250D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282-AB0F-4A9A-9195-783266E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8499-61EB-4FDB-A32D-D8679AAE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6F5-2CFD-4DC7-BE40-24017B80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256-C13D-4677-B0AC-237E4090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080-FBBB-4993-8040-EC795AC6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2DF-821A-4105-8A53-39834132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6FA-62E6-414F-A5E2-619CB15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ABB-40FA-4A6E-8F40-47430F8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EEF-1969-4EC7-87B1-D025ECDD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C45-09F9-4E06-9925-2C9111E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F135-4C58-4650-A083-16429158D803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8B55-56E0-41CD-BD48-C43F10F15F69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9,&#24187;&#28783;&#29255; 39" TargetMode="External"/><Relationship Id="rId3" Type="http://schemas.openxmlformats.org/officeDocument/2006/relationships/hyperlink" Target="256,39,&#24187;&#28783;&#29255; 39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35,&#24187;&#28783;&#29255; 35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35344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第二节  遗传的基本规律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429000"/>
            <a:ext cx="712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隶书"/>
                <a:ea typeface="隶书"/>
              </a:rPr>
              <a:t>一、基因的分离定律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81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9a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572000" cy="3741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91320" y="380880"/>
            <a:ext cx="3352680" cy="1219320"/>
          </a:xfrm>
          <a:prstGeom prst="wedgeRectCallout">
            <a:avLst>
              <a:gd name="adj1" fmla="val -121356"/>
              <a:gd name="adj2" fmla="val 150652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矮茎的性状在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30000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中丢失了吗 ？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590920"/>
            <a:ext cx="1981440" cy="609480"/>
          </a:xfrm>
          <a:prstGeom prst="wedgeRectCallout">
            <a:avLst>
              <a:gd name="adj1" fmla="val -239342"/>
              <a:gd name="adj2" fmla="val -320574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219320"/>
            <a:ext cx="1981440" cy="609480"/>
          </a:xfrm>
          <a:prstGeom prst="wedgeRectCallout">
            <a:avLst>
              <a:gd name="adj1" fmla="val -93912"/>
              <a:gd name="adj2" fmla="val -68490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隐性性状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152388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1082520"/>
            <a:ext cx="60948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相对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性状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0"/>
            <a:ext cx="69228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一对相对性状的遗传试验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581280"/>
            <a:ext cx="3886200" cy="762120"/>
          </a:xfrm>
          <a:prstGeom prst="wedgeRectCallout">
            <a:avLst>
              <a:gd name="adj1" fmla="val -103064"/>
              <a:gd name="adj2" fmla="val -120833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F1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中只出现高茎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029200"/>
            <a:ext cx="3886200" cy="1143000"/>
          </a:xfrm>
          <a:prstGeom prst="wedgeRectCallout">
            <a:avLst>
              <a:gd name="adj1" fmla="val -84393"/>
              <a:gd name="adj2" fmla="val -58750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F2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中出现高茎和矮茎，比例为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429000"/>
            <a:ext cx="3886200" cy="1523880"/>
          </a:xfrm>
          <a:prstGeom prst="wedgeRectCallout">
            <a:avLst>
              <a:gd name="adj1" fmla="val -103064"/>
              <a:gd name="adj2" fmla="val -65416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显性纯种和隐性纯种杂交，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F1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中只出现显性性状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5181480"/>
            <a:ext cx="3886200" cy="1676520"/>
          </a:xfrm>
          <a:prstGeom prst="wedgeRectCallout">
            <a:avLst>
              <a:gd name="adj1" fmla="val -84393"/>
              <a:gd name="adj2" fmla="val -55967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F2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出现性状分离， 显性性状和隐性性状，比例为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11520" y="26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一对相对性状（茎的高矮）的遗传试验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6700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P: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高 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　矮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95680" y="914400"/>
            <a:ext cx="3911760" cy="54007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141720"/>
            <a:ext cx="327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39a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高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4653000"/>
            <a:ext cx="374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39a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高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787  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矮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277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37372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比例约     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64500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│            ↓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213372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│↓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6095880"/>
            <a:ext cx="46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ac"/>
                </a:solidFill>
                <a:latin typeface="黑体"/>
                <a:ea typeface="黑体"/>
              </a:rPr>
              <a:t>F</a:t>
            </a:r>
            <a:r>
              <a:rPr b="1" lang="en-US" sz="2800" spc="-1" strike="noStrike" baseline="-25000">
                <a:solidFill>
                  <a:srgbClr val="0039a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9ac"/>
                </a:solidFill>
                <a:latin typeface="黑体"/>
                <a:ea typeface="黑体"/>
              </a:rPr>
              <a:t>中的</a:t>
            </a:r>
            <a:r>
              <a:rPr b="1" lang="en-US" sz="2800" spc="-1" strike="noStrike">
                <a:solidFill>
                  <a:srgbClr val="0039a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9ac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39a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9ac"/>
                </a:solidFill>
                <a:latin typeface="黑体"/>
                <a:ea typeface="黑体"/>
              </a:rPr>
              <a:t>是不是巧合呢？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066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性状遗传图解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886200"/>
            <a:ext cx="533520" cy="533520"/>
          </a:xfrm>
          <a:prstGeom prst="ellipse">
            <a:avLst/>
          </a:prstGeom>
          <a:noFill/>
          <a:ln w="38160">
            <a:solidFill>
              <a:srgbClr val="003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ac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92360" y="260280"/>
            <a:ext cx="55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七对相对性状的遗传试验数据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1066680"/>
            <a:ext cx="8206920" cy="4681440"/>
            <a:chOff x="457200" y="1066680"/>
            <a:chExt cx="8206920" cy="4681440"/>
          </a:xfrm>
        </p:grpSpPr>
        <p:grpSp>
          <p:nvGrpSpPr>
            <p:cNvPr id="171" name=""/>
            <p:cNvGrpSpPr/>
            <p:nvPr/>
          </p:nvGrpSpPr>
          <p:grpSpPr>
            <a:xfrm>
              <a:off x="457200" y="1066680"/>
              <a:ext cx="8206560" cy="1155240"/>
              <a:chOff x="457200" y="1066680"/>
              <a:chExt cx="8206560" cy="1155240"/>
            </a:xfrm>
          </p:grpSpPr>
          <p:sp>
            <p:nvSpPr>
              <p:cNvPr id="172" name=""/>
              <p:cNvSpPr/>
              <p:nvPr/>
            </p:nvSpPr>
            <p:spPr>
              <a:xfrm>
                <a:off x="7311600" y="1644120"/>
                <a:ext cx="13521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2.84</a:t>
                </a:r>
                <a:r>
                  <a:rPr b="1" lang="en-US" sz="26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:</a:t>
                </a:r>
                <a:r>
                  <a:rPr b="1" lang="en-US" sz="26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9240" y="1644120"/>
                <a:ext cx="25023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277</a:t>
                </a:r>
                <a:r>
                  <a:rPr b="1" lang="en-US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（矮）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24680" y="1644120"/>
                <a:ext cx="228420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787</a:t>
                </a:r>
                <a:r>
                  <a:rPr b="1" lang="en-US" sz="24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（高）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" y="1644120"/>
                <a:ext cx="206748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茎的高度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11600" y="1066680"/>
                <a:ext cx="13521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F</a:t>
                </a:r>
                <a:r>
                  <a:rPr b="1" lang="en-US" sz="20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的比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09240" y="1066680"/>
                <a:ext cx="250236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另一种性状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24680" y="1066680"/>
                <a:ext cx="228420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一种性状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7200" y="1066680"/>
                <a:ext cx="206748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性状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7200" y="1066680"/>
                <a:ext cx="8206560" cy="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7200" y="1644120"/>
                <a:ext cx="820656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7200" y="2221920"/>
                <a:ext cx="8206560" cy="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200" y="1066680"/>
                <a:ext cx="0" cy="115524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24680" y="1066680"/>
                <a:ext cx="0" cy="115524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09240" y="1066680"/>
                <a:ext cx="0" cy="115524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11600" y="1066680"/>
                <a:ext cx="0" cy="115524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663760" y="1066680"/>
                <a:ext cx="0" cy="115524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7311960" y="5170320"/>
              <a:ext cx="1352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2.82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9240" y="5170320"/>
              <a:ext cx="2502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152</a:t>
              </a: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（黄色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4680" y="5170320"/>
              <a:ext cx="22842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428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（绿色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5170320"/>
              <a:ext cx="2067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豆荚颜色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517032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574812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5170320"/>
              <a:ext cx="0" cy="5778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4680" y="517032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9240" y="517032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1960" y="517032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64120" y="5170320"/>
              <a:ext cx="0" cy="5778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1960" y="4563360"/>
              <a:ext cx="1352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2.95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9240" y="4563360"/>
              <a:ext cx="2502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299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（不饱满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24680" y="4563360"/>
              <a:ext cx="22842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882</a:t>
              </a: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（饱满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4563360"/>
              <a:ext cx="2067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豆荚的形状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456336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" y="4563360"/>
              <a:ext cx="0" cy="5778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4680" y="456336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9240" y="456336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1960" y="456336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64120" y="4563360"/>
              <a:ext cx="0" cy="5778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960" y="2829600"/>
              <a:ext cx="1352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3.01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9240" y="2829600"/>
              <a:ext cx="2502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2001</a:t>
              </a: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（绿色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24680" y="2829600"/>
              <a:ext cx="22842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6022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（黄色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2829600"/>
              <a:ext cx="20674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子叶的颜色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200" y="282960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334980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2829600"/>
              <a:ext cx="0" cy="51984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4680" y="2829600"/>
              <a:ext cx="0" cy="51984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9240" y="2829600"/>
              <a:ext cx="0" cy="51984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1960" y="2829600"/>
              <a:ext cx="0" cy="51984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64120" y="2829600"/>
              <a:ext cx="0" cy="51984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11960" y="3956760"/>
              <a:ext cx="1352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3.15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9240" y="3956760"/>
              <a:ext cx="25023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224</a:t>
              </a: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（白色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4680" y="3956760"/>
              <a:ext cx="22842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705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（灰色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" y="3956760"/>
              <a:ext cx="2067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种皮的颜色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395676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456336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3956760"/>
              <a:ext cx="0" cy="6066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4680" y="3956760"/>
              <a:ext cx="0" cy="6066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09240" y="3956760"/>
              <a:ext cx="0" cy="6066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1960" y="3956760"/>
              <a:ext cx="0" cy="6066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64120" y="3956760"/>
              <a:ext cx="0" cy="6066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1960" y="3349800"/>
              <a:ext cx="1352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3.14</a:t>
              </a:r>
              <a:r>
                <a:rPr b="1" lang="en-US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r>
                <a:rPr b="1" lang="en-US" sz="26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240" y="3349800"/>
              <a:ext cx="2502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207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（茎顶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4680" y="3349800"/>
              <a:ext cx="228420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651</a:t>
              </a:r>
              <a:r>
                <a:rPr b="1" lang="en-US" sz="2400" spc="-1" strike="noStrike">
                  <a:solidFill>
                    <a:srgbClr val="0039ac"/>
                  </a:solidFill>
                  <a:latin typeface="黑体"/>
                  <a:ea typeface="黑体"/>
                </a:rPr>
                <a:t>（叶腋</a:t>
              </a:r>
              <a:r>
                <a:rPr b="1" lang="en-US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）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3349800"/>
              <a:ext cx="2067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黑体"/>
                  <a:ea typeface="黑体"/>
                </a:rPr>
                <a:t>花的位置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349800"/>
              <a:ext cx="8206920" cy="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349800"/>
              <a:ext cx="0" cy="5778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24680" y="334980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09240" y="334980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1960" y="3349800"/>
              <a:ext cx="0" cy="5778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64120" y="3349800"/>
              <a:ext cx="0" cy="577800"/>
            </a:xfrm>
            <a:prstGeom prst="line">
              <a:avLst/>
            </a:prstGeom>
            <a:ln cap="sq"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57200" y="2222280"/>
              <a:ext cx="8206560" cy="606600"/>
              <a:chOff x="457200" y="2222280"/>
              <a:chExt cx="8206560" cy="606600"/>
            </a:xfrm>
          </p:grpSpPr>
          <p:sp>
            <p:nvSpPr>
              <p:cNvPr id="242" name=""/>
              <p:cNvSpPr/>
              <p:nvPr/>
            </p:nvSpPr>
            <p:spPr>
              <a:xfrm>
                <a:off x="7311600" y="2222280"/>
                <a:ext cx="13521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2.96</a:t>
                </a:r>
                <a:r>
                  <a:rPr b="1" lang="en-US" sz="26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:</a:t>
                </a:r>
                <a:r>
                  <a:rPr b="1" lang="en-US" sz="26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09240" y="2222280"/>
                <a:ext cx="25023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1850</a:t>
                </a:r>
                <a:r>
                  <a:rPr b="1" lang="en-US" sz="24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（皱缩）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24680" y="2222280"/>
                <a:ext cx="22842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5474</a:t>
                </a:r>
                <a:r>
                  <a:rPr b="1" lang="en-US" sz="2400" spc="-1" strike="noStrike">
                    <a:solidFill>
                      <a:srgbClr val="0039ac"/>
                    </a:solidFill>
                    <a:latin typeface="黑体"/>
                    <a:ea typeface="黑体"/>
                  </a:rPr>
                  <a:t>（圆滑</a:t>
                </a:r>
                <a:r>
                  <a:rPr b="1" lang="en-US" sz="2400" spc="-1" strike="noStrike">
                    <a:solidFill>
                      <a:srgbClr val="0066ff"/>
                    </a:solidFill>
                    <a:latin typeface="黑体"/>
                    <a:ea typeface="黑体"/>
                  </a:rPr>
                  <a:t>）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200" y="2222280"/>
                <a:ext cx="206748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80808"/>
                    </a:solidFill>
                    <a:latin typeface="黑体"/>
                    <a:ea typeface="黑体"/>
                  </a:rPr>
                  <a:t>种子的形状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828880"/>
                <a:ext cx="8206560" cy="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2222280"/>
                <a:ext cx="0" cy="60660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24680" y="2222280"/>
                <a:ext cx="0" cy="60660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09240" y="2222280"/>
                <a:ext cx="0" cy="60660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11600" y="2222280"/>
                <a:ext cx="0" cy="606600"/>
              </a:xfrm>
              <a:prstGeom prst="line">
                <a:avLst/>
              </a:prstGeom>
              <a:ln w="1260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663760" y="2222280"/>
                <a:ext cx="0" cy="606600"/>
              </a:xfrm>
              <a:prstGeom prst="line">
                <a:avLst/>
              </a:prstGeom>
              <a:ln cap="sq"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01960" y="2602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新魏"/>
              </a:rPr>
              <a:t>孟德尔对相对性状遗传试验的解释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700600" y="1341360"/>
            <a:ext cx="3130560" cy="41752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324000" y="1219320"/>
            <a:ext cx="52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①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相对性状是由遗传因子（现称基因）决定的。显性性状由显性基因控制，用大写字母表示，隐性性状由隐性基因控制的，用小写字母表示，在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体细胞中基因是成对存在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3573360"/>
            <a:ext cx="52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②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配子形成时，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成对的基因分开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，分别进入不同的配子，因此配子中基因是（                         ）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5105520"/>
            <a:ext cx="5184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③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当雌雄配子结合完成受精后，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基因又恢复成对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。显性基因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(D)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对隐性基因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(d)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有显性作用。所以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F</a:t>
            </a:r>
            <a:r>
              <a:rPr b="1" lang="en-US" sz="2600" spc="-1" strike="noStrike" baseline="-25000">
                <a:solidFill>
                  <a:srgbClr val="0039ac"/>
                </a:solidFill>
                <a:latin typeface="Arial"/>
                <a:ea typeface="黑体"/>
              </a:rPr>
              <a:t>1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代表现显性性状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(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高茎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)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42670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成单的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021200" y="26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孟德尔对一相对性状遗传试验的解释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3600720" cy="450216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457200" y="1447920"/>
            <a:ext cx="46213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④ 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F</a:t>
            </a:r>
            <a:r>
              <a:rPr b="1" lang="en-US" sz="2600" spc="-1" strike="noStrike" baseline="-25000">
                <a:solidFill>
                  <a:srgbClr val="0039ac"/>
                </a:solidFill>
                <a:latin typeface="Arial"/>
                <a:ea typeface="黑体"/>
              </a:rPr>
              <a:t>1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形成的配子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种类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、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比值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都相等，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受精机会均等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，所以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F</a:t>
            </a:r>
            <a:r>
              <a:rPr b="1" lang="en-US" sz="2600" spc="-1" strike="noStrike" baseline="-25000">
                <a:solidFill>
                  <a:srgbClr val="0039ac"/>
                </a:solidFill>
                <a:latin typeface="Arial"/>
                <a:ea typeface="黑体"/>
              </a:rPr>
              <a:t>2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性状分离，表现比为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3:1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，基因类型比为</a:t>
            </a:r>
            <a:r>
              <a:rPr b="1" lang="en-US" sz="2600" spc="-1" strike="noStrike">
                <a:solidFill>
                  <a:srgbClr val="0039ac"/>
                </a:solidFill>
                <a:latin typeface="Arial"/>
                <a:ea typeface="黑体"/>
              </a:rPr>
              <a:t>1:2:1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。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149720"/>
            <a:ext cx="47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       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以上解释仅仅是孟德尔认为的，到底正确与否，还要通过实验验证。一个正确的理论，不仅能够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解释出现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的问题，还应能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预测</a:t>
            </a: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另一些实验的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结果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811600" y="62064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新魏"/>
              </a:rPr>
              <a:t>性状分离比的模拟验证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1773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说明： </a:t>
            </a:r>
            <a:r>
              <a:rPr b="1" lang="en-US" sz="3200" spc="-1" strike="noStrike">
                <a:solidFill>
                  <a:srgbClr val="0039a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、两个盒子里都放有十粒黑色棋子和十  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粒白色棋子　　　　　　　　　　　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0039a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、用黑色表示显性性状，白色表示隐性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性状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Arial"/>
                <a:ea typeface="黑体"/>
              </a:rPr>
              <a:t>　　　３</a:t>
            </a:r>
            <a:r>
              <a:rPr b="1" lang="zh-CN" sz="3200" spc="-1" strike="noStrike">
                <a:solidFill>
                  <a:srgbClr val="0039ac"/>
                </a:solidFill>
                <a:latin typeface="Arial"/>
              </a:rPr>
              <a:t>、从两盒中随机抓取棋子进行组合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4437000"/>
            <a:ext cx="35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结果：组合类型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           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71640" y="5516640"/>
            <a:ext cx="609480" cy="304560"/>
            <a:chOff x="971640" y="5516640"/>
            <a:chExt cx="609480" cy="304560"/>
          </a:xfrm>
        </p:grpSpPr>
        <p:sp>
          <p:nvSpPr>
            <p:cNvPr id="281" name=""/>
            <p:cNvSpPr/>
            <p:nvPr/>
          </p:nvSpPr>
          <p:spPr>
            <a:xfrm>
              <a:off x="1276560" y="5516640"/>
              <a:ext cx="304560" cy="30456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71640" y="551664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132000" y="5589720"/>
            <a:ext cx="609480" cy="304560"/>
            <a:chOff x="3132000" y="5589720"/>
            <a:chExt cx="609480" cy="304560"/>
          </a:xfrm>
        </p:grpSpPr>
        <p:sp>
          <p:nvSpPr>
            <p:cNvPr id="284" name=""/>
            <p:cNvSpPr/>
            <p:nvPr/>
          </p:nvSpPr>
          <p:spPr>
            <a:xfrm>
              <a:off x="3436920" y="5589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32000" y="5589720"/>
              <a:ext cx="304920" cy="304560"/>
            </a:xfrm>
            <a:prstGeom prst="ellipse">
              <a:avLst/>
            </a:prstGeom>
            <a:solidFill>
              <a:srgbClr val="080808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292720" y="5661000"/>
            <a:ext cx="609480" cy="304920"/>
            <a:chOff x="5292720" y="5661000"/>
            <a:chExt cx="609480" cy="304920"/>
          </a:xfrm>
        </p:grpSpPr>
        <p:sp>
          <p:nvSpPr>
            <p:cNvPr id="287" name=""/>
            <p:cNvSpPr/>
            <p:nvPr/>
          </p:nvSpPr>
          <p:spPr>
            <a:xfrm>
              <a:off x="5292720" y="5661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97640" y="5661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909080" y="53737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41800" y="54450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4520" y="54450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50920" y="1052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                              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  <a:ea typeface="黑体"/>
              </a:rPr>
              <a:t>由相同基因的配子结合而成的合子发育而成的个体，这样的个体叫做纯合子。例如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  <a:ea typeface="黑体"/>
              </a:rPr>
              <a:t>DD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  <a:ea typeface="黑体"/>
              </a:rPr>
              <a:t>和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  <a:ea typeface="黑体"/>
              </a:rPr>
              <a:t>d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240" y="9810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纯合子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(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纯种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：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3933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  <a:ea typeface="黑体"/>
              </a:rPr>
              <a:t>由不同基因的配子结合而成的合子发育而成的个体，这样的个体叫做杂合子。例如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  <a:ea typeface="黑体"/>
              </a:rPr>
              <a:t>Dd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6240" y="386064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杂合子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(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杂种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：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306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行楷"/>
                <a:ea typeface="华文行楷"/>
              </a:rPr>
              <a:t>稳定遗传，杂交后代不发生性状分离现象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87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华文行楷"/>
                <a:ea typeface="华文行楷"/>
              </a:rPr>
              <a:t>不稳定遗传，杂交后代会发生性状分离现象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934720" y="1989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测交亲本      杂种一代        隐性纯种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69440" y="22766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 d                        d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115720" y="2637000"/>
            <a:ext cx="4618440" cy="1035720"/>
            <a:chOff x="2115720" y="2637000"/>
            <a:chExt cx="4618440" cy="1035720"/>
          </a:xfrm>
        </p:grpSpPr>
        <p:sp>
          <p:nvSpPr>
            <p:cNvPr id="306" name=""/>
            <p:cNvSpPr/>
            <p:nvPr/>
          </p:nvSpPr>
          <p:spPr>
            <a:xfrm>
              <a:off x="6659280" y="2637000"/>
              <a:ext cx="0" cy="5331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995280" y="2707920"/>
              <a:ext cx="304920" cy="5331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00360" y="2707920"/>
              <a:ext cx="381240" cy="5331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5720" y="3213000"/>
              <a:ext cx="46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配子               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D        d                      d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635280" y="3645000"/>
            <a:ext cx="2937960" cy="3219480"/>
            <a:chOff x="3635280" y="3645000"/>
            <a:chExt cx="2937960" cy="3219480"/>
          </a:xfrm>
        </p:grpSpPr>
        <p:sp>
          <p:nvSpPr>
            <p:cNvPr id="311" name=""/>
            <p:cNvSpPr/>
            <p:nvPr/>
          </p:nvSpPr>
          <p:spPr>
            <a:xfrm>
              <a:off x="3995640" y="3714480"/>
              <a:ext cx="0" cy="12981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211280" y="3645000"/>
              <a:ext cx="2361960" cy="1294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5280" y="4941720"/>
              <a:ext cx="914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D d                                       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076720" y="3645000"/>
            <a:ext cx="1863360" cy="1756440"/>
            <a:chOff x="5076720" y="3645000"/>
            <a:chExt cx="1863360" cy="1756440"/>
          </a:xfrm>
        </p:grpSpPr>
        <p:sp>
          <p:nvSpPr>
            <p:cNvPr id="315" name=""/>
            <p:cNvSpPr/>
            <p:nvPr/>
          </p:nvSpPr>
          <p:spPr>
            <a:xfrm>
              <a:off x="6732360" y="3645000"/>
              <a:ext cx="0" cy="1294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6720" y="3789000"/>
              <a:ext cx="1600200" cy="12189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02160" y="4941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080800" y="5157720"/>
            <a:ext cx="4931280" cy="602640"/>
            <a:chOff x="2080800" y="5157720"/>
            <a:chExt cx="4931280" cy="602640"/>
          </a:xfrm>
        </p:grpSpPr>
        <p:sp>
          <p:nvSpPr>
            <p:cNvPr id="319" name=""/>
            <p:cNvSpPr/>
            <p:nvPr/>
          </p:nvSpPr>
          <p:spPr>
            <a:xfrm>
              <a:off x="2080800" y="5157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Arial"/>
                </a:rPr>
                <a:t>测交后代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30400" y="53006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高茎</a:t>
              </a: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13320" y="530064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矮茎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041560" y="567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171520" y="5950080"/>
            <a:ext cx="4800600" cy="459720"/>
            <a:chOff x="2171520" y="5950080"/>
            <a:chExt cx="4800600" cy="459720"/>
          </a:xfrm>
        </p:grpSpPr>
        <p:sp>
          <p:nvSpPr>
            <p:cNvPr id="324" name=""/>
            <p:cNvSpPr/>
            <p:nvPr/>
          </p:nvSpPr>
          <p:spPr>
            <a:xfrm>
              <a:off x="2171520" y="59500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比  例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6680" y="5950080"/>
              <a:ext cx="32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1               </a:t>
              </a: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：              </a:t>
              </a: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2400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对分离现象解释验证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imes New Roman"/>
                <a:ea typeface="黑体"/>
              </a:rPr>
              <a:t>测交试验</a:t>
            </a:r>
            <a:r>
              <a:rPr b="0" lang="en-US" sz="3600" spc="-1" strike="noStrike">
                <a:solidFill>
                  <a:srgbClr val="080808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87640" y="1197000"/>
            <a:ext cx="576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让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与隐性纯合子杂交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5435640" y="1628640"/>
            <a:ext cx="1295280" cy="1394640"/>
            <a:chOff x="5435640" y="1628640"/>
            <a:chExt cx="1295280" cy="1394640"/>
          </a:xfrm>
        </p:grpSpPr>
        <p:grpSp>
          <p:nvGrpSpPr>
            <p:cNvPr id="330" name=""/>
            <p:cNvGrpSpPr/>
            <p:nvPr/>
          </p:nvGrpSpPr>
          <p:grpSpPr>
            <a:xfrm>
              <a:off x="5435640" y="1699920"/>
              <a:ext cx="1295280" cy="1295280"/>
              <a:chOff x="5435640" y="1699920"/>
              <a:chExt cx="1295280" cy="1295280"/>
            </a:xfrm>
          </p:grpSpPr>
          <p:sp>
            <p:nvSpPr>
              <p:cNvPr id="331" name=""/>
              <p:cNvSpPr/>
              <p:nvPr/>
            </p:nvSpPr>
            <p:spPr>
              <a:xfrm>
                <a:off x="5435640" y="1699920"/>
                <a:ext cx="1295280" cy="1295280"/>
              </a:xfrm>
              <a:prstGeom prst="ellipse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5651640" y="1989000"/>
                <a:ext cx="865080" cy="720720"/>
                <a:chOff x="5651640" y="1989000"/>
                <a:chExt cx="865080" cy="72072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5651640" y="2420640"/>
                  <a:ext cx="865080" cy="289080"/>
                  <a:chOff x="5651640" y="2420640"/>
                  <a:chExt cx="865080" cy="28908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5724720" y="249372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724720" y="26380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579600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586908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594072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601200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608508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V="1">
                    <a:off x="615636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V="1">
                    <a:off x="622800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V="1">
                    <a:off x="630108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>
                    <a:off x="6372360" y="2493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651640" y="2420640"/>
                    <a:ext cx="8650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651640" y="1989000"/>
                  <a:ext cx="865080" cy="289080"/>
                  <a:chOff x="5651640" y="1989000"/>
                  <a:chExt cx="865080" cy="2890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724720" y="20620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724720" y="220644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V="1">
                    <a:off x="579600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V="1">
                    <a:off x="586908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594072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601200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08508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15636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22800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30108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372360" y="2061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651640" y="1989000"/>
                    <a:ext cx="8650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5938920" y="2276280"/>
                  <a:ext cx="144360" cy="144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" name=""/>
            <p:cNvSpPr/>
            <p:nvPr/>
          </p:nvSpPr>
          <p:spPr>
            <a:xfrm>
              <a:off x="6087240" y="162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87240" y="256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524720" y="1052640"/>
            <a:ext cx="1440000" cy="1944720"/>
            <a:chOff x="7524720" y="1052640"/>
            <a:chExt cx="1440000" cy="1944720"/>
          </a:xfrm>
        </p:grpSpPr>
        <p:grpSp>
          <p:nvGrpSpPr>
            <p:cNvPr id="363" name=""/>
            <p:cNvGrpSpPr/>
            <p:nvPr/>
          </p:nvGrpSpPr>
          <p:grpSpPr>
            <a:xfrm>
              <a:off x="7524720" y="1052640"/>
              <a:ext cx="1440000" cy="863640"/>
              <a:chOff x="7524720" y="1052640"/>
              <a:chExt cx="1440000" cy="86364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7524720" y="1195560"/>
                <a:ext cx="1440000" cy="720720"/>
                <a:chOff x="7524720" y="1195560"/>
                <a:chExt cx="1440000" cy="72072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7812000" y="1411560"/>
                  <a:ext cx="865080" cy="288720"/>
                  <a:chOff x="7812000" y="1411560"/>
                  <a:chExt cx="865080" cy="2887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7885080" y="14842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885080" y="162864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V="1">
                    <a:off x="795636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V="1">
                    <a:off x="802944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10108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V="1">
                    <a:off x="817236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824544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V="1">
                    <a:off x="831672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>
                    <a:off x="838836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>
                    <a:off x="846144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V="1">
                    <a:off x="8532720" y="148428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812000" y="1411560"/>
                    <a:ext cx="8650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01080" y="1484280"/>
                    <a:ext cx="144360" cy="14400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7524720" y="1195560"/>
                  <a:ext cx="1440000" cy="720720"/>
                </a:xfrm>
                <a:prstGeom prst="ellipse">
                  <a:avLst/>
                </a:pr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8273160" y="105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524720" y="2179800"/>
              <a:ext cx="1440000" cy="817560"/>
              <a:chOff x="7524720" y="2179800"/>
              <a:chExt cx="1440000" cy="8175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7524720" y="2276640"/>
                <a:ext cx="1440000" cy="720720"/>
                <a:chOff x="7524720" y="2276640"/>
                <a:chExt cx="1440000" cy="72072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812000" y="2490840"/>
                  <a:ext cx="865080" cy="289080"/>
                  <a:chOff x="7812000" y="2490840"/>
                  <a:chExt cx="865080" cy="2890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885080" y="256392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885080" y="27082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V="1">
                    <a:off x="795636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V="1">
                    <a:off x="802944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V="1">
                    <a:off x="810108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V="1">
                    <a:off x="817236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V="1">
                    <a:off x="824544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831672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V="1">
                    <a:off x="838836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>
                    <a:off x="846144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V="1">
                    <a:off x="8532720" y="256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812000" y="2490840"/>
                    <a:ext cx="8650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101080" y="2563920"/>
                    <a:ext cx="144360" cy="1443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7524720" y="2276640"/>
                  <a:ext cx="1440000" cy="720720"/>
                </a:xfrm>
                <a:prstGeom prst="ellipse">
                  <a:avLst/>
                </a:pr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8246160" y="21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362320" y="2419200"/>
            <a:ext cx="2207520" cy="2305080"/>
            <a:chOff x="2362320" y="2419200"/>
            <a:chExt cx="2207520" cy="2305080"/>
          </a:xfrm>
        </p:grpSpPr>
        <p:grpSp>
          <p:nvGrpSpPr>
            <p:cNvPr id="400" name=""/>
            <p:cNvGrpSpPr/>
            <p:nvPr/>
          </p:nvGrpSpPr>
          <p:grpSpPr>
            <a:xfrm>
              <a:off x="2362320" y="2492280"/>
              <a:ext cx="2207520" cy="2232000"/>
              <a:chOff x="2362320" y="2492280"/>
              <a:chExt cx="2207520" cy="22320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3022920" y="2779560"/>
                <a:ext cx="883800" cy="720720"/>
                <a:chOff x="3022920" y="2779560"/>
                <a:chExt cx="883800" cy="72072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3022920" y="3211200"/>
                  <a:ext cx="883800" cy="289080"/>
                  <a:chOff x="3022920" y="3211200"/>
                  <a:chExt cx="883800" cy="2890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3097440" y="328428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097440" y="342864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V="1">
                    <a:off x="317016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V="1">
                    <a:off x="324504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331812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V="1">
                    <a:off x="339120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>
                    <a:off x="346572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>
                    <a:off x="353844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>
                    <a:off x="361188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>
                    <a:off x="368640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3759480" y="32839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022920" y="3211200"/>
                    <a:ext cx="88380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22920" y="2779560"/>
                  <a:ext cx="883800" cy="289080"/>
                  <a:chOff x="3022920" y="2779560"/>
                  <a:chExt cx="883800" cy="289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97440" y="285264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097440" y="299700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317016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V="1">
                    <a:off x="324504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V="1">
                    <a:off x="331812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339120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46572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353844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V="1">
                    <a:off x="361188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368640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3759480" y="28522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022920" y="2779560"/>
                    <a:ext cx="88380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3316320" y="3066840"/>
                  <a:ext cx="147600" cy="144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22920" y="3789360"/>
                <a:ext cx="883800" cy="720720"/>
                <a:chOff x="3022920" y="3789360"/>
                <a:chExt cx="883800" cy="72072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3022920" y="3789360"/>
                  <a:ext cx="883800" cy="289080"/>
                  <a:chOff x="3022920" y="3789360"/>
                  <a:chExt cx="883800" cy="2890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3097440" y="386244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097440" y="400680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317016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324504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331812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339120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>
                    <a:off x="346572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353844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361188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368640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>
                    <a:off x="3759480" y="386208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022920" y="3789360"/>
                    <a:ext cx="88380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022920" y="4221000"/>
                  <a:ext cx="883800" cy="289080"/>
                  <a:chOff x="3022920" y="4221000"/>
                  <a:chExt cx="883800" cy="2890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3097440" y="429408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097440" y="4438440"/>
                    <a:ext cx="73476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>
                    <a:off x="317016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V="1">
                    <a:off x="324504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V="1">
                    <a:off x="331812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339120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346572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353844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361188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368640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>
                    <a:off x="3759480" y="4293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3022920" y="4221000"/>
                    <a:ext cx="88380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3316320" y="4078440"/>
                  <a:ext cx="147600" cy="144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2362320" y="2492280"/>
                <a:ext cx="2207520" cy="2232000"/>
              </a:xfrm>
              <a:prstGeom prst="ellipse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570120" y="241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840" y="3259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43120" y="36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431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435640" y="4365720"/>
            <a:ext cx="1295280" cy="1295280"/>
            <a:chOff x="5435640" y="4365720"/>
            <a:chExt cx="1295280" cy="1295280"/>
          </a:xfrm>
        </p:grpSpPr>
        <p:grpSp>
          <p:nvGrpSpPr>
            <p:cNvPr id="463" name=""/>
            <p:cNvGrpSpPr/>
            <p:nvPr/>
          </p:nvGrpSpPr>
          <p:grpSpPr>
            <a:xfrm>
              <a:off x="5435640" y="4365720"/>
              <a:ext cx="1295280" cy="1295280"/>
              <a:chOff x="5435640" y="4365720"/>
              <a:chExt cx="1295280" cy="12952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5651640" y="4653000"/>
                <a:ext cx="865080" cy="720720"/>
                <a:chOff x="5651640" y="4653000"/>
                <a:chExt cx="865080" cy="72072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5651640" y="4653000"/>
                  <a:ext cx="865080" cy="289080"/>
                  <a:chOff x="5651640" y="4653000"/>
                  <a:chExt cx="865080" cy="2890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5724720" y="47260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724720" y="487044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>
                    <a:off x="579600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586908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594072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V="1">
                    <a:off x="601200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>
                    <a:off x="608508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615636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V="1">
                    <a:off x="622800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>
                    <a:off x="630108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>
                    <a:off x="6372360" y="472572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651640" y="4653000"/>
                    <a:ext cx="8650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5651640" y="5084640"/>
                  <a:ext cx="865080" cy="289080"/>
                  <a:chOff x="5651640" y="5084640"/>
                  <a:chExt cx="865080" cy="2890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5724720" y="515772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724720" y="53020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>
                    <a:off x="579600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586908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594072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601200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608508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615636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V="1">
                    <a:off x="622800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630108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>
                    <a:off x="6372360" y="51573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651640" y="5084640"/>
                    <a:ext cx="8650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5938920" y="4942080"/>
                  <a:ext cx="144360" cy="144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5435640" y="4365720"/>
                <a:ext cx="1295280" cy="1295280"/>
              </a:xfrm>
              <a:prstGeom prst="ellipse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608652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86520" y="494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524720" y="4076640"/>
            <a:ext cx="1440000" cy="2160720"/>
            <a:chOff x="7524720" y="4076640"/>
            <a:chExt cx="1440000" cy="2160720"/>
          </a:xfrm>
        </p:grpSpPr>
        <p:grpSp>
          <p:nvGrpSpPr>
            <p:cNvPr id="496" name=""/>
            <p:cNvGrpSpPr/>
            <p:nvPr/>
          </p:nvGrpSpPr>
          <p:grpSpPr>
            <a:xfrm>
              <a:off x="7524720" y="4076640"/>
              <a:ext cx="1440000" cy="720720"/>
              <a:chOff x="7524720" y="4076640"/>
              <a:chExt cx="1440000" cy="72072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7524720" y="4076640"/>
                <a:ext cx="1440000" cy="720720"/>
                <a:chOff x="7524720" y="4076640"/>
                <a:chExt cx="1440000" cy="72072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7812000" y="4292640"/>
                  <a:ext cx="865080" cy="288720"/>
                  <a:chOff x="7812000" y="4292640"/>
                  <a:chExt cx="865080" cy="2887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7885080" y="436536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885080" y="450972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V="1">
                    <a:off x="795636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802944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810108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817236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824544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831672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838836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846144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V="1">
                    <a:off x="8532720" y="43653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812000" y="4292640"/>
                    <a:ext cx="865080" cy="288720"/>
                  </a:xfrm>
                  <a:prstGeom prst="rect">
                    <a:avLst/>
                  </a:prstGeom>
                  <a:noFill/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8101080" y="4365360"/>
                    <a:ext cx="144360" cy="14400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2" name=""/>
                <p:cNvSpPr/>
                <p:nvPr/>
              </p:nvSpPr>
              <p:spPr>
                <a:xfrm>
                  <a:off x="7524720" y="4076640"/>
                  <a:ext cx="1440000" cy="720720"/>
                </a:xfrm>
                <a:prstGeom prst="ellipse">
                  <a:avLst/>
                </a:pr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245440" y="414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524720" y="5516640"/>
              <a:ext cx="1440000" cy="720720"/>
              <a:chOff x="7524720" y="5516640"/>
              <a:chExt cx="1440000" cy="7207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7524720" y="5516640"/>
                <a:ext cx="1440000" cy="720720"/>
                <a:chOff x="7524720" y="5516640"/>
                <a:chExt cx="1440000" cy="72072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7812000" y="5730840"/>
                  <a:ext cx="865080" cy="289080"/>
                  <a:chOff x="7812000" y="5730840"/>
                  <a:chExt cx="865080" cy="2890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7885080" y="580392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885080" y="5948280"/>
                    <a:ext cx="71892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>
                    <a:off x="795636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802944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810108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817236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824544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31672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838836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V="1">
                    <a:off x="846144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8532720" y="58035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812000" y="5730840"/>
                    <a:ext cx="865080" cy="289080"/>
                  </a:xfrm>
                  <a:prstGeom prst="rect">
                    <a:avLst/>
                  </a:prstGeom>
                  <a:noFill/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8101080" y="5803920"/>
                    <a:ext cx="144360" cy="144360"/>
                  </a:xfrm>
                  <a:prstGeom prst="ellips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7524720" y="5516640"/>
                  <a:ext cx="1440000" cy="720720"/>
                </a:xfrm>
                <a:prstGeom prst="ellipse">
                  <a:avLst/>
                </a:prstGeom>
                <a:noFill/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8245440" y="558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0808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1619280" y="3263760"/>
            <a:ext cx="720720" cy="703800"/>
            <a:chOff x="1619280" y="3263760"/>
            <a:chExt cx="720720" cy="703800"/>
          </a:xfrm>
        </p:grpSpPr>
        <p:sp>
          <p:nvSpPr>
            <p:cNvPr id="533" name=""/>
            <p:cNvSpPr/>
            <p:nvPr/>
          </p:nvSpPr>
          <p:spPr>
            <a:xfrm>
              <a:off x="1619280" y="3644640"/>
              <a:ext cx="72072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30440" y="326376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染色体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复制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572000" y="2917800"/>
            <a:ext cx="936720" cy="1720080"/>
            <a:chOff x="4572000" y="2917800"/>
            <a:chExt cx="936720" cy="1720080"/>
          </a:xfrm>
        </p:grpSpPr>
        <p:sp>
          <p:nvSpPr>
            <p:cNvPr id="536" name=""/>
            <p:cNvSpPr/>
            <p:nvPr/>
          </p:nvSpPr>
          <p:spPr>
            <a:xfrm>
              <a:off x="4572000" y="3571920"/>
              <a:ext cx="93672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7200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4624560" y="2917800"/>
              <a:ext cx="739440" cy="1720080"/>
              <a:chOff x="4624560" y="2917800"/>
              <a:chExt cx="739440" cy="1720080"/>
            </a:xfrm>
          </p:grpSpPr>
          <p:sp>
            <p:nvSpPr>
              <p:cNvPr id="539" name=""/>
              <p:cNvSpPr/>
              <p:nvPr/>
            </p:nvSpPr>
            <p:spPr>
              <a:xfrm>
                <a:off x="4754880" y="2917800"/>
                <a:ext cx="53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减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Ⅰ</a:t>
                </a: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 </a:t>
                </a:r>
                <a:endParaRPr b="0" lang="en-US" sz="32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624560" y="3629160"/>
                <a:ext cx="7394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同源染色体分离</a:t>
                </a:r>
                <a:endParaRPr b="0" lang="en-US" sz="20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"/>
          <p:cNvGrpSpPr/>
          <p:nvPr/>
        </p:nvGrpSpPr>
        <p:grpSpPr>
          <a:xfrm>
            <a:off x="6804000" y="1690560"/>
            <a:ext cx="720720" cy="3395880"/>
            <a:chOff x="6804000" y="1690560"/>
            <a:chExt cx="720720" cy="3395880"/>
          </a:xfrm>
        </p:grpSpPr>
        <p:sp>
          <p:nvSpPr>
            <p:cNvPr id="542" name=""/>
            <p:cNvSpPr/>
            <p:nvPr/>
          </p:nvSpPr>
          <p:spPr>
            <a:xfrm>
              <a:off x="6804000" y="2271600"/>
              <a:ext cx="72072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04000" y="5079960"/>
              <a:ext cx="72072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79600" y="1690560"/>
              <a:ext cx="60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减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Ⅱ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95440" y="4505040"/>
              <a:ext cx="60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减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Ⅱ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29280" y="2705040"/>
              <a:ext cx="379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着丝点分裂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08000" y="1407960"/>
            <a:ext cx="1518120" cy="2955960"/>
            <a:chOff x="108000" y="1407960"/>
            <a:chExt cx="1518120" cy="2955960"/>
          </a:xfrm>
        </p:grpSpPr>
        <p:sp>
          <p:nvSpPr>
            <p:cNvPr id="548" name=""/>
            <p:cNvSpPr/>
            <p:nvPr/>
          </p:nvSpPr>
          <p:spPr>
            <a:xfrm flipV="1">
              <a:off x="684360" y="2563200"/>
              <a:ext cx="0" cy="86364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68360" y="1987200"/>
              <a:ext cx="0" cy="143964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08000" y="1407960"/>
              <a:ext cx="1518120" cy="2955960"/>
              <a:chOff x="108000" y="1407960"/>
              <a:chExt cx="1518120" cy="295596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08000" y="2852640"/>
                <a:ext cx="1440000" cy="1511280"/>
                <a:chOff x="108000" y="2852640"/>
                <a:chExt cx="1440000" cy="151128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108000" y="2923920"/>
                  <a:ext cx="1440000" cy="1440000"/>
                  <a:chOff x="108000" y="2923920"/>
                  <a:chExt cx="1440000" cy="144000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108000" y="2923920"/>
                    <a:ext cx="1440000" cy="1440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808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322200" y="3282840"/>
                    <a:ext cx="865080" cy="288720"/>
                    <a:chOff x="322200" y="3282840"/>
                    <a:chExt cx="865080" cy="2887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95280" y="3355560"/>
                      <a:ext cx="718920" cy="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95280" y="3499920"/>
                      <a:ext cx="718920" cy="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46656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V="1">
                      <a:off x="53964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V="1">
                      <a:off x="61128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V="1">
                      <a:off x="68256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V="1">
                      <a:off x="75564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V="1">
                      <a:off x="82692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V="1">
                      <a:off x="89856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V="1">
                      <a:off x="97164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V="1">
                      <a:off x="1042920" y="3355560"/>
                      <a:ext cx="0" cy="144000"/>
                    </a:xfrm>
                    <a:prstGeom prst="line">
                      <a:avLst/>
                    </a:prstGeom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322200" y="3282840"/>
                      <a:ext cx="865080" cy="288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611280" y="3355560"/>
                      <a:ext cx="144360" cy="14400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322200" y="3714480"/>
                    <a:ext cx="865080" cy="289080"/>
                    <a:chOff x="322200" y="3714480"/>
                    <a:chExt cx="865080" cy="28908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395280" y="3787560"/>
                      <a:ext cx="718920" cy="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395280" y="3931920"/>
                      <a:ext cx="718920" cy="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V="1">
                      <a:off x="46656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flipV="1">
                      <a:off x="53964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V="1">
                      <a:off x="61128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V="1">
                      <a:off x="68256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flipV="1">
                      <a:off x="75564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82692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V="1">
                      <a:off x="89856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V="1">
                      <a:off x="97164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V="1">
                      <a:off x="1042920" y="3787200"/>
                      <a:ext cx="0" cy="144360"/>
                    </a:xfrm>
                    <a:prstGeom prst="line">
                      <a:avLst/>
                    </a:prstGeom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322200" y="3714480"/>
                      <a:ext cx="865080" cy="289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611280" y="3787560"/>
                      <a:ext cx="144360" cy="14436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9360">
                      <a:solidFill>
                        <a:srgbClr val="0808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82" name=""/>
                <p:cNvSpPr/>
                <p:nvPr/>
              </p:nvSpPr>
              <p:spPr>
                <a:xfrm>
                  <a:off x="757800" y="2852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81200" y="3860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109080" y="140796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0808"/>
                    </a:solidFill>
                    <a:latin typeface="Times New Roman"/>
                    <a:ea typeface="黑体"/>
                  </a:rPr>
                  <a:t>DNA</a:t>
                </a:r>
                <a:endParaRPr b="0" lang="en-US" sz="32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3880" y="206028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80808"/>
                    </a:solidFill>
                    <a:latin typeface="Times New Roman"/>
                    <a:ea typeface="黑体"/>
                  </a:rPr>
                  <a:t>着丝点</a:t>
                </a:r>
                <a:endParaRPr b="0" lang="en-US" sz="32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2400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基因分离定律的实质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81080" y="6381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9a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8001000" y="152280"/>
            <a:ext cx="838080" cy="1981440"/>
          </a:xfrm>
          <a:prstGeom prst="wedgeRectCallout">
            <a:avLst>
              <a:gd name="adj1" fmla="val -46782"/>
              <a:gd name="adj2" fmla="val 6652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等位基因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45720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371600"/>
              <a:gd name="textAreaBottom" fmla="*/ 13345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8"/>
                  <a:pt x="10800" y="1875"/>
                </a:cubicBezTo>
                <a:lnTo>
                  <a:pt x="10800" y="8925"/>
                </a:lnTo>
                <a:cubicBezTo>
                  <a:pt x="10800" y="9863"/>
                  <a:pt x="16200" y="10800"/>
                  <a:pt x="21600" y="10800"/>
                </a:cubicBezTo>
                <a:cubicBezTo>
                  <a:pt x="16200" y="10800"/>
                  <a:pt x="10800" y="11738"/>
                  <a:pt x="10800" y="12675"/>
                </a:cubicBezTo>
                <a:lnTo>
                  <a:pt x="10800" y="19725"/>
                </a:lnTo>
                <a:cubicBezTo>
                  <a:pt x="10800" y="206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1295280"/>
            <a:ext cx="1905120" cy="533520"/>
          </a:xfrm>
          <a:prstGeom prst="wedgeRectCallout">
            <a:avLst>
              <a:gd name="adj1" fmla="val -70916"/>
              <a:gd name="adj2" fmla="val 76486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隐性基因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457200"/>
            <a:ext cx="1905120" cy="609480"/>
          </a:xfrm>
          <a:prstGeom prst="wedgeRectCallout">
            <a:avLst>
              <a:gd name="adj1" fmla="val -184416"/>
              <a:gd name="adj2" fmla="val 167708"/>
            </a:avLst>
          </a:prstGeom>
          <a:solidFill>
            <a:srgbClr val="cc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显性基因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62560" y="29973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位于一对同源染色体的相同位置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控制着相对性状的基因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孟德尔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(</a:t>
            </a:r>
            <a:r>
              <a:rPr b="0" lang="en" sz="2800" spc="-1" strike="noStrike">
                <a:solidFill>
                  <a:srgbClr val="0039ac"/>
                </a:solidFill>
                <a:latin typeface="Arial"/>
                <a:ea typeface="华文行楷"/>
              </a:rPr>
              <a:t>Gregor Johann Mendel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 )[1822-1884]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，出生于奥地利一个名叫海因策多夫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(Heinzendorf)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的小村中，父亲是农民，擅长嫁接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;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母亲是园艺工人。由于家庭的影响，孟德尔自幼酷爱自然科学。他于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1981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在维也纳大学学习，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1853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从维也纳到布隆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(Brünn)[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现在捷克的布尔诺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(Brno)]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修道院当修道士，直至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1868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当选修道院院长为止。孟德尔从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1856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起就是在修道院的花园里种豌豆，开始他的“豌豆杂交试验”，到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1864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共进行了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8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，发现了前人未认识到的规律，这个规律后来称为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行楷"/>
              </a:rPr>
              <a:t>”孟德尔规律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行楷"/>
              </a:rPr>
              <a:t>,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即遗传学上的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行楷"/>
              </a:rPr>
              <a:t>分离规律和独立分配规律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，这两个规律与后来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华文行楷"/>
              </a:rPr>
              <a:t>摩尔根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的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华文行楷"/>
              </a:rPr>
              <a:t>连锁遗传规律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并称为遗传学的三大规律。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  <a:ea typeface="华文行楷"/>
              </a:rPr>
              <a:t>但当时这一规律并未被认可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，直至他去世后的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1900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  <a:ea typeface="华文行楷"/>
              </a:rPr>
              <a:t>年，才又被重新提出。而孟得尔被称为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行楷"/>
              </a:rPr>
              <a:t>“遗传之父”。</a:t>
            </a:r>
            <a:r>
              <a:rPr b="0" lang="en-US" sz="2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1592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实质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4000" y="692280"/>
            <a:ext cx="280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）等位基因位于一对同源染色体上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）等位基因随同源染色体分开而分开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独立地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随配子遗传给下一代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203640" y="44280"/>
            <a:ext cx="5867280" cy="67424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98" name=""/>
          <p:cNvSpPr/>
          <p:nvPr/>
        </p:nvSpPr>
        <p:spPr>
          <a:xfrm>
            <a:off x="324000" y="4365720"/>
            <a:ext cx="2565360" cy="52056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等位基因：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49417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位于一对同源染色体相同位置上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控制着相对性状的基因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816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分离定律的实质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61840" y="1989000"/>
            <a:ext cx="828216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1709c9"/>
                </a:solidFill>
                <a:latin typeface="Arial"/>
              </a:rPr>
              <a:t>在杂合子的细胞中，位于一对同源染色体上的等位基因，具有一定的独立性</a:t>
            </a:r>
            <a:r>
              <a:rPr b="1" lang="en-US" sz="3600" spc="-1" strike="noStrike">
                <a:solidFill>
                  <a:srgbClr val="1709c9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1709c9"/>
                </a:solidFill>
                <a:latin typeface="Arial"/>
              </a:rPr>
              <a:t>生物体在进行减数分裂形成配子时，等位基因会随着同源染色体的分开而分离，分别进入到两个配子中，独立地随配子遗传给后代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732720" y="42926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解释的正确性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00360" y="1628640"/>
            <a:ext cx="4572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24360" y="1628640"/>
            <a:ext cx="609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4360" y="2565360"/>
            <a:ext cx="4572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96000" y="2565360"/>
            <a:ext cx="5335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00000" y="321300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92360" y="4221000"/>
            <a:ext cx="505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508464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44920" y="765000"/>
            <a:ext cx="992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幼圆"/>
              </a:rPr>
              <a:t>（一）、一对相对性状的遗传实验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5280" y="3429000"/>
            <a:ext cx="28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幼圆"/>
              </a:rPr>
              <a:t>（二）、测交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14209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P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  <a:ea typeface="黑体"/>
              </a:rPr>
              <a:t>：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高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纯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)X 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26200" y="1370160"/>
            <a:ext cx="186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高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显性性状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89720" y="1370160"/>
            <a:ext cx="182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  <a:ea typeface="黑体"/>
              </a:rPr>
              <a:t>：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高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：矮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42440" y="1700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5600" y="19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理论解释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5280" y="234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P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  <a:ea typeface="黑体"/>
              </a:rPr>
              <a:t>：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DD X d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6360" y="234936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  <a:ea typeface="黑体"/>
              </a:rPr>
              <a:t>：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D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30480" y="234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配子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9320" y="297180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2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基因型：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80360" y="234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1D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  <a:ea typeface="黑体"/>
              </a:rPr>
              <a:t>：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1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77200" y="28702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受精机会均等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93000" y="2349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等位基因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19640" y="2943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</a:rPr>
              <a:t>1DD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</a:rPr>
              <a:t>：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</a:rPr>
              <a:t>2Dd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</a:rPr>
              <a:t>：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</a:rPr>
              <a:t>1d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87280" y="5881680"/>
            <a:ext cx="820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杂交实验的数据与理论分析相符，即测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基因型为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D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5600" y="58053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幼圆"/>
              </a:rPr>
              <a:t>结论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99920" y="5329080"/>
            <a:ext cx="20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30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株高：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株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76360" y="5300640"/>
            <a:ext cx="23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1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 X 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矮茎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6760" y="5300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幼圆"/>
              </a:rPr>
              <a:t>实验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6000" y="48261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1Dd:1dd</a:t>
            </a:r>
            <a:r>
              <a:rPr b="1" lang="zh-CN" sz="2400" spc="-1" strike="noStrike">
                <a:solidFill>
                  <a:srgbClr val="0039ac"/>
                </a:solidFill>
                <a:latin typeface="Arial Black"/>
                <a:ea typeface="黑体"/>
              </a:rPr>
              <a:t>的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结果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2000" y="482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应有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DdXd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87280" y="4797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如解释正确，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7040" y="47656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幼圆"/>
              </a:rPr>
              <a:t>分析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16720" y="386064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验证对分离现象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40360" y="397980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测</a:t>
            </a: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1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基因型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58920" y="40338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ac"/>
                </a:solidFill>
                <a:latin typeface="Arial Black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39ac"/>
                </a:solidFill>
                <a:latin typeface="Arial Black"/>
                <a:ea typeface="黑体"/>
              </a:rPr>
              <a:t>1</a:t>
            </a:r>
            <a:r>
              <a:rPr b="1" lang="en-US" sz="2400" spc="-1" strike="noStrike">
                <a:solidFill>
                  <a:srgbClr val="0039ac"/>
                </a:solidFill>
                <a:latin typeface="黑体"/>
                <a:ea typeface="黑体"/>
              </a:rPr>
              <a:t> X </a:t>
            </a:r>
            <a:r>
              <a:rPr b="1" lang="zh-CN" sz="2400" spc="-1" strike="noStrike">
                <a:solidFill>
                  <a:srgbClr val="0039ac"/>
                </a:solidFill>
                <a:latin typeface="黑体"/>
                <a:ea typeface="黑体"/>
              </a:rPr>
              <a:t>隐性类型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9080" y="40053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Times New Roman"/>
                <a:ea typeface="幼圆"/>
              </a:rPr>
              <a:t>目的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67280" y="4165560"/>
            <a:ext cx="505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48000" y="5589720"/>
            <a:ext cx="504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83880" y="185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基因分离规律小结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87280" y="2060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Arial"/>
                <a:ea typeface="黑体"/>
              </a:rPr>
              <a:t>表现型是指生物个体所表现出来的性状。例如，豌豆的高茎和矮茎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19280" y="4797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Arial"/>
                <a:ea typeface="黑体"/>
              </a:rPr>
              <a:t>指与表现型有关系的基因组成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06400" y="357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基因型：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512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表现型：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基因型和表现型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98480" y="450360"/>
            <a:ext cx="71740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9ac"/>
                </a:solidFill>
                <a:latin typeface="Arial"/>
                <a:ea typeface="华文行楷"/>
              </a:rPr>
              <a:t>基因型与表现型的关系</a:t>
            </a:r>
            <a:r>
              <a:rPr b="0" lang="en-US" sz="4800" spc="-1" strike="noStrike">
                <a:solidFill>
                  <a:srgbClr val="0039ac"/>
                </a:solidFill>
                <a:latin typeface="Arial"/>
                <a:ea typeface="华文行楷"/>
              </a:rPr>
              <a:t>?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2421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基因型是性状表现的内在因素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表现型是基因型的表现形式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表现型相同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基因型不一定相同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表现型不同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基因型不一定不同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因为表现型还受到环境的影响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76360" y="5229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表现型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基因型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环境因素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显性的相对性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1557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95280" y="1700280"/>
            <a:ext cx="8497800" cy="2890440"/>
            <a:chOff x="395280" y="1700280"/>
            <a:chExt cx="8497800" cy="2890440"/>
          </a:xfrm>
        </p:grpSpPr>
        <p:sp>
          <p:nvSpPr>
            <p:cNvPr id="657" name=""/>
            <p:cNvSpPr/>
            <p:nvPr/>
          </p:nvSpPr>
          <p:spPr>
            <a:xfrm>
              <a:off x="395280" y="170028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709c9"/>
                  </a:solidFill>
                  <a:latin typeface="Arial"/>
                </a:rPr>
                <a:t>完全显性</a:t>
              </a:r>
              <a:r>
                <a:rPr b="1" lang="en-US" sz="3600" spc="-1" strike="noStrike">
                  <a:solidFill>
                    <a:srgbClr val="1709c9"/>
                  </a:solidFill>
                  <a:latin typeface="Arial"/>
                </a:rPr>
                <a:t>: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42920" y="2565000"/>
              <a:ext cx="7850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具有一对相对性状的纯合亲本杂交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,F1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的全部个体都表现出显性性状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并且在表现程度上和显性亲本完全一样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这种显性叫完全显性</a:t>
              </a:r>
              <a:r>
                <a:rPr b="1" lang="en-US" sz="3600" spc="-1" strike="noStrike">
                  <a:solidFill>
                    <a:srgbClr val="ff0066"/>
                  </a:solidFill>
                  <a:latin typeface="Arial"/>
                </a:rPr>
                <a:t>(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如孟德尔研究的豌豆的</a:t>
              </a:r>
              <a:r>
                <a:rPr b="1" lang="en-US" sz="3600" spc="-1" strike="noStrike">
                  <a:solidFill>
                    <a:srgbClr val="ff0066"/>
                  </a:solidFill>
                  <a:latin typeface="Arial"/>
                </a:rPr>
                <a:t>7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对相对性状</a:t>
              </a:r>
              <a:r>
                <a:rPr b="1" lang="en-US" sz="3600" spc="-1" strike="noStrike">
                  <a:solidFill>
                    <a:srgbClr val="ff0066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不完全显性</a:t>
            </a:r>
            <a:r>
              <a:rPr b="0" lang="en-US" sz="36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:</a:t>
            </a:r>
            <a:endParaRPr b="0" lang="en-US" sz="3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76360" y="1341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0779"/>
                </a:solidFill>
                <a:latin typeface="Arial"/>
              </a:rPr>
              <a:t>在生物性状的遗传中</a:t>
            </a:r>
            <a:r>
              <a:rPr b="1" lang="en-US" sz="3600" spc="-1" strike="noStrike">
                <a:solidFill>
                  <a:srgbClr val="15077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150779"/>
                </a:solidFill>
                <a:latin typeface="Arial"/>
              </a:rPr>
              <a:t>如果</a:t>
            </a:r>
            <a:r>
              <a:rPr b="1" lang="en-US" sz="3600" spc="-1" strike="noStrike">
                <a:solidFill>
                  <a:srgbClr val="150779"/>
                </a:solidFill>
                <a:latin typeface="Arial"/>
              </a:rPr>
              <a:t>F1</a:t>
            </a:r>
            <a:r>
              <a:rPr b="1" lang="zh-CN" sz="3600" spc="-1" strike="noStrike">
                <a:solidFill>
                  <a:srgbClr val="150779"/>
                </a:solidFill>
                <a:latin typeface="Arial"/>
              </a:rPr>
              <a:t>的介于显性和隐性亲本之间</a:t>
            </a:r>
            <a:r>
              <a:rPr b="1" lang="en-US" sz="3600" spc="-1" strike="noStrike">
                <a:solidFill>
                  <a:srgbClr val="15077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150779"/>
                </a:solidFill>
                <a:latin typeface="Arial"/>
              </a:rPr>
              <a:t>这种显性叫不完全显性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0" y="2997360"/>
            <a:ext cx="8388360" cy="2127600"/>
            <a:chOff x="0" y="2997360"/>
            <a:chExt cx="8388360" cy="2127600"/>
          </a:xfrm>
        </p:grpSpPr>
        <p:sp>
          <p:nvSpPr>
            <p:cNvPr id="662" name=""/>
            <p:cNvSpPr/>
            <p:nvPr/>
          </p:nvSpPr>
          <p:spPr>
            <a:xfrm>
              <a:off x="0" y="2997360"/>
              <a:ext cx="295272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9ac"/>
                  </a:solidFill>
                  <a:latin typeface="Arial"/>
                </a:rPr>
                <a:t>共显性</a:t>
              </a:r>
              <a:r>
                <a:rPr b="1" lang="en-US" sz="3600" spc="-1" strike="noStrike">
                  <a:solidFill>
                    <a:srgbClr val="0039ac"/>
                  </a:solidFill>
                  <a:latin typeface="Arial"/>
                </a:rPr>
                <a:t>: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47640" y="3933720"/>
              <a:ext cx="684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在生物性状的遗传中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如果两个亲本的性状同时在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F1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的的个体上显现出来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而不是单一的表现出中间性状</a:t>
              </a:r>
              <a:r>
                <a:rPr b="1" lang="en-US" sz="3600" spc="-1" strike="noStrike">
                  <a:solidFill>
                    <a:srgbClr val="150779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150779"/>
                  </a:solidFill>
                  <a:latin typeface="Arial"/>
                </a:rPr>
                <a:t>这种显性叫共显性</a:t>
              </a:r>
              <a:endParaRPr b="0" lang="en-US" sz="3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9ac"/>
                </a:solidFill>
                <a:latin typeface="Arial"/>
                <a:ea typeface="华文行楷"/>
              </a:rPr>
              <a:t>基因分离定律在实践的应用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4000" y="1484280"/>
            <a:ext cx="8424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在遗传育种上的应用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（育种年限长，理论上后代不会全是纯合子）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杂交育种中的连续自交及相关计算公式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09c9"/>
                </a:solidFill>
                <a:latin typeface="Arial"/>
              </a:rPr>
              <a:t>在医学实践中的应用</a:t>
            </a:r>
            <a:r>
              <a:rPr b="1" lang="en-US" sz="4000" spc="-1" strike="noStrike">
                <a:solidFill>
                  <a:srgbClr val="1709c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人类遗传病预防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一对基因的遗传组合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4724280"/>
            <a:ext cx="58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基因分离定律事例分析</a:t>
            </a:r>
            <a:r>
              <a:rPr b="0" lang="zh-CN" sz="4400" spc="-1" strike="noStrike">
                <a:solidFill>
                  <a:srgbClr val="1709c9"/>
                </a:solidFill>
                <a:latin typeface="Arial"/>
                <a:ea typeface="隶书"/>
              </a:rPr>
              <a:t>棋盘法和交叉线图解法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81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2860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相关概念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4000" y="981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亲本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P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）—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用于交配的两个实验材料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包括父本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母本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6668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子代——交配后产生的后代，包括子一代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F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）、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子二代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F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  <a:ea typeface="黑体"/>
              </a:rPr>
              <a:t>······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5211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正交——如以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为父本，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为母本进行交配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5867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反交——以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为父本，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为母本进行交配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04920" y="1600200"/>
            <a:ext cx="4800600" cy="947160"/>
            <a:chOff x="304920" y="1600200"/>
            <a:chExt cx="4800600" cy="947160"/>
          </a:xfrm>
        </p:grpSpPr>
        <p:sp>
          <p:nvSpPr>
            <p:cNvPr id="674" name=""/>
            <p:cNvSpPr/>
            <p:nvPr/>
          </p:nvSpPr>
          <p:spPr>
            <a:xfrm>
              <a:off x="304920" y="1600200"/>
              <a:ext cx="472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父本———提供精子的亲本母本——提供卵细胞的亲本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876920" y="1752120"/>
              <a:ext cx="228600" cy="228960"/>
              <a:chOff x="4876920" y="1752120"/>
              <a:chExt cx="228600" cy="2289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76920" y="1866600"/>
                <a:ext cx="114120" cy="11448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4991040" y="1752120"/>
                <a:ext cx="114480" cy="114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800600" y="2133720"/>
              <a:ext cx="152280" cy="380880"/>
              <a:chOff x="4800600" y="2133720"/>
              <a:chExt cx="152280" cy="380880"/>
            </a:xfrm>
          </p:grpSpPr>
          <p:sp>
            <p:nvSpPr>
              <p:cNvPr id="679" name=""/>
              <p:cNvSpPr/>
              <p:nvPr/>
            </p:nvSpPr>
            <p:spPr>
              <a:xfrm>
                <a:off x="4800600" y="213372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00600" y="2362320"/>
                <a:ext cx="1522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76920" y="2286000"/>
                <a:ext cx="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2" name=""/>
          <p:cNvGrpSpPr/>
          <p:nvPr/>
        </p:nvGrpSpPr>
        <p:grpSpPr>
          <a:xfrm>
            <a:off x="380880" y="3657600"/>
            <a:ext cx="7848360" cy="520560"/>
            <a:chOff x="380880" y="3657600"/>
            <a:chExt cx="7848360" cy="520560"/>
          </a:xfrm>
        </p:grpSpPr>
        <p:sp>
          <p:nvSpPr>
            <p:cNvPr id="683" name=""/>
            <p:cNvSpPr/>
            <p:nvPr/>
          </p:nvSpPr>
          <p:spPr>
            <a:xfrm>
              <a:off x="380880" y="365760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Times New Roman"/>
                  <a:ea typeface="黑体"/>
                </a:rPr>
                <a:t>自交——同种性状的两个亲本交配，以          表示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92560" y="3697200"/>
              <a:ext cx="51732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21800" y="3809880"/>
              <a:ext cx="34488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043400" y="3809880"/>
              <a:ext cx="25848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395280" y="436572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杂交——两种不同性状的亲本杂交，以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表示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119160"/>
            <a:ext cx="939636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相关概念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生物体的形态特征和生理特征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相对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一种生物的同一种性状的不同表现类型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显性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杂种一代表现出来的性状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隐性性状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杂种一代未显现出来的性状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性状分离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在杂种后代中，同时显现显性性状和隐性性状的现象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显性基因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控制显性性状的基因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隐性基因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控制隐性性状的基因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表现型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生物个体表现出来的性状叫表现型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基因型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与表现型有关的基因组成叫做基因型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纯合子：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相同基因的配子结合成的合子发育成的个体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1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杂合子：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不同基因的配子结合成的合子发育成的个体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9900cc"/>
                </a:solidFill>
                <a:latin typeface="隶书"/>
                <a:ea typeface="隶书"/>
              </a:rPr>
              <a:t>、等位基因</a:t>
            </a:r>
            <a:r>
              <a:rPr b="1" lang="en-US" sz="2800" spc="-1" strike="noStrike">
                <a:solidFill>
                  <a:srgbClr val="99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位于同源染色体同一位置，控制相        对性状的基因。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  <a:ea typeface="Arial"/>
              </a:rPr>
              <a:t>孟德尔的豌豆杂交试验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194000" cy="446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92720" y="2203560"/>
            <a:ext cx="24192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60424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基因与性状的概念系统图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98840" y="2276640"/>
            <a:ext cx="92880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基因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98560" y="2276640"/>
            <a:ext cx="126072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基因型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88000" y="2276640"/>
            <a:ext cx="165564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等位基因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5240" y="1916280"/>
            <a:ext cx="152712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显性基因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54960" y="2565360"/>
            <a:ext cx="158904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隐性基因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19640" y="4508640"/>
            <a:ext cx="100800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性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4508640"/>
            <a:ext cx="158436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相对性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732720" y="4869000"/>
            <a:ext cx="158436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显性性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32720" y="4292640"/>
            <a:ext cx="158436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隐性性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9280" y="4581360"/>
            <a:ext cx="154800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性状分离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4000" y="1916280"/>
            <a:ext cx="122364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纯合子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4000" y="2565360"/>
            <a:ext cx="122364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  <a:ea typeface="黑体"/>
              </a:rPr>
              <a:t>杂合子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8000" y="4581360"/>
            <a:ext cx="1224000" cy="48996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9ac"/>
                </a:solidFill>
                <a:latin typeface="Arial"/>
                <a:ea typeface="黑体"/>
              </a:rPr>
              <a:t>表现型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20720" y="2060640"/>
            <a:ext cx="71640" cy="863640"/>
          </a:xfrm>
          <a:custGeom>
            <a:avLst/>
            <a:gdLst>
              <a:gd name="textAreaLeft" fmla="*/ 0 w 71640"/>
              <a:gd name="textAreaRight" fmla="*/ 25920 w 71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42200" y="220500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15280" y="443700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29040" y="2925720"/>
            <a:ext cx="0" cy="1511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059280" y="4797360"/>
            <a:ext cx="287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619280" y="4797360"/>
            <a:ext cx="287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27640" y="4797360"/>
            <a:ext cx="4316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357336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发  生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8000" y="35733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决  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419640" y="3573360"/>
            <a:ext cx="114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决  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76720" y="357336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控  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90560" y="3573360"/>
            <a:ext cx="74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控  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78560" y="2924280"/>
            <a:ext cx="0" cy="143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71640" y="3070080"/>
            <a:ext cx="0" cy="1511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1280" y="2924280"/>
            <a:ext cx="0" cy="1511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46960" y="3141720"/>
            <a:ext cx="0" cy="1150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72360" y="2205000"/>
            <a:ext cx="358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531280" y="2205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16720" y="5157720"/>
            <a:ext cx="2142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28000" y="3573360"/>
            <a:ext cx="11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控 制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98840" y="256536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060720" y="2565360"/>
            <a:ext cx="287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生物个体基因型的推断方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4470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、正推法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以知双亲的基因型或表现型，推子代的基因型、表现型。基本的交配组合有以下六种（设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对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为显性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755640" y="2565360"/>
          <a:ext cx="7201080" cy="4108320"/>
        </p:xfrm>
        <a:graphic>
          <a:graphicData uri="http://schemas.openxmlformats.org/drawingml/2006/table">
            <a:tbl>
              <a:tblPr/>
              <a:tblGrid>
                <a:gridCol w="1801800"/>
                <a:gridCol w="1798560"/>
                <a:gridCol w="1801800"/>
                <a:gridCol w="1798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亲本组合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d73f9"/>
                          </a:solidFill>
                          <a:latin typeface="Arial"/>
                        </a:rPr>
                        <a:t>亲本表现型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d73f9"/>
                          </a:solidFill>
                          <a:latin typeface="Arial"/>
                        </a:rPr>
                        <a:t>子代基因型及比值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d73f9"/>
                          </a:solidFill>
                          <a:latin typeface="Arial"/>
                        </a:rPr>
                        <a:t>子代表现型及比值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A × AA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A × Aa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A × aa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a × Aa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a × aa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a × aa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3" name=""/>
          <p:cNvSpPr/>
          <p:nvPr/>
        </p:nvSpPr>
        <p:spPr>
          <a:xfrm>
            <a:off x="2843280" y="3429000"/>
            <a:ext cx="158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隐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显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隐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隐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</a:rPr>
              <a:t>隐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328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27640" y="4076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A:Aa=1: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0" y="45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67280" y="5084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A:Aa:aa=1:2:1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1060560" y="40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51480" y="594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29800" y="558972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a:aa=1: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00720" y="623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7236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全显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588000" y="4076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全显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458136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全显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21160" y="5589720"/>
            <a:ext cx="16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显：隐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=1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11480" y="616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全隐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84720" y="50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显：隐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=3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；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7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除此之外，还可以根据产生配子的概率，来求子代的基因型及概率。其方法是先求出亲本产生几种配子，及每种配子的概率，再用两种相关配子的概率相乘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例如：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人类白化病遗传，双亲基因型若为：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a×Aa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，父本产生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配子的概率各占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2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，母本产生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配子的概率各占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2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，因此生一个白化病孩子的概率为</a:t>
            </a:r>
            <a:r>
              <a:rPr b="1" lang="en-US" sz="32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2×1/2=1/4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0"/>
            <a:ext cx="338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9ac"/>
                </a:solidFill>
                <a:latin typeface="Arial"/>
                <a:ea typeface="华文行楷"/>
              </a:rPr>
              <a:t>点拨：</a:t>
            </a:r>
            <a:endParaRPr b="0" lang="en-US" sz="6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、逆推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根据子代的表现型或基因型及比值推断双亲的基因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方法一：</a:t>
            </a:r>
            <a:r>
              <a:rPr b="1" lang="en-US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隐性突破法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。子代中隐性个体的存在，是逆推过程中的突破口。因为隐性个体一定是纯合子，基因型为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aa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，其中一个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来自父本，一个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来自母本，因此双亲必然都有一个隐性基因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(a),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然后再根据亲代的表现型做进一步的推断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方法二：</a:t>
            </a:r>
            <a:r>
              <a:rPr b="1" lang="en-US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基因填充法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。先根据亲代的表现型写出能确定的基因，如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显性性状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的基因型可用“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＿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”来表示，隐性性状的基因型只有一种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aa</a:t>
            </a:r>
            <a:r>
              <a:rPr b="1" lang="en-US" sz="28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，然后再根据子代的表现型及比值，推断出亲代中未知的基因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95280" y="620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Arial"/>
                <a:ea typeface="华文行楷"/>
              </a:rPr>
              <a:t>遗传概率计算的基本原理：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5280" y="141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在对遗传学问题进行分析时，常遇到概率的问题，这就要依据两个基本原理分析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即：加法定理和乘法定理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11280" y="256536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加法定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当一时间出现时，另一事件就被排除，这样的两个事件程为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互斥事件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或交互事件，这种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互斥事件出现的概率是他们各自概率之和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11280" y="4365720"/>
            <a:ext cx="7632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例如，肤色正常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A)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对白化病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a)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是显性，一对夫妇的基因型都是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他们孩子的基因组合就是四中可能：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该路都是</a:t>
            </a:r>
            <a:r>
              <a:rPr b="1" lang="en-US" sz="24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4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然而这些基因组合都是互斥事件，一个孩子如是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就不可能是其他的基因组合。所以这个孩子表现正常的概率是：</a:t>
            </a:r>
            <a:r>
              <a:rPr b="1" lang="en-US" sz="24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4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AA)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4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Aa)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＋ </a:t>
            </a:r>
            <a:r>
              <a:rPr b="1" lang="en-US" sz="24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4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Aa)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1/4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aa)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1709c9"/>
                </a:solidFill>
                <a:latin typeface="楷体_GB2312"/>
                <a:ea typeface="楷体_GB2312"/>
              </a:rPr>
              <a:t>3/4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乘法法则</a:t>
            </a:r>
            <a:br>
              <a:rPr sz="2800"/>
            </a:br>
            <a:endParaRPr b="0" lang="en-US" sz="2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7799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当一个时间的发生不影响另一事件的发生，这样的两个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独立事件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同时或相继出现的概率是他们各自概率的乘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1280" y="3716280"/>
            <a:ext cx="777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例如：生男孩和生女孩的概率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各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由于第一胎不论生男孩还是生女孩都</a:t>
            </a:r>
            <a:r>
              <a:rPr b="1" lang="zh-CN" sz="24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不影响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第二胎所生孩子的性别，因此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属于两个独立事件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所以一对夫妇连续生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两胎都是女孩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的概率是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1/2×1/2=1/4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81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  <a:ea typeface="华文行楷"/>
              </a:rPr>
              <a:t>基因分离规律的验证方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测交法：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杂种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F</a:t>
            </a:r>
            <a:r>
              <a:rPr b="1" lang="en-US" sz="1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与隐性类型杂交，后代出现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两种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基因型和表现型的个体，证明了杂种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F</a:t>
            </a:r>
            <a:r>
              <a:rPr b="1" lang="en-US" sz="1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产生了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两种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配子，即等位基因彼此分离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交法：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杂种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F</a:t>
            </a:r>
            <a:r>
              <a:rPr b="1" lang="en-US" sz="1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自交后代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F</a:t>
            </a:r>
            <a:r>
              <a:rPr b="1" lang="en-US" sz="1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中出现显隐性两种表现型的个体，也是由于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F</a:t>
            </a:r>
            <a:r>
              <a:rPr b="1" lang="en-US" sz="16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产生了两种配子，即等位基因彼此分离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花粉鉴定法：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非糯性与糯性水稻的花粉遇碘呈现不同的颜色，杂种非糯性水稻的花粉是减数分裂的产物，遇碘液呈现两种不同颜色，且比例为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从而直接证明了杂种非糯性水稻在产生花粉的减数分裂过程中，等位基因彼此分离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8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8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基因分离定律在实践中的应用</a:t>
            </a: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杂交育种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414520" y="1235160"/>
            <a:ext cx="4583160" cy="929880"/>
            <a:chOff x="2414520" y="1235160"/>
            <a:chExt cx="4583160" cy="929880"/>
          </a:xfrm>
        </p:grpSpPr>
        <p:sp>
          <p:nvSpPr>
            <p:cNvPr id="764" name=""/>
            <p:cNvSpPr/>
            <p:nvPr/>
          </p:nvSpPr>
          <p:spPr>
            <a:xfrm>
              <a:off x="4165560" y="123516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79640" y="164448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抗锈病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14520" y="1235160"/>
              <a:ext cx="58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080808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43760" y="125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×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9040" y="1235160"/>
              <a:ext cx="5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53080" y="1644480"/>
              <a:ext cx="134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抗锈病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857760" y="3901680"/>
            <a:ext cx="3786120" cy="855720"/>
            <a:chOff x="3857760" y="3901680"/>
            <a:chExt cx="3786120" cy="855720"/>
          </a:xfrm>
        </p:grpSpPr>
        <p:sp>
          <p:nvSpPr>
            <p:cNvPr id="771" name=""/>
            <p:cNvSpPr/>
            <p:nvPr/>
          </p:nvSpPr>
          <p:spPr>
            <a:xfrm>
              <a:off x="3857760" y="3902040"/>
              <a:ext cx="0" cy="152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57760" y="4054320"/>
              <a:ext cx="1917720" cy="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775480" y="3901680"/>
              <a:ext cx="0" cy="1522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75400" y="4054320"/>
              <a:ext cx="0" cy="1526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11640" y="4236840"/>
              <a:ext cx="14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抗锈病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0720" y="4236840"/>
              <a:ext cx="17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不抗锈病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484360" y="2924280"/>
            <a:ext cx="4416480" cy="1100160"/>
            <a:chOff x="2484360" y="2924280"/>
            <a:chExt cx="4416480" cy="1100160"/>
          </a:xfrm>
        </p:grpSpPr>
        <p:sp>
          <p:nvSpPr>
            <p:cNvPr id="778" name=""/>
            <p:cNvSpPr/>
            <p:nvPr/>
          </p:nvSpPr>
          <p:spPr>
            <a:xfrm>
              <a:off x="3900240" y="2924280"/>
              <a:ext cx="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150800" y="2924280"/>
              <a:ext cx="158292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17880" y="2924280"/>
              <a:ext cx="166716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817880" y="2924280"/>
              <a:ext cx="1749600" cy="38088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67480" y="2924280"/>
              <a:ext cx="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1200" y="2924280"/>
              <a:ext cx="100008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66920" y="2924280"/>
              <a:ext cx="66708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4080" y="2924280"/>
              <a:ext cx="0" cy="45720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1120" y="344484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67320" y="3444840"/>
              <a:ext cx="58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84600" y="3444840"/>
              <a:ext cx="5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318000" y="3444840"/>
              <a:ext cx="5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84360" y="3444840"/>
              <a:ext cx="58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080808"/>
                  </a:solidFill>
                  <a:latin typeface="华文新魏"/>
                  <a:ea typeface="华文新魏"/>
                </a:rPr>
                <a:t>2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2340000" y="4630680"/>
            <a:ext cx="6264360" cy="1914840"/>
            <a:chOff x="2340000" y="4630680"/>
            <a:chExt cx="6264360" cy="1914840"/>
          </a:xfrm>
        </p:grpSpPr>
        <p:grpSp>
          <p:nvGrpSpPr>
            <p:cNvPr id="792" name=""/>
            <p:cNvGrpSpPr/>
            <p:nvPr/>
          </p:nvGrpSpPr>
          <p:grpSpPr>
            <a:xfrm>
              <a:off x="4840560" y="4630680"/>
              <a:ext cx="383400" cy="520560"/>
              <a:chOff x="4840560" y="4630680"/>
              <a:chExt cx="383400" cy="520560"/>
            </a:xfrm>
          </p:grpSpPr>
          <p:sp>
            <p:nvSpPr>
              <p:cNvPr id="793" name=""/>
              <p:cNvSpPr/>
              <p:nvPr/>
            </p:nvSpPr>
            <p:spPr>
              <a:xfrm>
                <a:off x="4840560" y="4630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华文新魏"/>
                    <a:ea typeface="华文新魏"/>
                  </a:rPr>
                  <a:t>×</a:t>
                </a:r>
                <a:endParaRPr b="0" lang="en-US" sz="28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70440" y="4728960"/>
                <a:ext cx="333360" cy="304920"/>
              </a:xfrm>
              <a:prstGeom prst="ellipse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4788000" y="4668840"/>
              <a:ext cx="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0000" y="4937040"/>
              <a:ext cx="58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080808"/>
                  </a:solidFill>
                  <a:latin typeface="华文新魏"/>
                  <a:ea typeface="华文新魏"/>
                </a:rPr>
                <a:t>3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40000" y="5965920"/>
              <a:ext cx="58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F</a:t>
              </a:r>
              <a:r>
                <a:rPr b="0" lang="en-US" sz="2800" spc="-1" strike="noStrike" baseline="-25000">
                  <a:solidFill>
                    <a:srgbClr val="080808"/>
                  </a:solidFill>
                  <a:latin typeface="华文新魏"/>
                  <a:ea typeface="华文新魏"/>
                </a:rPr>
                <a:t>n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88000" y="5316480"/>
              <a:ext cx="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4808880" y="5219640"/>
              <a:ext cx="383400" cy="520560"/>
              <a:chOff x="4808880" y="5219640"/>
              <a:chExt cx="38340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4808880" y="52196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0808"/>
                    </a:solidFill>
                    <a:latin typeface="华文新魏"/>
                    <a:ea typeface="华文新魏"/>
                  </a:rPr>
                  <a:t>×</a:t>
                </a:r>
                <a:endParaRPr b="0" lang="en-US" sz="28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38760" y="5317920"/>
                <a:ext cx="333360" cy="304920"/>
              </a:xfrm>
              <a:prstGeom prst="ellipse">
                <a:avLst/>
              </a:prstGeom>
              <a:noFill/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4500720" y="596592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06920" y="596592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不再发生性状分离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27640" y="5605560"/>
              <a:ext cx="91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……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06920" y="4860720"/>
              <a:ext cx="174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连续自交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144880" y="2073240"/>
            <a:ext cx="4832280" cy="901440"/>
            <a:chOff x="2144880" y="2073240"/>
            <a:chExt cx="4832280" cy="901440"/>
          </a:xfrm>
        </p:grpSpPr>
        <p:sp>
          <p:nvSpPr>
            <p:cNvPr id="807" name=""/>
            <p:cNvSpPr/>
            <p:nvPr/>
          </p:nvSpPr>
          <p:spPr>
            <a:xfrm flipH="1">
              <a:off x="4061160" y="2073240"/>
              <a:ext cx="25056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78400" y="2073240"/>
              <a:ext cx="16524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5894640" y="2073240"/>
              <a:ext cx="24912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10440" y="2073240"/>
              <a:ext cx="166680" cy="38088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27440" y="2454120"/>
              <a:ext cx="58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94680" y="245412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61280" y="245412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78400" y="2454120"/>
              <a:ext cx="58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t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44880" y="2454120"/>
              <a:ext cx="11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华文新魏"/>
                  <a:ea typeface="华文新魏"/>
                </a:rPr>
                <a:t>配子</a:t>
              </a:r>
              <a:endParaRPr b="0" lang="en-US" sz="28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24000" y="112536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选育显性优良性状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0920" y="3213000"/>
            <a:ext cx="1944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从</a:t>
            </a:r>
            <a:r>
              <a:rPr b="1" lang="en-US" sz="32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F</a:t>
            </a:r>
            <a:r>
              <a:rPr b="1" lang="en-US" sz="3200" spc="-1" strike="noStrike" baseline="-25000">
                <a:solidFill>
                  <a:srgbClr val="cc00ff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代开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连续自交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选育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116000" y="2133720"/>
            <a:ext cx="0" cy="100800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696000" y="1700280"/>
            <a:ext cx="2448000" cy="1800000"/>
          </a:xfrm>
          <a:prstGeom prst="cloudCallout">
            <a:avLst>
              <a:gd name="adj1" fmla="val -22958"/>
              <a:gd name="adj2" fmla="val 71870"/>
            </a:avLst>
          </a:prstGeom>
          <a:solidFill>
            <a:srgbClr val="ff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如何选育隐性优良性状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058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ac"/>
                </a:solidFill>
                <a:latin typeface="Arial"/>
              </a:rPr>
              <a:t>1/4AA                                             1/2Aa                                               1/4aa</a:t>
            </a:r>
            <a:endParaRPr b="0" lang="en-US" sz="1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284720" y="475920"/>
            <a:ext cx="100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00000" y="2349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39ac"/>
                </a:solidFill>
                <a:latin typeface="Arial"/>
              </a:rPr>
              <a:t>½(1/4AA             1/2Aa               1/4aa)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627280" y="3068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/8AA             1/4Aa                1/8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55640" y="3933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X1/8AA   </a:t>
            </a:r>
            <a:r>
              <a:rPr b="0" lang="en-US" sz="1800" spc="-1" strike="noStrike">
                <a:solidFill>
                  <a:srgbClr val="0039ac"/>
                </a:solidFill>
                <a:latin typeface="Arial"/>
              </a:rPr>
              <a:t>¼(1/4AA  1/2Aa   1/4aa)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1X1/8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03640" y="465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/16AA  1/8Aa  1/16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68360" y="5157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A(1/4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/8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/16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```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/2</a:t>
            </a:r>
            <a:r>
              <a:rPr b="0" lang="en-US" sz="1800" spc="-1" strike="noStrike" baseline="30000">
                <a:solidFill>
                  <a:srgbClr val="080808"/>
                </a:solidFill>
                <a:latin typeface="Arial"/>
              </a:rPr>
              <a:t>n</a:t>
            </a:r>
            <a:r>
              <a:rPr b="0" lang="zh-CN" sz="1800" spc="-1" strike="noStrike" baseline="30000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 baseline="30000">
                <a:solidFill>
                  <a:srgbClr val="080808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   </a:t>
            </a:r>
            <a:r>
              <a:rPr b="0" lang="en-US" sz="1800" spc="-1" strike="noStrike">
                <a:solidFill>
                  <a:srgbClr val="0039ac"/>
                </a:solidFill>
                <a:latin typeface="Arial"/>
              </a:rPr>
              <a:t>Aa(1/2</a:t>
            </a:r>
            <a:r>
              <a:rPr b="0" lang="en-US" sz="1800" spc="-1" strike="noStrike" baseline="30000">
                <a:solidFill>
                  <a:srgbClr val="0039a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39ac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aa(1/4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/8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`````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/2</a:t>
            </a:r>
            <a:r>
              <a:rPr b="0" lang="en-US" sz="1800" spc="-1" strike="noStrike" baseline="30000">
                <a:solidFill>
                  <a:srgbClr val="080808"/>
                </a:solidFill>
                <a:latin typeface="Arial"/>
              </a:rPr>
              <a:t>n</a:t>
            </a:r>
            <a:r>
              <a:rPr b="0" lang="zh-CN" sz="1800" spc="-1" strike="noStrike" baseline="30000">
                <a:solidFill>
                  <a:srgbClr val="080808"/>
                </a:solidFill>
                <a:latin typeface="Arial"/>
              </a:rPr>
              <a:t>＋</a:t>
            </a:r>
            <a:r>
              <a:rPr b="0" lang="en-US" sz="1800" spc="-1" strike="noStrike" baseline="30000">
                <a:solidFill>
                  <a:srgbClr val="080808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4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A(1/2-1/2 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n </a:t>
            </a:r>
            <a:r>
              <a:rPr b="0" lang="zh-CN" sz="1800" spc="-1" strike="noStrike" baseline="30000">
                <a:solidFill>
                  <a:srgbClr val="008000"/>
                </a:solidFill>
                <a:latin typeface="Arial"/>
              </a:rPr>
              <a:t>＋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)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a(1/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a(1/2-1/2 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n </a:t>
            </a:r>
            <a:r>
              <a:rPr b="0" lang="zh-CN" sz="1800" spc="-1" strike="noStrike" baseline="30000">
                <a:solidFill>
                  <a:srgbClr val="008000"/>
                </a:solidFill>
                <a:latin typeface="Arial"/>
              </a:rPr>
              <a:t>＋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836640"/>
            <a:ext cx="6112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rot="16200000">
            <a:off x="4318200" y="-2006640"/>
            <a:ext cx="432000" cy="669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74240 h 6696360"/>
              <a:gd name="textAreaBottom" fmla="*/ 6522120 h 669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27640" y="907920"/>
            <a:ext cx="215640" cy="21600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4392000" y="583920"/>
            <a:ext cx="287640" cy="3097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27640" y="1700280"/>
            <a:ext cx="215640" cy="21600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03280" y="177336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76360" y="1844640"/>
            <a:ext cx="216000" cy="21744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12000" y="177336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85080" y="1844640"/>
            <a:ext cx="216000" cy="21744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4328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00720" y="27082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40360" y="27082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403280" y="2852640"/>
            <a:ext cx="0" cy="1081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812000" y="2708280"/>
            <a:ext cx="0" cy="122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00720" y="342900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40360" y="3357720"/>
            <a:ext cx="0" cy="57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35280" y="4292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219640" y="4292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76360" y="3213000"/>
            <a:ext cx="216000" cy="21600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885080" y="3141720"/>
            <a:ext cx="216000" cy="21600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16360" y="3645000"/>
            <a:ext cx="215640" cy="21564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3573360"/>
            <a:ext cx="216000" cy="21600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12000" y="3573360"/>
            <a:ext cx="215640" cy="216000"/>
          </a:xfrm>
          <a:prstGeom prst="flowChartSummingJunction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5400000">
            <a:off x="4391280" y="281700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332000" y="4365720"/>
            <a:ext cx="0" cy="718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484360" y="429264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35280" y="494172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27640" y="494172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227640" y="4292640"/>
            <a:ext cx="0" cy="86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740720" y="4292640"/>
            <a:ext cx="0" cy="86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64000" y="4941720"/>
            <a:ext cx="0" cy="28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63640" y="5589720"/>
            <a:ext cx="0" cy="503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0" y="5589720"/>
            <a:ext cx="0" cy="503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36000" y="551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692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x1/4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64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x1/4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55640" y="386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x1/4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30872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x1/4a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a6012"/>
                </a:solidFill>
                <a:latin typeface="楷体_GB2312"/>
                <a:ea typeface="楷体_GB2312"/>
              </a:rPr>
              <a:t>连续自交，后代中纯合子和杂合子所占比例（以</a:t>
            </a:r>
            <a:r>
              <a:rPr b="1" lang="en-US" sz="2800" spc="-1" strike="noStrike">
                <a:solidFill>
                  <a:srgbClr val="9a6012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9a6012"/>
                </a:solidFill>
                <a:latin typeface="楷体_GB2312"/>
                <a:ea typeface="楷体_GB2312"/>
              </a:rPr>
              <a:t>为例）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447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6012"/>
                </a:solidFill>
                <a:latin typeface="Arial"/>
              </a:rPr>
              <a:t>经过上面分析，我们可以得出具有一对相对性状的杂合子</a:t>
            </a:r>
            <a:r>
              <a:rPr b="0" lang="en-US" sz="2800" spc="-1" strike="noStrike">
                <a:solidFill>
                  <a:srgbClr val="9a6012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9a6012"/>
                </a:solidFill>
                <a:latin typeface="Arial"/>
              </a:rPr>
              <a:t>连续自交，第</a:t>
            </a:r>
            <a:r>
              <a:rPr b="0" lang="en-US" sz="2800" spc="-1" strike="noStrike">
                <a:solidFill>
                  <a:srgbClr val="9a601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9a6012"/>
                </a:solidFill>
                <a:latin typeface="Arial"/>
              </a:rPr>
              <a:t>代的情况如下表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0" y="2349360"/>
          <a:ext cx="8999640" cy="1335240"/>
        </p:xfrm>
        <a:graphic>
          <a:graphicData uri="http://schemas.openxmlformats.org/drawingml/2006/table">
            <a:tbl>
              <a:tblPr/>
              <a:tblGrid>
                <a:gridCol w="681120"/>
                <a:gridCol w="927000"/>
                <a:gridCol w="1000080"/>
                <a:gridCol w="1500120"/>
                <a:gridCol w="1428840"/>
                <a:gridCol w="1857240"/>
                <a:gridCol w="16052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n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杂合子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纯合子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显性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纯合子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隐性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纯合子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显性性状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个体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隐性性状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个体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所占比例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-½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-½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＋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-½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＋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</a:t>
                      </a:r>
                      <a:r>
                        <a:rPr b="0" lang="en-US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＋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</a:t>
                      </a:r>
                      <a:r>
                        <a:rPr b="0" lang="en-US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½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＋</a:t>
                      </a:r>
                      <a:r>
                        <a:rPr b="0" lang="en-US" sz="2000" spc="-1" strike="noStrike" baseline="30000">
                          <a:solidFill>
                            <a:srgbClr val="cc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250920" y="422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注： 上例以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亲代，其自交所得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F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子代。若以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Aa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第一代，其自交所得子代为第二代，则上述所有比例式中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都应取值为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n-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对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取值，可取为自交次数。对纯合子机率记忆方法：分子永远比分母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8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少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76720" y="2565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豌  豆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1152360"/>
            <a:ext cx="2736720" cy="18450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2728800" cy="31399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3672000" cy="31816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3635280" y="1484280"/>
            <a:ext cx="86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8360" y="260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孟德尔选择了豌豆作为遗传试验材料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4653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、豌豆是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，且是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的植物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70760" y="580536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、豌豆有易于区分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相对性状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564000" y="0"/>
            <a:ext cx="1800000" cy="764280"/>
          </a:xfrm>
          <a:prstGeom prst="rect">
            <a:avLst/>
          </a:prstGeom>
          <a:noFill/>
          <a:ln cap="rnd" w="936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0779"/>
                </a:solidFill>
                <a:latin typeface="Times New Roman"/>
                <a:ea typeface="黑体"/>
              </a:rPr>
              <a:t>思考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50920" y="83664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、基因型分别为</a:t>
            </a: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bb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Bb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BB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的三个植物个体，其中属于杂合体的是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，表现型相同的个体有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  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。        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4000" y="2419200"/>
            <a:ext cx="8523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、用纯种的高茎豌豆与矮茎豌豆进行杂交实验，</a:t>
            </a: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F</a:t>
            </a:r>
            <a:r>
              <a:rPr b="1" lang="en-US" sz="3000" spc="-1" strike="noStrike" baseline="-25000">
                <a:solidFill>
                  <a:srgbClr val="0039ac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产生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 种不同类型的雌雄配子，其比为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。</a:t>
            </a: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F</a:t>
            </a:r>
            <a:r>
              <a:rPr b="1" lang="en-US" sz="3000" spc="-1" strike="noStrike" baseline="-25000">
                <a:solidFill>
                  <a:srgbClr val="0039ac"/>
                </a:solidFill>
                <a:latin typeface="Arial"/>
                <a:ea typeface="黑体"/>
              </a:rPr>
              <a:t>2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的基因型有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，其比为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 。其中，不能稳定遗传、后代会发生性状分离的基因型是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  。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5280" y="4941720"/>
            <a:ext cx="8147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ac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、肤色正常的夫妇生了一个白化病的孩子，这对夫妇的基因型是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   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，这对夫妇再生白化病孩子的可能性是</a:t>
            </a:r>
            <a:r>
              <a:rPr b="1" lang="zh-CN" sz="3000" spc="-1" strike="noStrike" u="sng">
                <a:solidFill>
                  <a:srgbClr val="0039ac"/>
                </a:solidFill>
                <a:uFillTx/>
                <a:latin typeface="Arial"/>
                <a:ea typeface="黑体"/>
              </a:rPr>
              <a:t>               </a:t>
            </a:r>
            <a:r>
              <a:rPr b="1" lang="zh-CN" sz="3000" spc="-1" strike="noStrike">
                <a:solidFill>
                  <a:srgbClr val="0039ac"/>
                </a:solidFill>
                <a:latin typeface="Arial"/>
                <a:ea typeface="黑体"/>
              </a:rPr>
              <a:t>。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78280" y="126828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Bb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93680" y="1700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Bb</a:t>
            </a:r>
            <a:r>
              <a:rPr b="1" lang="zh-CN" sz="2800" spc="-1" strike="noStrike">
                <a:solidFill>
                  <a:srgbClr val="ff0066"/>
                </a:solidFill>
                <a:latin typeface="Arial Black"/>
              </a:rPr>
              <a:t>和</a:t>
            </a: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BB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38720" y="28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426800" y="285264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1:1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20240" y="328464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 Black"/>
              </a:rPr>
              <a:t>种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37440" y="32846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1:2:1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03120" y="42210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D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90520" y="53578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Bb</a:t>
            </a:r>
            <a:r>
              <a:rPr b="1" lang="zh-CN" sz="2800" spc="-1" strike="noStrike">
                <a:solidFill>
                  <a:srgbClr val="ff0066"/>
                </a:solidFill>
                <a:latin typeface="Arial Black"/>
              </a:rPr>
              <a:t>和</a:t>
            </a: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Bb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13680" y="58770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Black"/>
              </a:rPr>
              <a:t>1/4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441360" y="236520"/>
            <a:ext cx="845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6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、如图所示为某家族中白化病的遗传图谱。请分析并回答（以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A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、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a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表示有关的基因）：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65440" y="1125360"/>
            <a:ext cx="5361480" cy="2107080"/>
            <a:chOff x="1765440" y="1125360"/>
            <a:chExt cx="5361480" cy="2107080"/>
          </a:xfrm>
        </p:grpSpPr>
        <p:grpSp>
          <p:nvGrpSpPr>
            <p:cNvPr id="887" name=""/>
            <p:cNvGrpSpPr/>
            <p:nvPr/>
          </p:nvGrpSpPr>
          <p:grpSpPr>
            <a:xfrm>
              <a:off x="1765440" y="1125360"/>
              <a:ext cx="4674600" cy="2107080"/>
              <a:chOff x="1765440" y="1125360"/>
              <a:chExt cx="4674600" cy="2107080"/>
            </a:xfrm>
          </p:grpSpPr>
          <p:sp>
            <p:nvSpPr>
              <p:cNvPr id="888" name=""/>
              <p:cNvSpPr/>
              <p:nvPr/>
            </p:nvSpPr>
            <p:spPr>
              <a:xfrm>
                <a:off x="3175560" y="1225440"/>
                <a:ext cx="3672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204440" y="1156680"/>
                <a:ext cx="441000" cy="4118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42760" y="1362600"/>
                <a:ext cx="73512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3900960" y="1362600"/>
                <a:ext cx="9000" cy="3528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248640" y="1843200"/>
                <a:ext cx="441000" cy="343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204440" y="1843200"/>
                <a:ext cx="3672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95880" y="1705680"/>
                <a:ext cx="9550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95880" y="1705680"/>
                <a:ext cx="0" cy="13716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51320" y="1705680"/>
                <a:ext cx="0" cy="13716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45960" y="1843200"/>
                <a:ext cx="4410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587320" y="1980360"/>
                <a:ext cx="66132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0560" y="1843200"/>
                <a:ext cx="441000" cy="3430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71640" y="1980360"/>
                <a:ext cx="8085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54880" y="1980360"/>
                <a:ext cx="0" cy="4118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2640" y="1980360"/>
                <a:ext cx="0" cy="34308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440080" y="2392200"/>
                <a:ext cx="102888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440080" y="2392200"/>
                <a:ext cx="0" cy="34308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469320" y="2392200"/>
                <a:ext cx="0" cy="2743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219760" y="2735280"/>
                <a:ext cx="441000" cy="3430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248640" y="2666880"/>
                <a:ext cx="441000" cy="411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277880" y="2735280"/>
                <a:ext cx="441000" cy="4118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80560" y="2666880"/>
                <a:ext cx="514080" cy="480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24760" y="2460960"/>
                <a:ext cx="124920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2640" y="1980360"/>
                <a:ext cx="0" cy="4802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424760" y="2460960"/>
                <a:ext cx="0" cy="2743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74320" y="2460960"/>
                <a:ext cx="0" cy="205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219760" y="2735280"/>
                <a:ext cx="220320" cy="13716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2219760" y="2735280"/>
                <a:ext cx="367200" cy="205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219760" y="2804040"/>
                <a:ext cx="367200" cy="2743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2366640" y="2872800"/>
                <a:ext cx="220320" cy="205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513880" y="2941200"/>
                <a:ext cx="146880" cy="13716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4351320" y="2735280"/>
                <a:ext cx="73440" cy="2743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4424760" y="2735280"/>
                <a:ext cx="73440" cy="34308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4498560" y="2735280"/>
                <a:ext cx="146880" cy="4118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4571640" y="2872800"/>
                <a:ext cx="146880" cy="2743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4424760" y="2735280"/>
                <a:ext cx="146880" cy="4118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794320" y="1125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05560" y="1193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765440" y="1743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76320" y="18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911400" y="18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07880" y="1743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912320" y="263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014640" y="2705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042800" y="263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54400" y="2772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6521760" y="113328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Ⅰ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78200" y="1780920"/>
              <a:ext cx="38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Ⅱ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52080" y="271764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Ⅲ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468360" y="3284640"/>
            <a:ext cx="8064360" cy="474120"/>
            <a:chOff x="468360" y="3284640"/>
            <a:chExt cx="8064360" cy="474120"/>
          </a:xfrm>
        </p:grpSpPr>
        <p:sp>
          <p:nvSpPr>
            <p:cNvPr id="938" name=""/>
            <p:cNvSpPr/>
            <p:nvPr/>
          </p:nvSpPr>
          <p:spPr>
            <a:xfrm>
              <a:off x="468360" y="328464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80808"/>
                  </a:solidFill>
                  <a:latin typeface="Times New Roman"/>
                </a:rPr>
                <a:t>注：      女正常            男正常           女患者         男患者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260360" y="337788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60720" y="3377880"/>
              <a:ext cx="30492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716000" y="3306600"/>
              <a:ext cx="381240" cy="380520"/>
              <a:chOff x="4716000" y="3306600"/>
              <a:chExt cx="381240" cy="380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716360" y="3306600"/>
                <a:ext cx="380880" cy="380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4868640" y="3382560"/>
                <a:ext cx="152640" cy="2282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4716000" y="3306600"/>
                <a:ext cx="228600" cy="30456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4944600" y="3458520"/>
                <a:ext cx="152280" cy="2282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792320" y="3382560"/>
                <a:ext cx="228600" cy="2282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4868640" y="3382560"/>
                <a:ext cx="152640" cy="3042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4716000" y="3306600"/>
                <a:ext cx="152280" cy="22824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792320" y="3306600"/>
                <a:ext cx="152280" cy="30456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6445080" y="3377880"/>
              <a:ext cx="381240" cy="380880"/>
              <a:chOff x="6445080" y="3377880"/>
              <a:chExt cx="381240" cy="380880"/>
            </a:xfrm>
          </p:grpSpPr>
          <p:sp>
            <p:nvSpPr>
              <p:cNvPr id="951" name=""/>
              <p:cNvSpPr/>
              <p:nvPr/>
            </p:nvSpPr>
            <p:spPr>
              <a:xfrm>
                <a:off x="6445440" y="3377880"/>
                <a:ext cx="304920" cy="3049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6521760" y="3377880"/>
                <a:ext cx="304560" cy="304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6521400" y="3377880"/>
                <a:ext cx="228600" cy="2286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6445080" y="3377880"/>
                <a:ext cx="228600" cy="2286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6445080" y="3377880"/>
                <a:ext cx="152280" cy="15228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597720" y="3530160"/>
                <a:ext cx="152640" cy="22860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7" name=""/>
          <p:cNvSpPr/>
          <p:nvPr/>
        </p:nvSpPr>
        <p:spPr>
          <a:xfrm>
            <a:off x="104760" y="3889440"/>
            <a:ext cx="8715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1).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该病致病基因是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性的。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2)5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、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9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的基因型分别是 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 和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。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3)8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的基因型是 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概率为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或 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概率为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；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10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的基因型是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概率为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或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概率为 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 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)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。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4)8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与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10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属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关系，两者不宜结婚，后代中白化病机率将是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。</a:t>
            </a:r>
            <a:r>
              <a:rPr b="1" lang="en-US" sz="2600" spc="-1" strike="noStrike">
                <a:solidFill>
                  <a:srgbClr val="0039ac"/>
                </a:solidFill>
                <a:latin typeface="黑体"/>
                <a:ea typeface="黑体"/>
              </a:rPr>
              <a:t>(5)7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号的致病基因直接来自哪些亲体？</a:t>
            </a:r>
            <a:r>
              <a:rPr b="1" lang="zh-CN" sz="2600" spc="-1" strike="noStrike" u="sng">
                <a:solidFill>
                  <a:srgbClr val="0039ac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2600" spc="-1" strike="noStrike">
                <a:solidFill>
                  <a:srgbClr val="0039ac"/>
                </a:solidFill>
                <a:latin typeface="黑体"/>
                <a:ea typeface="黑体"/>
              </a:rPr>
              <a:t> 。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76720" y="3849840"/>
            <a:ext cx="51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Arial Black"/>
              </a:rPr>
              <a:t>隐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97920" y="4221000"/>
            <a:ext cx="60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Aa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46680" y="4221000"/>
            <a:ext cx="57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aa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919840" y="4235400"/>
            <a:ext cx="63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AA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12000" y="423720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1/ 3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7560" y="4653000"/>
            <a:ext cx="60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Aa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66800" y="4668840"/>
            <a:ext cx="6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2/3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42240" y="4653000"/>
            <a:ext cx="63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AA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895880" y="4724280"/>
            <a:ext cx="6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1/3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10640" y="5084640"/>
            <a:ext cx="60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Aa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38080" y="5084640"/>
            <a:ext cx="6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2/3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588000" y="502920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Arial Black"/>
              </a:rPr>
              <a:t>近亲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95520" y="5516640"/>
            <a:ext cx="6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1/9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16360" y="589284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Arial Black"/>
              </a:rPr>
              <a:t>号和</a:t>
            </a:r>
            <a:r>
              <a:rPr b="1" lang="en-US" sz="2600" spc="-1" strike="noStrike">
                <a:solidFill>
                  <a:srgbClr val="ff0066"/>
                </a:solidFill>
                <a:latin typeface="Arial Black"/>
              </a:rPr>
              <a:t>4</a:t>
            </a:r>
            <a:r>
              <a:rPr b="1" lang="zh-CN" sz="2600" spc="-1" strike="noStrike">
                <a:solidFill>
                  <a:srgbClr val="ff0066"/>
                </a:solidFill>
                <a:latin typeface="Arial Black"/>
              </a:rPr>
              <a:t>号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5257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相对性状：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5257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同种生物的同一性状的不同表现类型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5943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直发与卷发？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943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黑体"/>
              </a:rPr>
              <a:t>兔的白毛和狗的黑毛？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75640" y="6524640"/>
            <a:ext cx="504720" cy="289080"/>
          </a:xfrm>
          <a:custGeom>
            <a:avLst/>
            <a:gdLst>
              <a:gd name="textAreaLeft" fmla="*/ 18000 w 504720"/>
              <a:gd name="textAreaRight" fmla="*/ 486720 w 50472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343" y="1350"/>
                </a:lnTo>
                <a:lnTo>
                  <a:pt x="1350" y="135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343" y="20250"/>
                </a:lnTo>
                <a:lnTo>
                  <a:pt x="36343" y="135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43" y="2025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693" h="21600">
                <a:moveTo>
                  <a:pt x="11803" y="3756"/>
                </a:moveTo>
                <a:lnTo>
                  <a:pt x="25890" y="10800"/>
                </a:lnTo>
                <a:lnTo>
                  <a:pt x="11803" y="1784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51640" y="476280"/>
            <a:ext cx="2952720" cy="221436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4005360"/>
            <a:ext cx="3024360" cy="22669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6400800" y="6553080"/>
            <a:ext cx="1676520" cy="304920"/>
          </a:xfrm>
          <a:custGeom>
            <a:avLst/>
            <a:gdLst>
              <a:gd name="textAreaLeft" fmla="*/ 18720 w 1676520"/>
              <a:gd name="textAreaRight" fmla="*/ 1657800 w 1676520"/>
              <a:gd name="textAreaTop" fmla="*/ 18720 h 304920"/>
              <a:gd name="textAreaBottom" fmla="*/ 286200 h 304920"/>
            </a:gdLst>
            <a:ahLst/>
            <a:rect l="textAreaLeft" t="textAreaTop" r="textAreaRight" b="textAreaBottom"/>
            <a:pathLst>
              <a:path w="118647" h="21600">
                <a:moveTo>
                  <a:pt x="0" y="0"/>
                </a:moveTo>
                <a:lnTo>
                  <a:pt x="118647" y="0"/>
                </a:lnTo>
                <a:lnTo>
                  <a:pt x="118647" y="21600"/>
                </a:lnTo>
                <a:lnTo>
                  <a:pt x="0" y="21600"/>
                </a:lnTo>
                <a:close/>
              </a:path>
              <a:path fill="lightenLess" w="118647" h="21600">
                <a:moveTo>
                  <a:pt x="0" y="0"/>
                </a:moveTo>
                <a:lnTo>
                  <a:pt x="118647" y="0"/>
                </a:lnTo>
                <a:lnTo>
                  <a:pt x="117297" y="1350"/>
                </a:lnTo>
                <a:lnTo>
                  <a:pt x="1350" y="1350"/>
                </a:lnTo>
                <a:close/>
              </a:path>
              <a:path fill="darken" w="118647" h="21600">
                <a:moveTo>
                  <a:pt x="118647" y="0"/>
                </a:moveTo>
                <a:lnTo>
                  <a:pt x="118647" y="21600"/>
                </a:lnTo>
                <a:lnTo>
                  <a:pt x="117297" y="20250"/>
                </a:lnTo>
                <a:lnTo>
                  <a:pt x="117297" y="1350"/>
                </a:lnTo>
                <a:close/>
              </a:path>
              <a:path fill="darkenLess" w="118647" h="21600">
                <a:moveTo>
                  <a:pt x="11864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97" y="20250"/>
                </a:lnTo>
                <a:close/>
              </a:path>
              <a:path fill="lighten" w="11864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9ac"/>
                </a:solidFill>
                <a:latin typeface="隶书"/>
                <a:ea typeface="隶书"/>
              </a:rPr>
              <a:t>单击画面继续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25918" y="10800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6553080"/>
            <a:ext cx="533160" cy="304920"/>
          </a:xfrm>
          <a:custGeom>
            <a:avLst/>
            <a:gdLst>
              <a:gd name="textAreaLeft" fmla="*/ 19080 w 533160"/>
              <a:gd name="textAreaRight" fmla="*/ 514440 w 5331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99" y="1350"/>
                </a:lnTo>
                <a:lnTo>
                  <a:pt x="1350" y="135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99" y="20250"/>
                </a:lnTo>
                <a:lnTo>
                  <a:pt x="36399" y="135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399" y="2025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49" h="21600">
                <a:moveTo>
                  <a:pt x="15357" y="10800"/>
                </a:moveTo>
                <a:lnTo>
                  <a:pt x="25918" y="3756"/>
                </a:lnTo>
                <a:lnTo>
                  <a:pt x="25918" y="17844"/>
                </a:lnTo>
                <a:close/>
              </a:path>
              <a:path fill="darken" w="37749" h="21600">
                <a:moveTo>
                  <a:pt x="11831" y="3756"/>
                </a:moveTo>
                <a:lnTo>
                  <a:pt x="13502" y="3756"/>
                </a:lnTo>
                <a:lnTo>
                  <a:pt x="13502" y="17844"/>
                </a:lnTo>
                <a:lnTo>
                  <a:pt x="11831" y="17844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22405" y="10800"/>
                </a:moveTo>
                <a:lnTo>
                  <a:pt x="11844" y="17844"/>
                </a:lnTo>
                <a:lnTo>
                  <a:pt x="11844" y="3756"/>
                </a:lnTo>
                <a:close/>
              </a:path>
              <a:path fill="darken" w="37775" h="21600">
                <a:moveTo>
                  <a:pt x="24260" y="3756"/>
                </a:moveTo>
                <a:lnTo>
                  <a:pt x="24260" y="17844"/>
                </a:lnTo>
                <a:lnTo>
                  <a:pt x="25931" y="17844"/>
                </a:lnTo>
                <a:lnTo>
                  <a:pt x="25931" y="3756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3024000" cy="22687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2952720" cy="22147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276640"/>
            <a:ext cx="2952720" cy="21160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581280" y="762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人的某些相对性状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533520"/>
            <a:ext cx="7467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下列生物性状中，不属于相对性状的是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小麦种子的白粒与红粒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狗的卷毛与白毛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小麦的有芒与无芒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五指与多指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5445000"/>
            <a:ext cx="24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答案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:(B)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839440" cy="692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5562720"/>
            <a:ext cx="45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人工</a:t>
            </a:r>
            <a:r>
              <a:rPr b="1" lang="zh-CN" sz="3200" spc="-1" strike="noStrike">
                <a:solidFill>
                  <a:srgbClr val="0039ac"/>
                </a:solidFill>
                <a:latin typeface="Times New Roman"/>
                <a:ea typeface="黑体"/>
              </a:rPr>
              <a:t>杂交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异花传粉）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349360"/>
            <a:ext cx="7274160" cy="147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孟德尔杂交试验的独特之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分别对每一对相对性状进行研究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648" y="1350"/>
                </a:lnTo>
                <a:lnTo>
                  <a:pt x="1350" y="135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648" y="20250"/>
                </a:lnTo>
                <a:lnTo>
                  <a:pt x="23648" y="135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648" y="2025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998" h="21600">
                <a:moveTo>
                  <a:pt x="5455" y="10800"/>
                </a:moveTo>
                <a:lnTo>
                  <a:pt x="19543" y="3756"/>
                </a:lnTo>
                <a:lnTo>
                  <a:pt x="19543" y="1784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63120" y="299880"/>
            <a:ext cx="105660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解释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P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F</a:t>
            </a:r>
            <a:r>
              <a:rPr b="1" lang="en-US" sz="4000" spc="-1" strike="noStrike" baseline="-30000">
                <a:solidFill>
                  <a:srgbClr val="080808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F</a:t>
            </a:r>
            <a:r>
              <a:rPr b="1" lang="en-US" sz="4000" spc="-1" strike="noStrike" baseline="-30000">
                <a:solidFill>
                  <a:srgbClr val="080808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29528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20968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396252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464832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25600" y="525780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828800"/>
            <a:ext cx="20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子一代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743200"/>
            <a:ext cx="21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子二代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160" y="3581280"/>
            <a:ext cx="5616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♀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♂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5791320"/>
            <a:ext cx="9144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91440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亲本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50028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416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47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杂交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537372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自交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33960" y="0"/>
            <a:ext cx="49100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5640" y="5589720"/>
            <a:ext cx="431640" cy="431640"/>
          </a:xfrm>
          <a:prstGeom prst="flowChartSummingJunction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8108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1:53:12Z</dcterms:created>
  <dc:creator/>
  <dc:description/>
  <dc:language>en-US</dc:language>
  <cp:lastModifiedBy>微软用户</cp:lastModifiedBy>
  <dcterms:modified xsi:type="dcterms:W3CDTF">2015-01-10T09:33:38Z</dcterms:modified>
  <cp:revision>1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