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E6C60-1753-4A55-A34D-C57EB29A2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D3854-C95A-492B-A5F7-C0E7D143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82AF6C-BC4B-4542-B2A2-3AE4B5FB8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66035-43B9-4676-96B8-A824A23E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2F85C-8BD0-4A0A-A6A5-98256EE6A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AE50D-7653-4954-BA49-4E56E84C8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6DBE5-8F1B-450C-93F4-2C0E1A02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D8637-78BA-4430-860B-639AEE3B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746D3-788D-4761-BEFD-CF939F97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0BF0F-3850-49CA-A18B-F057804A9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A0A77-64EF-4071-9034-27E0D0742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625FE-4CF0-42CC-9C77-A54E0BC32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82160" cy="836640"/>
          </a:xfrm>
          <a:prstGeom prst="rect">
            <a:avLst/>
          </a:prstGeom>
          <a:solidFill>
            <a:srgbClr val="da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907920"/>
            <a:ext cx="9144000" cy="5950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836640"/>
            <a:ext cx="9182160" cy="7308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51280" y="6524640"/>
            <a:ext cx="144000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000000"/>
                </a:solidFill>
                <a:latin typeface="Arial"/>
              </a:rPr>
              <a:t> </a:t>
            </a:r>
            <a:fld id="{50A32C82-1EBE-4BD6-96EA-69BEECC2BD6A}" type="slidenum">
              <a:rPr b="1" i="1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-11160" y="-6480"/>
            <a:ext cx="9174240" cy="6878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4149720"/>
            <a:ext cx="9182160" cy="1800360"/>
          </a:xfrm>
          <a:prstGeom prst="rect">
            <a:avLst/>
          </a:prstGeom>
          <a:solidFill>
            <a:srgbClr val="da5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429408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076640"/>
            <a:ext cx="9182160" cy="17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867280"/>
            <a:ext cx="9182160" cy="171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ff902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11160" y="-6480"/>
            <a:ext cx="9174240" cy="68788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>
              <a:alpha val="79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7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410E-68F4-41CB-B906-C373843DAD55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BBAF-1101-4003-910D-E01C9CA74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68360" y="525420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468360" y="429408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468360" y="6093000"/>
            <a:ext cx="2338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0" i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0" i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i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132" name="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133" name="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ff9021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da58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963d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ffc78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ffffff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3"/>
          <p:cNvSpPr/>
          <p:nvPr/>
        </p:nvSpPr>
        <p:spPr>
          <a:xfrm>
            <a:off x="6156360" y="2637000"/>
            <a:ext cx="2519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 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85080" y="6308640"/>
            <a:ext cx="547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2850"/>
                </a:solidFill>
                <a:uFillTx/>
                <a:latin typeface="楷体"/>
                <a:ea typeface="楷体"/>
                <a:hlinkClick r:id="rId1"/>
              </a:rPr>
              <a:t>PPT之家</a:t>
            </a:r>
            <a:r>
              <a:rPr b="1" i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i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i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i="1" lang="zh-CN" sz="18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6E400-C27B-4F89-B23C-44DF45D25B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55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90498-52F5-4E2D-B216-F00938C1ED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小田</cp:lastModifiedBy>
  <dcterms:modified xsi:type="dcterms:W3CDTF">2015-01-11T11:30:17Z</dcterms:modified>
  <cp:revision>29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