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A3ED1-FEBC-4292-A9DC-364A527C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D83B5-96EE-4634-965F-8482C478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AA1C2-81EE-4295-BE0B-45D7A049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CC1A1-D8ED-4B5B-9BB9-9C1F8635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07ED8-415B-4D3F-8B06-0C0F7AFD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12D0A-25F5-43CD-84B7-4E611A5B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761AC-603C-40F5-A2B7-7E517EC8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5ACA1-0814-402E-AE73-6EED332A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DA04A-4555-47FF-840F-A4994E21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56818-B0A8-4F32-B2EA-32526979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1F866-EFE2-4BC2-9DA5-E69FA003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7501B-04C9-4B0B-9CE9-6EA17CA8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BE82E-99A4-45A8-BFD8-8FA60176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8BDD8-6BC6-4B2F-8FB6-4FAC13B8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29589-BE8B-4D92-93AD-5D990706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682FE-9164-4C4F-8D5F-C740FF4C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7B5B4-50E9-4E71-B847-8DF009E1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E10DD-C0BA-4B05-BC15-834E56AB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D92F-3613-486E-9C5C-4DA0E947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3F384-7CF3-42C2-8685-7E9BCC7A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E6DA0-D4A0-4B50-9FD9-0C575CC3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0E7AD-5EC7-41B8-AB82-3F9D02CC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9607B-9FD4-4B6D-97B5-1500FBAC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A2FE2-7C67-4C28-8212-EA4E3F3A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内页副本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E0B9-35CD-4F1A-BA84-C39F0326C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封面" descr=""/>
          <p:cNvPicPr/>
          <p:nvPr/>
        </p:nvPicPr>
        <p:blipFill>
          <a:blip r:embed="rId2"/>
          <a:srcRect l="0" t="2314" r="0" b="0"/>
          <a:stretch/>
        </p:blipFill>
        <p:spPr>
          <a:xfrm>
            <a:off x="1440" y="120600"/>
            <a:ext cx="9145800" cy="6699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71280" y="2214720"/>
            <a:ext cx="576108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8FB8-4D2D-4DF1-817F-456B898C3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71280" y="2214720"/>
            <a:ext cx="576108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871280" y="3024360"/>
            <a:ext cx="576108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2720" y="2034720"/>
            <a:ext cx="51753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感谢您的关注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6640" y="6324480"/>
            <a:ext cx="621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631800" y="0"/>
              <a:ext cx="6635160" cy="5205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www.eeppt.com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3:17:42Z</dcterms:created>
  <dc:creator/>
  <dc:description/>
  <dc:language>en-US</dc:language>
  <cp:lastModifiedBy>007</cp:lastModifiedBy>
  <dcterms:modified xsi:type="dcterms:W3CDTF">2015-01-11T11:48:54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