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5F63-7AB9-409B-9258-E5DB9036D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225D-0E56-447D-A87F-F814A54EE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E253-6CB0-46D8-AEBC-25AE84864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66440-E301-4E19-9B5B-18D8E2460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1CF7-BC56-47B9-BCEC-CE89B183B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C1DB-D5CD-4BDA-B80E-54B3972ED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73DF0-8316-43D2-BBDB-67E769BD7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62FC-91E2-427B-8728-4884CC708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6CBF-0D03-476D-B911-C85468358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8DFC-3F1A-4CF1-B5B6-ED59E9ED5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0D8A8-239F-4BB5-B0AE-E43ADA3C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F8B3B-E97E-4128-9048-D1A55594C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6A023-635F-4E82-9A97-05CCBA65FB0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5961240"/>
          </a:xfrm>
          <a:prstGeom prst="rect">
            <a:avLst/>
          </a:prstGeom>
          <a:ln w="0">
            <a:noFill/>
          </a:ln>
        </p:spPr>
      </p:pic>
      <p:sp>
        <p:nvSpPr>
          <p:cNvPr id="42" name="矩形 5"/>
          <p:cNvSpPr/>
          <p:nvPr/>
        </p:nvSpPr>
        <p:spPr>
          <a:xfrm>
            <a:off x="0" y="5300640"/>
            <a:ext cx="12192120" cy="66060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文本框 4"/>
          <p:cNvSpPr/>
          <p:nvPr/>
        </p:nvSpPr>
        <p:spPr>
          <a:xfrm>
            <a:off x="6440400" y="5300640"/>
            <a:ext cx="5105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在这里输入可长可短的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文本框 6"/>
          <p:cNvSpPr/>
          <p:nvPr/>
        </p:nvSpPr>
        <p:spPr>
          <a:xfrm>
            <a:off x="8993160" y="6014880"/>
            <a:ext cx="248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404040"/>
                </a:solidFill>
                <a:latin typeface="微软雅黑"/>
                <a:ea typeface="微软雅黑"/>
              </a:rPr>
              <a:t>这里输入演示者的称呼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/>
          <p:nvPr/>
        </p:nvSpPr>
        <p:spPr>
          <a:xfrm>
            <a:off x="9593280" y="648324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5961240"/>
          </a:xfrm>
          <a:prstGeom prst="rect">
            <a:avLst/>
          </a:prstGeom>
          <a:ln w="0">
            <a:noFill/>
          </a:ln>
        </p:spPr>
      </p:pic>
      <p:sp>
        <p:nvSpPr>
          <p:cNvPr id="47" name="矩形 5"/>
          <p:cNvSpPr/>
          <p:nvPr/>
        </p:nvSpPr>
        <p:spPr>
          <a:xfrm>
            <a:off x="0" y="0"/>
            <a:ext cx="12192120" cy="5961240"/>
          </a:xfrm>
          <a:prstGeom prst="rect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圆角矩形标注 1"/>
          <p:cNvSpPr/>
          <p:nvPr/>
        </p:nvSpPr>
        <p:spPr>
          <a:xfrm>
            <a:off x="1030320" y="841320"/>
            <a:ext cx="1254240" cy="812880"/>
          </a:xfrm>
          <a:prstGeom prst="wedgeRoundRectCallout">
            <a:avLst>
              <a:gd name="adj1" fmla="val -22194"/>
              <a:gd name="adj2" fmla="val 69833"/>
              <a:gd name="adj3" fmla="val 16667"/>
            </a:avLst>
          </a:prstGeom>
          <a:solidFill>
            <a:srgbClr val="595959">
              <a:alpha val="9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文本框 4"/>
          <p:cNvSpPr/>
          <p:nvPr/>
        </p:nvSpPr>
        <p:spPr>
          <a:xfrm>
            <a:off x="1133640" y="923760"/>
            <a:ext cx="104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同心圆 2"/>
          <p:cNvSpPr/>
          <p:nvPr/>
        </p:nvSpPr>
        <p:spPr>
          <a:xfrm>
            <a:off x="1201680" y="2452680"/>
            <a:ext cx="455760" cy="455760"/>
          </a:xfrm>
          <a:custGeom>
            <a:avLst/>
            <a:gdLst/>
            <a:ahLst/>
            <a:rect l="l" t="t" r="r" b="b"/>
            <a:pathLst>
              <a:path w="455708" h="455708">
                <a:moveTo>
                  <a:pt x="0" y="227854"/>
                </a:moveTo>
                <a:cubicBezTo>
                  <a:pt x="0" y="102014"/>
                  <a:pt x="102014" y="0"/>
                  <a:pt x="227854" y="0"/>
                </a:cubicBezTo>
                <a:cubicBezTo>
                  <a:pt x="353694" y="0"/>
                  <a:pt x="455708" y="102014"/>
                  <a:pt x="455708" y="227854"/>
                </a:cubicBezTo>
                <a:cubicBezTo>
                  <a:pt x="455708" y="353694"/>
                  <a:pt x="353694" y="455708"/>
                  <a:pt x="227854" y="455708"/>
                </a:cubicBezTo>
                <a:cubicBezTo>
                  <a:pt x="102014" y="455708"/>
                  <a:pt x="0" y="353694"/>
                  <a:pt x="0" y="227854"/>
                </a:cubicBezTo>
                <a:close/>
                <a:moveTo>
                  <a:pt x="105501" y="227854"/>
                </a:moveTo>
                <a:cubicBezTo>
                  <a:pt x="105501" y="295428"/>
                  <a:pt x="160280" y="350207"/>
                  <a:pt x="227854" y="350207"/>
                </a:cubicBezTo>
                <a:cubicBezTo>
                  <a:pt x="295428" y="350207"/>
                  <a:pt x="350207" y="295428"/>
                  <a:pt x="350207" y="227854"/>
                </a:cubicBezTo>
                <a:cubicBezTo>
                  <a:pt x="350207" y="160280"/>
                  <a:pt x="295428" y="105501"/>
                  <a:pt x="227854" y="105501"/>
                </a:cubicBezTo>
                <a:cubicBezTo>
                  <a:pt x="160280" y="105501"/>
                  <a:pt x="105501" y="160280"/>
                  <a:pt x="105501" y="227854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9"/>
          <p:cNvSpPr/>
          <p:nvPr/>
        </p:nvSpPr>
        <p:spPr>
          <a:xfrm>
            <a:off x="1868400" y="2463840"/>
            <a:ext cx="20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r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文本框 31"/>
          <p:cNvSpPr/>
          <p:nvPr/>
        </p:nvSpPr>
        <p:spPr>
          <a:xfrm>
            <a:off x="1868400" y="2854440"/>
            <a:ext cx="357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同心圆 9"/>
          <p:cNvSpPr/>
          <p:nvPr/>
        </p:nvSpPr>
        <p:spPr>
          <a:xfrm>
            <a:off x="1201680" y="3693960"/>
            <a:ext cx="455760" cy="455760"/>
          </a:xfrm>
          <a:custGeom>
            <a:avLst/>
            <a:gdLst/>
            <a:ahLst/>
            <a:rect l="l" t="t" r="r" b="b"/>
            <a:pathLst>
              <a:path w="455708" h="455708">
                <a:moveTo>
                  <a:pt x="0" y="227854"/>
                </a:moveTo>
                <a:cubicBezTo>
                  <a:pt x="0" y="102014"/>
                  <a:pt x="102014" y="0"/>
                  <a:pt x="227854" y="0"/>
                </a:cubicBezTo>
                <a:cubicBezTo>
                  <a:pt x="353694" y="0"/>
                  <a:pt x="455708" y="102014"/>
                  <a:pt x="455708" y="227854"/>
                </a:cubicBezTo>
                <a:cubicBezTo>
                  <a:pt x="455708" y="353694"/>
                  <a:pt x="353694" y="455708"/>
                  <a:pt x="227854" y="455708"/>
                </a:cubicBezTo>
                <a:cubicBezTo>
                  <a:pt x="102014" y="455708"/>
                  <a:pt x="0" y="353694"/>
                  <a:pt x="0" y="227854"/>
                </a:cubicBezTo>
                <a:close/>
                <a:moveTo>
                  <a:pt x="105501" y="227854"/>
                </a:moveTo>
                <a:cubicBezTo>
                  <a:pt x="105501" y="295428"/>
                  <a:pt x="160280" y="350207"/>
                  <a:pt x="227854" y="350207"/>
                </a:cubicBezTo>
                <a:cubicBezTo>
                  <a:pt x="295428" y="350207"/>
                  <a:pt x="350207" y="295428"/>
                  <a:pt x="350207" y="227854"/>
                </a:cubicBezTo>
                <a:cubicBezTo>
                  <a:pt x="350207" y="160280"/>
                  <a:pt x="295428" y="105501"/>
                  <a:pt x="227854" y="105501"/>
                </a:cubicBezTo>
                <a:cubicBezTo>
                  <a:pt x="160280" y="105501"/>
                  <a:pt x="105501" y="160280"/>
                  <a:pt x="105501" y="227854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文本框 9"/>
          <p:cNvSpPr/>
          <p:nvPr/>
        </p:nvSpPr>
        <p:spPr>
          <a:xfrm>
            <a:off x="1868400" y="3705120"/>
            <a:ext cx="20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r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文本框 31"/>
          <p:cNvSpPr/>
          <p:nvPr/>
        </p:nvSpPr>
        <p:spPr>
          <a:xfrm>
            <a:off x="1868400" y="4095720"/>
            <a:ext cx="357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同心圆 16"/>
          <p:cNvSpPr/>
          <p:nvPr/>
        </p:nvSpPr>
        <p:spPr>
          <a:xfrm>
            <a:off x="6267600" y="3693960"/>
            <a:ext cx="455400" cy="455760"/>
          </a:xfrm>
          <a:custGeom>
            <a:avLst/>
            <a:gdLst/>
            <a:ahLst/>
            <a:rect l="l" t="t" r="r" b="b"/>
            <a:pathLst>
              <a:path w="455708" h="455708">
                <a:moveTo>
                  <a:pt x="0" y="227854"/>
                </a:moveTo>
                <a:cubicBezTo>
                  <a:pt x="0" y="102014"/>
                  <a:pt x="102014" y="0"/>
                  <a:pt x="227854" y="0"/>
                </a:cubicBezTo>
                <a:cubicBezTo>
                  <a:pt x="353694" y="0"/>
                  <a:pt x="455708" y="102014"/>
                  <a:pt x="455708" y="227854"/>
                </a:cubicBezTo>
                <a:cubicBezTo>
                  <a:pt x="455708" y="353694"/>
                  <a:pt x="353694" y="455708"/>
                  <a:pt x="227854" y="455708"/>
                </a:cubicBezTo>
                <a:cubicBezTo>
                  <a:pt x="102014" y="455708"/>
                  <a:pt x="0" y="353694"/>
                  <a:pt x="0" y="227854"/>
                </a:cubicBezTo>
                <a:close/>
                <a:moveTo>
                  <a:pt x="105501" y="227854"/>
                </a:moveTo>
                <a:cubicBezTo>
                  <a:pt x="105501" y="295428"/>
                  <a:pt x="160280" y="350207"/>
                  <a:pt x="227854" y="350207"/>
                </a:cubicBezTo>
                <a:cubicBezTo>
                  <a:pt x="295428" y="350207"/>
                  <a:pt x="350207" y="295428"/>
                  <a:pt x="350207" y="227854"/>
                </a:cubicBezTo>
                <a:cubicBezTo>
                  <a:pt x="350207" y="160280"/>
                  <a:pt x="295428" y="105501"/>
                  <a:pt x="227854" y="105501"/>
                </a:cubicBezTo>
                <a:cubicBezTo>
                  <a:pt x="160280" y="105501"/>
                  <a:pt x="105501" y="160280"/>
                  <a:pt x="105501" y="227854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文本框 9"/>
          <p:cNvSpPr/>
          <p:nvPr/>
        </p:nvSpPr>
        <p:spPr>
          <a:xfrm>
            <a:off x="6935760" y="3705120"/>
            <a:ext cx="20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r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文本框 31"/>
          <p:cNvSpPr/>
          <p:nvPr/>
        </p:nvSpPr>
        <p:spPr>
          <a:xfrm>
            <a:off x="6935760" y="4095720"/>
            <a:ext cx="357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同心圆 19"/>
          <p:cNvSpPr/>
          <p:nvPr/>
        </p:nvSpPr>
        <p:spPr>
          <a:xfrm>
            <a:off x="6267600" y="2452680"/>
            <a:ext cx="455400" cy="455760"/>
          </a:xfrm>
          <a:custGeom>
            <a:avLst/>
            <a:gdLst/>
            <a:ahLst/>
            <a:rect l="l" t="t" r="r" b="b"/>
            <a:pathLst>
              <a:path w="455708" h="455708">
                <a:moveTo>
                  <a:pt x="0" y="227854"/>
                </a:moveTo>
                <a:cubicBezTo>
                  <a:pt x="0" y="102014"/>
                  <a:pt x="102014" y="0"/>
                  <a:pt x="227854" y="0"/>
                </a:cubicBezTo>
                <a:cubicBezTo>
                  <a:pt x="353694" y="0"/>
                  <a:pt x="455708" y="102014"/>
                  <a:pt x="455708" y="227854"/>
                </a:cubicBezTo>
                <a:cubicBezTo>
                  <a:pt x="455708" y="353694"/>
                  <a:pt x="353694" y="455708"/>
                  <a:pt x="227854" y="455708"/>
                </a:cubicBezTo>
                <a:cubicBezTo>
                  <a:pt x="102014" y="455708"/>
                  <a:pt x="0" y="353694"/>
                  <a:pt x="0" y="227854"/>
                </a:cubicBezTo>
                <a:close/>
                <a:moveTo>
                  <a:pt x="105501" y="227854"/>
                </a:moveTo>
                <a:cubicBezTo>
                  <a:pt x="105501" y="295428"/>
                  <a:pt x="160280" y="350207"/>
                  <a:pt x="227854" y="350207"/>
                </a:cubicBezTo>
                <a:cubicBezTo>
                  <a:pt x="295428" y="350207"/>
                  <a:pt x="350207" y="295428"/>
                  <a:pt x="350207" y="227854"/>
                </a:cubicBezTo>
                <a:cubicBezTo>
                  <a:pt x="350207" y="160280"/>
                  <a:pt x="295428" y="105501"/>
                  <a:pt x="227854" y="105501"/>
                </a:cubicBezTo>
                <a:cubicBezTo>
                  <a:pt x="160280" y="105501"/>
                  <a:pt x="105501" y="160280"/>
                  <a:pt x="105501" y="227854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文本框 9"/>
          <p:cNvSpPr/>
          <p:nvPr/>
        </p:nvSpPr>
        <p:spPr>
          <a:xfrm>
            <a:off x="6935760" y="2463840"/>
            <a:ext cx="20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r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文本框 31"/>
          <p:cNvSpPr/>
          <p:nvPr/>
        </p:nvSpPr>
        <p:spPr>
          <a:xfrm>
            <a:off x="6935760" y="2854440"/>
            <a:ext cx="357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文本框 22"/>
          <p:cNvSpPr/>
          <p:nvPr/>
        </p:nvSpPr>
        <p:spPr>
          <a:xfrm>
            <a:off x="5551560" y="6311880"/>
            <a:ext cx="11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—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/>
          <p:nvPr/>
        </p:nvSpPr>
        <p:spPr>
          <a:xfrm>
            <a:off x="10107720" y="6438960"/>
            <a:ext cx="204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5961240"/>
          </a:xfrm>
          <a:prstGeom prst="rect">
            <a:avLst/>
          </a:prstGeom>
          <a:ln w="0">
            <a:noFill/>
          </a:ln>
        </p:spPr>
      </p:pic>
      <p:sp>
        <p:nvSpPr>
          <p:cNvPr id="65" name="矩形 5"/>
          <p:cNvSpPr/>
          <p:nvPr/>
        </p:nvSpPr>
        <p:spPr>
          <a:xfrm>
            <a:off x="0" y="0"/>
            <a:ext cx="12192120" cy="5961240"/>
          </a:xfrm>
          <a:prstGeom prst="rect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同心圆 2"/>
          <p:cNvSpPr/>
          <p:nvPr/>
        </p:nvSpPr>
        <p:spPr>
          <a:xfrm>
            <a:off x="1093680" y="4505400"/>
            <a:ext cx="455760" cy="455400"/>
          </a:xfrm>
          <a:custGeom>
            <a:avLst/>
            <a:gdLst/>
            <a:ahLst/>
            <a:rect l="l" t="t" r="r" b="b"/>
            <a:pathLst>
              <a:path w="455708" h="455708">
                <a:moveTo>
                  <a:pt x="0" y="227854"/>
                </a:moveTo>
                <a:cubicBezTo>
                  <a:pt x="0" y="102014"/>
                  <a:pt x="102014" y="0"/>
                  <a:pt x="227854" y="0"/>
                </a:cubicBezTo>
                <a:cubicBezTo>
                  <a:pt x="353694" y="0"/>
                  <a:pt x="455708" y="102014"/>
                  <a:pt x="455708" y="227854"/>
                </a:cubicBezTo>
                <a:cubicBezTo>
                  <a:pt x="455708" y="353694"/>
                  <a:pt x="353694" y="455708"/>
                  <a:pt x="227854" y="455708"/>
                </a:cubicBezTo>
                <a:cubicBezTo>
                  <a:pt x="102014" y="455708"/>
                  <a:pt x="0" y="353694"/>
                  <a:pt x="0" y="227854"/>
                </a:cubicBezTo>
                <a:close/>
                <a:moveTo>
                  <a:pt x="105501" y="227854"/>
                </a:moveTo>
                <a:cubicBezTo>
                  <a:pt x="105501" y="295428"/>
                  <a:pt x="160280" y="350207"/>
                  <a:pt x="227854" y="350207"/>
                </a:cubicBezTo>
                <a:cubicBezTo>
                  <a:pt x="295428" y="350207"/>
                  <a:pt x="350207" y="295428"/>
                  <a:pt x="350207" y="227854"/>
                </a:cubicBezTo>
                <a:cubicBezTo>
                  <a:pt x="350207" y="160280"/>
                  <a:pt x="295428" y="105501"/>
                  <a:pt x="227854" y="105501"/>
                </a:cubicBezTo>
                <a:cubicBezTo>
                  <a:pt x="160280" y="105501"/>
                  <a:pt x="105501" y="160280"/>
                  <a:pt x="105501" y="227854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文本框 9"/>
          <p:cNvSpPr/>
          <p:nvPr/>
        </p:nvSpPr>
        <p:spPr>
          <a:xfrm>
            <a:off x="1549440" y="4560840"/>
            <a:ext cx="20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r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31"/>
          <p:cNvSpPr/>
          <p:nvPr/>
        </p:nvSpPr>
        <p:spPr>
          <a:xfrm>
            <a:off x="1549440" y="4951440"/>
            <a:ext cx="357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图片 6" descr=""/>
          <p:cNvPicPr/>
          <p:nvPr/>
        </p:nvPicPr>
        <p:blipFill>
          <a:blip r:embed="rId2"/>
          <a:stretch/>
        </p:blipFill>
        <p:spPr>
          <a:xfrm>
            <a:off x="1093680" y="2338560"/>
            <a:ext cx="4091040" cy="1998360"/>
          </a:xfrm>
          <a:prstGeom prst="rect">
            <a:avLst/>
          </a:prstGeom>
          <a:ln w="12600">
            <a:solidFill>
              <a:srgbClr val="a6a6a6"/>
            </a:solidFill>
            <a:miter/>
          </a:ln>
        </p:spPr>
      </p:pic>
      <p:pic>
        <p:nvPicPr>
          <p:cNvPr id="70" name="图片 22" descr=""/>
          <p:cNvPicPr/>
          <p:nvPr/>
        </p:nvPicPr>
        <p:blipFill>
          <a:blip r:embed="rId3"/>
          <a:stretch/>
        </p:blipFill>
        <p:spPr>
          <a:xfrm>
            <a:off x="6862680" y="2325600"/>
            <a:ext cx="4091040" cy="2000160"/>
          </a:xfrm>
          <a:prstGeom prst="rect">
            <a:avLst/>
          </a:prstGeom>
          <a:ln w="12600">
            <a:solidFill>
              <a:srgbClr val="a6a6a6"/>
            </a:solidFill>
            <a:miter/>
          </a:ln>
        </p:spPr>
      </p:pic>
      <p:sp>
        <p:nvSpPr>
          <p:cNvPr id="71" name="同心圆 23"/>
          <p:cNvSpPr/>
          <p:nvPr/>
        </p:nvSpPr>
        <p:spPr>
          <a:xfrm>
            <a:off x="6859440" y="4494240"/>
            <a:ext cx="455760" cy="455760"/>
          </a:xfrm>
          <a:custGeom>
            <a:avLst/>
            <a:gdLst/>
            <a:ahLst/>
            <a:rect l="l" t="t" r="r" b="b"/>
            <a:pathLst>
              <a:path w="455708" h="455708">
                <a:moveTo>
                  <a:pt x="0" y="227854"/>
                </a:moveTo>
                <a:cubicBezTo>
                  <a:pt x="0" y="102014"/>
                  <a:pt x="102014" y="0"/>
                  <a:pt x="227854" y="0"/>
                </a:cubicBezTo>
                <a:cubicBezTo>
                  <a:pt x="353694" y="0"/>
                  <a:pt x="455708" y="102014"/>
                  <a:pt x="455708" y="227854"/>
                </a:cubicBezTo>
                <a:cubicBezTo>
                  <a:pt x="455708" y="353694"/>
                  <a:pt x="353694" y="455708"/>
                  <a:pt x="227854" y="455708"/>
                </a:cubicBezTo>
                <a:cubicBezTo>
                  <a:pt x="102014" y="455708"/>
                  <a:pt x="0" y="353694"/>
                  <a:pt x="0" y="227854"/>
                </a:cubicBezTo>
                <a:close/>
                <a:moveTo>
                  <a:pt x="105501" y="227854"/>
                </a:moveTo>
                <a:cubicBezTo>
                  <a:pt x="105501" y="295428"/>
                  <a:pt x="160280" y="350207"/>
                  <a:pt x="227854" y="350207"/>
                </a:cubicBezTo>
                <a:cubicBezTo>
                  <a:pt x="295428" y="350207"/>
                  <a:pt x="350207" y="295428"/>
                  <a:pt x="350207" y="227854"/>
                </a:cubicBezTo>
                <a:cubicBezTo>
                  <a:pt x="350207" y="160280"/>
                  <a:pt x="295428" y="105501"/>
                  <a:pt x="227854" y="105501"/>
                </a:cubicBezTo>
                <a:cubicBezTo>
                  <a:pt x="160280" y="105501"/>
                  <a:pt x="105501" y="160280"/>
                  <a:pt x="105501" y="227854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文本框 9"/>
          <p:cNvSpPr/>
          <p:nvPr/>
        </p:nvSpPr>
        <p:spPr>
          <a:xfrm>
            <a:off x="7315200" y="4549680"/>
            <a:ext cx="20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r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文本框 31"/>
          <p:cNvSpPr/>
          <p:nvPr/>
        </p:nvSpPr>
        <p:spPr>
          <a:xfrm>
            <a:off x="7315200" y="4940280"/>
            <a:ext cx="3578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矩形 18"/>
          <p:cNvSpPr/>
          <p:nvPr/>
        </p:nvSpPr>
        <p:spPr>
          <a:xfrm>
            <a:off x="995400" y="1309680"/>
            <a:ext cx="30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95959"/>
                </a:solidFill>
                <a:latin typeface="Calibri"/>
              </a:rPr>
              <a:t>ADD </a:t>
            </a:r>
            <a:r>
              <a:rPr b="0" lang="en-US" sz="3600" spc="-1" strike="noStrike">
                <a:solidFill>
                  <a:srgbClr val="595959"/>
                </a:solidFill>
                <a:latin typeface="Calibri"/>
              </a:rPr>
              <a:t>Your</a:t>
            </a:r>
            <a:r>
              <a:rPr b="0" lang="zh-CN" sz="3600" spc="-1" strike="noStrike">
                <a:solidFill>
                  <a:srgbClr val="595959"/>
                </a:solidFill>
                <a:latin typeface="Calibri"/>
              </a:rPr>
              <a:t> T</a:t>
            </a:r>
            <a:r>
              <a:rPr b="0" lang="en-US" sz="3600" spc="-1" strike="noStrike">
                <a:solidFill>
                  <a:srgbClr val="595959"/>
                </a:solidFill>
                <a:latin typeface="Calibri"/>
              </a:rPr>
              <a:t>it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矩形 27"/>
          <p:cNvSpPr/>
          <p:nvPr/>
        </p:nvSpPr>
        <p:spPr>
          <a:xfrm>
            <a:off x="984240" y="1841400"/>
            <a:ext cx="859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文本框 29"/>
          <p:cNvSpPr/>
          <p:nvPr/>
        </p:nvSpPr>
        <p:spPr>
          <a:xfrm>
            <a:off x="5510160" y="6240600"/>
            <a:ext cx="11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—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5961240"/>
          </a:xfrm>
          <a:prstGeom prst="rect">
            <a:avLst/>
          </a:prstGeom>
          <a:ln w="0">
            <a:noFill/>
          </a:ln>
        </p:spPr>
      </p:pic>
      <p:sp>
        <p:nvSpPr>
          <p:cNvPr id="78" name="矩形 5"/>
          <p:cNvSpPr/>
          <p:nvPr/>
        </p:nvSpPr>
        <p:spPr>
          <a:xfrm>
            <a:off x="0" y="0"/>
            <a:ext cx="12192120" cy="5961240"/>
          </a:xfrm>
          <a:prstGeom prst="rect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同心圆 2"/>
          <p:cNvSpPr/>
          <p:nvPr/>
        </p:nvSpPr>
        <p:spPr>
          <a:xfrm>
            <a:off x="2151000" y="3787920"/>
            <a:ext cx="455760" cy="455400"/>
          </a:xfrm>
          <a:custGeom>
            <a:avLst/>
            <a:gdLst/>
            <a:ahLst/>
            <a:rect l="l" t="t" r="r" b="b"/>
            <a:pathLst>
              <a:path w="455708" h="455708">
                <a:moveTo>
                  <a:pt x="0" y="227854"/>
                </a:moveTo>
                <a:cubicBezTo>
                  <a:pt x="0" y="102014"/>
                  <a:pt x="102014" y="0"/>
                  <a:pt x="227854" y="0"/>
                </a:cubicBezTo>
                <a:cubicBezTo>
                  <a:pt x="353694" y="0"/>
                  <a:pt x="455708" y="102014"/>
                  <a:pt x="455708" y="227854"/>
                </a:cubicBezTo>
                <a:cubicBezTo>
                  <a:pt x="455708" y="353694"/>
                  <a:pt x="353694" y="455708"/>
                  <a:pt x="227854" y="455708"/>
                </a:cubicBezTo>
                <a:cubicBezTo>
                  <a:pt x="102014" y="455708"/>
                  <a:pt x="0" y="353694"/>
                  <a:pt x="0" y="227854"/>
                </a:cubicBezTo>
                <a:close/>
                <a:moveTo>
                  <a:pt x="105501" y="227854"/>
                </a:moveTo>
                <a:cubicBezTo>
                  <a:pt x="105501" y="295428"/>
                  <a:pt x="160280" y="350207"/>
                  <a:pt x="227854" y="350207"/>
                </a:cubicBezTo>
                <a:cubicBezTo>
                  <a:pt x="295428" y="350207"/>
                  <a:pt x="350207" y="295428"/>
                  <a:pt x="350207" y="227854"/>
                </a:cubicBezTo>
                <a:cubicBezTo>
                  <a:pt x="350207" y="160280"/>
                  <a:pt x="295428" y="105501"/>
                  <a:pt x="227854" y="105501"/>
                </a:cubicBezTo>
                <a:cubicBezTo>
                  <a:pt x="160280" y="105501"/>
                  <a:pt x="105501" y="160280"/>
                  <a:pt x="105501" y="227854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文本框 9"/>
          <p:cNvSpPr/>
          <p:nvPr/>
        </p:nvSpPr>
        <p:spPr>
          <a:xfrm>
            <a:off x="1452600" y="4340160"/>
            <a:ext cx="20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r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文本框 31"/>
          <p:cNvSpPr/>
          <p:nvPr/>
        </p:nvSpPr>
        <p:spPr>
          <a:xfrm>
            <a:off x="1122480" y="4675320"/>
            <a:ext cx="271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文本框 29"/>
          <p:cNvSpPr/>
          <p:nvPr/>
        </p:nvSpPr>
        <p:spPr>
          <a:xfrm>
            <a:off x="5543640" y="6294600"/>
            <a:ext cx="11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—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椭圆 1"/>
          <p:cNvSpPr/>
          <p:nvPr/>
        </p:nvSpPr>
        <p:spPr>
          <a:xfrm>
            <a:off x="1549440" y="1878120"/>
            <a:ext cx="1658880" cy="16570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椭圆 15"/>
          <p:cNvSpPr/>
          <p:nvPr/>
        </p:nvSpPr>
        <p:spPr>
          <a:xfrm>
            <a:off x="5019840" y="1878120"/>
            <a:ext cx="1657080" cy="16570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椭圆 16"/>
          <p:cNvSpPr/>
          <p:nvPr/>
        </p:nvSpPr>
        <p:spPr>
          <a:xfrm>
            <a:off x="8488440" y="1878120"/>
            <a:ext cx="1658880" cy="16570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同心圆 17"/>
          <p:cNvSpPr/>
          <p:nvPr/>
        </p:nvSpPr>
        <p:spPr>
          <a:xfrm>
            <a:off x="5662440" y="3787920"/>
            <a:ext cx="455760" cy="455400"/>
          </a:xfrm>
          <a:custGeom>
            <a:avLst/>
            <a:gdLst/>
            <a:ahLst/>
            <a:rect l="l" t="t" r="r" b="b"/>
            <a:pathLst>
              <a:path w="455708" h="455708">
                <a:moveTo>
                  <a:pt x="0" y="227854"/>
                </a:moveTo>
                <a:cubicBezTo>
                  <a:pt x="0" y="102014"/>
                  <a:pt x="102014" y="0"/>
                  <a:pt x="227854" y="0"/>
                </a:cubicBezTo>
                <a:cubicBezTo>
                  <a:pt x="353694" y="0"/>
                  <a:pt x="455708" y="102014"/>
                  <a:pt x="455708" y="227854"/>
                </a:cubicBezTo>
                <a:cubicBezTo>
                  <a:pt x="455708" y="353694"/>
                  <a:pt x="353694" y="455708"/>
                  <a:pt x="227854" y="455708"/>
                </a:cubicBezTo>
                <a:cubicBezTo>
                  <a:pt x="102014" y="455708"/>
                  <a:pt x="0" y="353694"/>
                  <a:pt x="0" y="227854"/>
                </a:cubicBezTo>
                <a:close/>
                <a:moveTo>
                  <a:pt x="105501" y="227854"/>
                </a:moveTo>
                <a:cubicBezTo>
                  <a:pt x="105501" y="295428"/>
                  <a:pt x="160280" y="350207"/>
                  <a:pt x="227854" y="350207"/>
                </a:cubicBezTo>
                <a:cubicBezTo>
                  <a:pt x="295428" y="350207"/>
                  <a:pt x="350207" y="295428"/>
                  <a:pt x="350207" y="227854"/>
                </a:cubicBezTo>
                <a:cubicBezTo>
                  <a:pt x="350207" y="160280"/>
                  <a:pt x="295428" y="105501"/>
                  <a:pt x="227854" y="105501"/>
                </a:cubicBezTo>
                <a:cubicBezTo>
                  <a:pt x="160280" y="105501"/>
                  <a:pt x="105501" y="160280"/>
                  <a:pt x="105501" y="227854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文本框 9"/>
          <p:cNvSpPr/>
          <p:nvPr/>
        </p:nvSpPr>
        <p:spPr>
          <a:xfrm>
            <a:off x="4964040" y="4340160"/>
            <a:ext cx="20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r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文本框 31"/>
          <p:cNvSpPr/>
          <p:nvPr/>
        </p:nvSpPr>
        <p:spPr>
          <a:xfrm>
            <a:off x="4632480" y="4675320"/>
            <a:ext cx="271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同心圆 20"/>
          <p:cNvSpPr/>
          <p:nvPr/>
        </p:nvSpPr>
        <p:spPr>
          <a:xfrm>
            <a:off x="9147240" y="3780000"/>
            <a:ext cx="455400" cy="455400"/>
          </a:xfrm>
          <a:custGeom>
            <a:avLst/>
            <a:gdLst/>
            <a:ahLst/>
            <a:rect l="l" t="t" r="r" b="b"/>
            <a:pathLst>
              <a:path w="455708" h="455708">
                <a:moveTo>
                  <a:pt x="0" y="227854"/>
                </a:moveTo>
                <a:cubicBezTo>
                  <a:pt x="0" y="102014"/>
                  <a:pt x="102014" y="0"/>
                  <a:pt x="227854" y="0"/>
                </a:cubicBezTo>
                <a:cubicBezTo>
                  <a:pt x="353694" y="0"/>
                  <a:pt x="455708" y="102014"/>
                  <a:pt x="455708" y="227854"/>
                </a:cubicBezTo>
                <a:cubicBezTo>
                  <a:pt x="455708" y="353694"/>
                  <a:pt x="353694" y="455708"/>
                  <a:pt x="227854" y="455708"/>
                </a:cubicBezTo>
                <a:cubicBezTo>
                  <a:pt x="102014" y="455708"/>
                  <a:pt x="0" y="353694"/>
                  <a:pt x="0" y="227854"/>
                </a:cubicBezTo>
                <a:close/>
                <a:moveTo>
                  <a:pt x="105501" y="227854"/>
                </a:moveTo>
                <a:cubicBezTo>
                  <a:pt x="105501" y="295428"/>
                  <a:pt x="160280" y="350207"/>
                  <a:pt x="227854" y="350207"/>
                </a:cubicBezTo>
                <a:cubicBezTo>
                  <a:pt x="295428" y="350207"/>
                  <a:pt x="350207" y="295428"/>
                  <a:pt x="350207" y="227854"/>
                </a:cubicBezTo>
                <a:cubicBezTo>
                  <a:pt x="350207" y="160280"/>
                  <a:pt x="295428" y="105501"/>
                  <a:pt x="227854" y="105501"/>
                </a:cubicBezTo>
                <a:cubicBezTo>
                  <a:pt x="160280" y="105501"/>
                  <a:pt x="105501" y="160280"/>
                  <a:pt x="105501" y="227854"/>
                </a:cubicBezTo>
                <a:close/>
              </a:path>
            </a:pathLst>
          </a:custGeom>
          <a:noFill/>
          <a:ln w="12600">
            <a:solidFill>
              <a:srgbClr val="40404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文本框 9"/>
          <p:cNvSpPr/>
          <p:nvPr/>
        </p:nvSpPr>
        <p:spPr>
          <a:xfrm>
            <a:off x="8448840" y="4332240"/>
            <a:ext cx="20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微软雅黑"/>
                <a:ea typeface="微软雅黑"/>
              </a:rPr>
              <a:t>Add Your Tit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文本框 31"/>
          <p:cNvSpPr/>
          <p:nvPr/>
        </p:nvSpPr>
        <p:spPr>
          <a:xfrm>
            <a:off x="8116920" y="4665600"/>
            <a:ext cx="271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矩形 18"/>
          <p:cNvSpPr/>
          <p:nvPr/>
        </p:nvSpPr>
        <p:spPr>
          <a:xfrm>
            <a:off x="4405320" y="880920"/>
            <a:ext cx="304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95959"/>
                </a:solidFill>
                <a:latin typeface="Calibri"/>
              </a:rPr>
              <a:t>ADD </a:t>
            </a:r>
            <a:r>
              <a:rPr b="0" lang="en-US" sz="3600" spc="-1" strike="noStrike">
                <a:solidFill>
                  <a:srgbClr val="595959"/>
                </a:solidFill>
                <a:latin typeface="Calibri"/>
              </a:rPr>
              <a:t>Your</a:t>
            </a:r>
            <a:r>
              <a:rPr b="0" lang="zh-CN" sz="3600" spc="-1" strike="noStrike">
                <a:solidFill>
                  <a:srgbClr val="595959"/>
                </a:solidFill>
                <a:latin typeface="Calibri"/>
              </a:rPr>
              <a:t> T</a:t>
            </a:r>
            <a:r>
              <a:rPr b="0" lang="en-US" sz="3600" spc="-1" strike="noStrike">
                <a:solidFill>
                  <a:srgbClr val="595959"/>
                </a:solidFill>
                <a:latin typeface="Calibri"/>
              </a:rPr>
              <a:t>itl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5961240"/>
          </a:xfrm>
          <a:prstGeom prst="rect">
            <a:avLst/>
          </a:prstGeom>
          <a:ln w="0">
            <a:noFill/>
          </a:ln>
        </p:spPr>
      </p:pic>
      <p:sp>
        <p:nvSpPr>
          <p:cNvPr id="94" name="矩形 5"/>
          <p:cNvSpPr/>
          <p:nvPr/>
        </p:nvSpPr>
        <p:spPr>
          <a:xfrm>
            <a:off x="0" y="0"/>
            <a:ext cx="12192120" cy="5961240"/>
          </a:xfrm>
          <a:prstGeom prst="rect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矩形 18"/>
          <p:cNvSpPr/>
          <p:nvPr/>
        </p:nvSpPr>
        <p:spPr>
          <a:xfrm>
            <a:off x="5045040" y="291636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hank You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直接连接符 23"/>
          <p:cNvSpPr/>
          <p:nvPr/>
        </p:nvSpPr>
        <p:spPr>
          <a:xfrm>
            <a:off x="5291280" y="3525840"/>
            <a:ext cx="1650960" cy="0"/>
          </a:xfrm>
          <a:prstGeom prst="line">
            <a:avLst/>
          </a:prstGeom>
          <a:ln w="93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文本框 24"/>
          <p:cNvSpPr/>
          <p:nvPr/>
        </p:nvSpPr>
        <p:spPr>
          <a:xfrm>
            <a:off x="4992840" y="3559320"/>
            <a:ext cx="21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ere add your na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25"/>
          <p:cNvSpPr/>
          <p:nvPr/>
        </p:nvSpPr>
        <p:spPr>
          <a:xfrm>
            <a:off x="5425920" y="3862440"/>
            <a:ext cx="1501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441C6-5E16-4105-AF82-40E2C4795595}" type="datetime">
              <a:rPr b="0" lang="zh-CN" sz="20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26"/>
          <p:cNvSpPr/>
          <p:nvPr/>
        </p:nvSpPr>
        <p:spPr>
          <a:xfrm>
            <a:off x="5538960" y="6318360"/>
            <a:ext cx="117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—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OGO—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/>
          <p:nvPr/>
        </p:nvSpPr>
        <p:spPr>
          <a:xfrm>
            <a:off x="10166400" y="6453360"/>
            <a:ext cx="30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3749040" y="5146560"/>
            <a:ext cx="476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    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更多免费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600" spc="-1" strike="noStrike">
                <a:solidFill>
                  <a:srgbClr val="1c1c1c"/>
                </a:solidFill>
                <a:latin typeface="华文新魏"/>
                <a:ea typeface="华文新魏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11288880" cy="6858000"/>
            <a:chOff x="0" y="0"/>
            <a:chExt cx="11288880" cy="6858000"/>
          </a:xfrm>
        </p:grpSpPr>
        <p:sp>
          <p:nvSpPr>
            <p:cNvPr id="103" name="矩形 4"/>
            <p:cNvSpPr/>
            <p:nvPr/>
          </p:nvSpPr>
          <p:spPr>
            <a:xfrm>
              <a:off x="189504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04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1128888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5" name="TextBox 7"/>
            <p:cNvSpPr/>
            <p:nvPr/>
          </p:nvSpPr>
          <p:spPr>
            <a:xfrm rot="20926800">
              <a:off x="2503080" y="3577320"/>
              <a:ext cx="6223320" cy="64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563c1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563c1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563c1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20T07:13:54Z</dcterms:created>
  <dc:creator>D13001</dc:creator>
  <dc:description/>
  <dc:language>en-US</dc:language>
  <cp:lastModifiedBy>D13001</cp:lastModifiedBy>
  <dcterms:modified xsi:type="dcterms:W3CDTF">2015-01-11T11:31:07Z</dcterms:modified>
  <cp:revision>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