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C2EF-9F4C-406E-8B97-24F4D8F2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8A7A-7FC9-4A0F-A0B3-7B2302AA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728C-C51A-4272-B24E-E4DB64E40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DD5F-F746-412C-932F-3CB87B266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207F-C618-418C-B43F-F743C433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D7AE-0E1C-4112-B333-C022BD67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CF40-D70F-4A16-845F-DBF64A7E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DBC4-293D-406E-93C1-D78F6048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0931-04A5-4A55-A266-89504381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F4C9-B051-4BE0-ACEA-F835D745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B5AE-CD25-4EC8-93FC-657FF191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EA5F-11DD-4D1A-BD82-B2140676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ADB8-39B4-410D-8599-18DEB1B8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A3D6-F5B2-43F2-9F0B-D115E5B5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ED31-1049-4719-997E-3E8DB09C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2963-2FCA-4A27-9B1C-D9DF0DB1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D862-814A-4698-9EF9-E94E93A0C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7AFD-172C-463D-8E76-1C6953F79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6CBE-F439-4588-8827-979A0228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E218-FCAF-446C-8D0B-0B2DBD83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C608-7E31-41C2-95D5-846CA174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380F-24ED-4624-880E-7F6748EE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1616-E7F1-46F1-A443-E5D331EA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CCF9-C81B-476E-BD2B-E227D5A3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3E8B-897B-4C9E-BEAA-EF58505D2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矩形 9"/>
          <p:cNvSpPr/>
          <p:nvPr/>
        </p:nvSpPr>
        <p:spPr>
          <a:xfrm>
            <a:off x="71280" y="6572160"/>
            <a:ext cx="9001440" cy="214560"/>
          </a:xfrm>
          <a:prstGeom prst="rect">
            <a:avLst/>
          </a:prstGeom>
          <a:gradFill rotWithShape="0">
            <a:gsLst>
              <a:gs pos="0">
                <a:srgbClr val="5000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图片 10" descr="13.png"/>
          <p:cNvPicPr/>
          <p:nvPr/>
        </p:nvPicPr>
        <p:blipFill>
          <a:blip r:embed="rId2"/>
          <a:stretch/>
        </p:blipFill>
        <p:spPr>
          <a:xfrm>
            <a:off x="6192720" y="5653080"/>
            <a:ext cx="2951280" cy="157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6201" t="0" r="4049" b="0"/>
          <a:stretch/>
        </p:blipFill>
        <p:spPr>
          <a:xfrm>
            <a:off x="-17640" y="1440"/>
            <a:ext cx="9171000" cy="6865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2720" y="220500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06EA-CDA8-4CA2-A814-3C2FDFF66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7308720" y="189000"/>
            <a:ext cx="1725840" cy="1295280"/>
          </a:xfrm>
          <a:prstGeom prst="rect">
            <a:avLst/>
          </a:prstGeom>
          <a:ln w="0">
            <a:noFill/>
          </a:ln>
        </p:spPr>
      </p:pic>
      <p:sp>
        <p:nvSpPr>
          <p:cNvPr id="88" name="矩形 9"/>
          <p:cNvSpPr/>
          <p:nvPr/>
        </p:nvSpPr>
        <p:spPr>
          <a:xfrm>
            <a:off x="71280" y="6572160"/>
            <a:ext cx="9001440" cy="214560"/>
          </a:xfrm>
          <a:prstGeom prst="rect">
            <a:avLst/>
          </a:prstGeom>
          <a:gradFill rotWithShape="0">
            <a:gsLst>
              <a:gs pos="0">
                <a:srgbClr val="5000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2720" y="220500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12720" y="314172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9280" y="6238800"/>
            <a:ext cx="4321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18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cc66"/>
                    </a:gs>
                    <a:gs pos="100000">
                      <a:srgbClr val="ffff99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8000"/>
                    </a:srgbClr>
                  </a:outerShdw>
                </a:effectLst>
                <a:latin typeface="华文隶书"/>
              </a:rPr>
              <a:t>与国同庆，全民共欢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cc66"/>
                  </a:gs>
                  <a:gs pos="100000">
                    <a:srgbClr val="ffff99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8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128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 rot="300000">
            <a:off x="1331640" y="1773000"/>
            <a:ext cx="543384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隶书"/>
              </a:rPr>
              <a:t>与国同庆</a:t>
            </a: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隶书"/>
              </a:rPr>
              <a:t>60</a:t>
            </a: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隶书"/>
              </a:rPr>
              <a:t>年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隶书"/>
              <a:ea typeface="华文隶书"/>
            </a:endParaRPr>
          </a:p>
        </p:txBody>
      </p:sp>
      <p:sp>
        <p:nvSpPr>
          <p:cNvPr id="134" name=""/>
          <p:cNvSpPr/>
          <p:nvPr/>
        </p:nvSpPr>
        <p:spPr>
          <a:xfrm>
            <a:off x="1044720" y="3141720"/>
            <a:ext cx="640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  <a:ea typeface="隶书"/>
              </a:rPr>
              <a:t>谢谢欣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61120" y="6524640"/>
            <a:ext cx="42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0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0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0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09:50:43Z</dcterms:created>
  <dc:creator/>
  <dc:description/>
  <dc:language>en-US</dc:language>
  <cp:lastModifiedBy/>
  <dcterms:modified xsi:type="dcterms:W3CDTF">2015-01-11T07:24:2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