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937-5C47-4051-87B0-6784BF1D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E74-D451-4769-A2BC-1FF49441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840-C5AA-4223-BB6C-4F81B329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B90-0E7D-45CC-8396-F30D38D4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E3AB-0908-4735-AA8F-CC78F167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D72E-5BD2-4B6A-AA10-959E9754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8CC0-2759-4FAA-BE45-8C70ED40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0E0A-CEC8-49CC-BCB8-AA0491D3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99AF-9922-42A4-ACED-50C8B97E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AFCE-2754-45EC-A199-33047E9F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668B-D822-4496-BE6A-4F52739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CAA-864B-4AA5-A772-7F449081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29F4-212D-4EE0-8AF4-2DA43A75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4056-D8D1-413B-91C1-E53F32FD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1DDC-4F78-4589-96AD-7E5DD674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7EC6-EF1B-40D3-9BFB-B343AE31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DA29-9973-4ECD-BDA9-3F845C47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A39-5EA2-4F23-AA18-80E8CF2F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9E0-7A05-4105-BE16-CC730A6A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55F-4078-4E51-A812-8C5B8A4E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F39-9D52-48FB-8E11-E88E9311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25E-B66A-4002-A809-FB5E94D3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2AB-AEE9-44E4-A9F8-AA68C34D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EDF-ABEB-431B-92D4-F6F37B1B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A51E-2139-491F-969F-7BE0D7F09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4768920"/>
            <a:ext cx="9142560" cy="2116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6134-4E83-4D14-8A19-D44A02229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000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5:24:38Z</dcterms:created>
  <dc:creator>Administrator</dc:creator>
  <dc:description/>
  <dc:language>en-US</dc:language>
  <cp:lastModifiedBy/>
  <dcterms:modified xsi:type="dcterms:W3CDTF">2015-01-11T12:04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