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448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90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22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90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22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3448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3448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90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2200" y="251424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90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2200" y="4504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4480" y="4504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4480" y="251424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63b1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363b1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1" marL="683280" indent="-262800">
              <a:spcBef>
                <a:spcPts val="799"/>
              </a:spcBef>
              <a:buClr>
                <a:srgbClr val="5363b1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2" marL="105156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3" marL="147204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4" marL="189252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5" marL="1892520" indent="-210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6" marL="1892520" indent="-210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63b1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363b1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1" marL="683280" indent="-262800">
              <a:spcBef>
                <a:spcPts val="799"/>
              </a:spcBef>
              <a:buClr>
                <a:srgbClr val="5363b1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2" marL="105156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3" marL="147204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4" marL="1892520" indent="-210240">
              <a:spcBef>
                <a:spcPts val="799"/>
              </a:spcBef>
              <a:buClr>
                <a:srgbClr val="5363b1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5" marL="1892520" indent="-210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lvl="6" marL="1892520" indent="-210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3b1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2819520"/>
            <a:ext cx="47559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066800" y="63817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6096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363b1"/>
                </a:solidFill>
                <a:latin typeface="Microsoft Sans Serif"/>
                <a:ea typeface="宋体"/>
              </a:rPr>
              <a:t>单击此处添加标题</a:t>
            </a:r>
            <a:endParaRPr b="0" lang="en-US" sz="44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3126960"/>
            <a:ext cx="670572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363b1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63b1"/>
                </a:solidFill>
                <a:latin typeface="Microsoft Sans Serif"/>
                <a:ea typeface="宋体"/>
              </a:rPr>
              <a:t>单击此处添加正文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81" name=""/>
          <p:cNvSpPr/>
          <p:nvPr/>
        </p:nvSpPr>
        <p:spPr>
          <a:xfrm>
            <a:off x="7066800" y="63817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363b1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5363b1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363b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63b1"/>
                </a:solidFill>
                <a:latin typeface="Verdana"/>
                <a:ea typeface="宋体"/>
              </a:rPr>
              <a:t>单击输入正文</a:t>
            </a: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3b1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2ba6d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2ba6d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2ba6d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User</cp:lastModifiedBy>
  <dcterms:modified xsi:type="dcterms:W3CDTF">2015-01-11T07:36:13Z</dcterms:modified>
  <cp:revision>11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