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5A09-FA7E-44BB-914E-B890F2013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0F6B-F1BA-4FE7-9938-AEFE7B37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503B-ABDB-483E-83BA-0EA079CD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26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80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26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80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74D5-E8D2-449C-97C4-FC03C63A27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63D79-1AC1-498C-92C2-70FF5113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B4EB7-4BB7-40CB-A76C-A47283EB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C9AC5-C706-4493-9597-7F65AC2B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8824A-D251-445E-90C8-3F4DFDE6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9B616-E018-4DE2-8808-001DA34D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85176-38DE-4A65-90B3-A1015B85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FFE8D-964F-4646-9A7A-0E85DA7F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61E6-744C-4113-B7EA-AB465014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F0E84-75E5-4CA3-BBC1-EF44F0D2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EECD8-555B-40A1-81D6-25A68F3A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70288-2EB6-4ACB-AA51-72D128D2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E22A6-BFE1-4CCD-89AB-623E58DD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526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480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526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480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F933E-73CF-4718-9866-135652B5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C830-4121-46BB-A54E-887FDF08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4EE6-A494-464E-ADC0-2A1F7FB1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58F5-8DC7-486D-A1F7-53E5CC8A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0ADD-2A81-44AE-90FA-3C4958F7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18BC-D2D2-4A65-AC19-0629BED2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D8AA-50F4-4399-8C39-953EACD7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28C9-65F0-458A-9FD9-7F3D241D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c0c0c0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5e9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24000" y="630864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e9cda"/>
                </a:solidFill>
                <a:latin typeface="Bauhaus 9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292E-57DD-414B-AD47-45DA59A2BBEE}" type="slidenum">
              <a:rPr b="0" lang="zh-CN" sz="1400" spc="-1" strike="noStrike">
                <a:solidFill>
                  <a:srgbClr val="5e9cda"/>
                </a:solidFill>
                <a:latin typeface="Bauhaus 9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133640" y="76320"/>
            <a:ext cx="828360" cy="857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90440" y="352440"/>
            <a:ext cx="1128600" cy="118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120160" y="123840"/>
            <a:ext cx="757080" cy="795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33336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fefefe">
                  <a:alpha val="80000"/>
                </a:srgbClr>
              </a:gs>
              <a:gs pos="100000">
                <a:srgbClr val="c0c0c0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5e9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3580920" y="6400440"/>
            <a:ext cx="2210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4"/>
          </p:nvPr>
        </p:nvSpPr>
        <p:spPr>
          <a:xfrm>
            <a:off x="5933880" y="6391080"/>
            <a:ext cx="1933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&lt;footer&gt;</a:t>
            </a: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www.dayeh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3805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98E7-4C02-48CE-803F-D507FC8ACD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266720" y="12193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3600" y="1650960"/>
            <a:ext cx="3490920" cy="3629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76200" y="277920"/>
            <a:ext cx="900360" cy="90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55960" y="3500280"/>
            <a:ext cx="1582920" cy="158292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1520" y="3521160"/>
            <a:ext cx="1533600" cy="15429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0120" y="1287360"/>
            <a:ext cx="1419480" cy="14623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66720" y="12193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440" y="5486040"/>
            <a:ext cx="7620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2560" y="645336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537F-D866-4F01-B565-624FDFE9A5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9933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9933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9933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95FA-0AC6-4611-B6EA-ADA111BCE2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06:15:04Z</dcterms:created>
  <dc:creator/>
  <dc:description/>
  <dc:language>en-US</dc:language>
  <cp:lastModifiedBy>大业管理</cp:lastModifiedBy>
  <dcterms:modified xsi:type="dcterms:W3CDTF">2015-01-10T12:52:16Z</dcterms:modified>
  <cp:revision>3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