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04C1F-792B-4068-9D0C-1A98FB2678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B5B36-7E4D-4A57-8812-AE9BC47F57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37FCD-9CA7-4874-894B-545F6F4C92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3F787-C1A1-4224-9AE5-D6ED11C624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8A34A-EC01-4FBA-9C4E-C4F60AC420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56EEE-2E2D-465C-977C-4FAA9389E6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A011E-D884-47CE-92F4-B5F7E7D58B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CBE2-CA63-4ADB-92A0-8C1C8182B2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7DBBB-2024-4F87-98BC-FA0D82C3B9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DB971-F371-48F8-948D-5BC2E841F0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15E9C-DDAA-4EFF-95EE-A21B72718E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F02E4-65E1-4792-A335-F1F05DF774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Num" idx="1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700C-F4CD-4D57-ACA7-BC70185B401A}" type="slidenum">
              <a:rPr b="0" lang="zh-CN" sz="1400" spc="-1" strike="noStrike">
                <a:solidFill>
                  <a:srgbClr val="00336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33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3" marL="1333440" algn="ctr">
              <a:spcBef>
                <a:spcPts val="4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3366"/>
              </a:solidFill>
              <a:latin typeface="Tahoma"/>
            </a:endParaRPr>
          </a:p>
          <a:p>
            <a:pPr lvl="4" marL="1752480" algn="ctr">
              <a:spcBef>
                <a:spcPts val="4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3366"/>
              </a:solidFill>
              <a:latin typeface="Tahoma"/>
            </a:endParaRPr>
          </a:p>
          <a:p>
            <a:pPr lvl="5" marL="17524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3366"/>
              </a:solidFill>
              <a:latin typeface="Tahoma"/>
            </a:endParaRPr>
          </a:p>
          <a:p>
            <a:pPr lvl="6" marL="17524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630864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ahoma"/>
              </a:rPr>
              <a:t>使用规范说明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！</a:t>
            </a:r>
            <a:endParaRPr b="0" lang="en-US" sz="16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556575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556575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556575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556575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556575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556575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556575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556575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04:34:32Z</dcterms:created>
  <dc:creator/>
  <dc:description/>
  <dc:language>en-US</dc:language>
  <cp:lastModifiedBy>ThinkPad</cp:lastModifiedBy>
  <dcterms:modified xsi:type="dcterms:W3CDTF">2015-01-11T11:51:29Z</dcterms:modified>
  <cp:revision>50</cp:revision>
  <dc:subject/>
  <dc:title>沈阳市宠物医生俱乐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011408272052</vt:lpwstr>
  </property>
</Properties>
</file>