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A9C-CD05-4164-88A8-8A0431EE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22E-4B98-462A-935D-8D76A2F6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D8F-A1FB-4504-9785-0004DEB4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766-8550-4CA5-8D1D-58250F40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2128-DAD1-4809-A18D-D4A8B4C4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162C-5AAE-4C68-AC89-886891E8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C41E-9E18-4451-873E-44C7682E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AE70-7495-4D6D-BC22-FDCD38A1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606E-2A19-4EFF-B67C-BB0DE5F9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FAE2-0C3B-4FA2-925B-D8984CF0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9A9F-D0A4-4F12-8082-48F9347F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0CA-7648-42C9-B947-C08F0275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390B-70C3-44EF-A41F-1B6DDEBE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E9A1-7634-4EC5-A880-9684B613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701E-6D5E-4460-A880-2FFB4FB4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9E50-5E58-4470-A9E5-F2E4212A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D97D-855D-4602-90C0-62B9AFE4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B89-0CAC-47D0-B375-F5C14A2D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B55-6B29-4F0F-8514-401ECDB3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95A-4EF1-4789-A72E-1E6B1877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E1F-4E69-4D09-AF39-BA41AA99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16F-3BF0-4A72-8FBA-82DBB7C5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9BA-CA41-4D84-8CB0-71935A97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178-263C-4960-B2CB-6BF0CDE7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DF14-76E2-47EC-A94A-94235ED7F7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65408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A986-6ACB-4BA7-BB9C-3704488331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494080"/>
            <a:ext cx="728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435640" y="3452760"/>
            <a:ext cx="3155760" cy="26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双击添加署名</a:t>
            </a: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/</a:t>
            </a: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公司名</a:t>
            </a: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/</a:t>
            </a: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日期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11" name="未知"/>
            <p:cNvSpPr/>
            <p:nvPr/>
          </p:nvSpPr>
          <p:spPr>
            <a:xfrm>
              <a:off x="5652360" y="3098880"/>
              <a:ext cx="135324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5498d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4c0fe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5495760" y="4088520"/>
              <a:ext cx="1191240" cy="133632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8dba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6886800" y="3274920"/>
              <a:ext cx="1207440" cy="132408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47698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2987640" y="285264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3492360" y="3718080"/>
            <a:ext cx="1729080" cy="28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7" name=""/>
          <p:cNvSpPr/>
          <p:nvPr/>
        </p:nvSpPr>
        <p:spPr>
          <a:xfrm>
            <a:off x="1961640" y="6237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9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22:41:14Z</dcterms:created>
  <dc:creator>北京锐得PPT</dc:creator>
  <dc:description/>
  <dc:language>en-US</dc:language>
  <cp:lastModifiedBy>微软用户</cp:lastModifiedBy>
  <dcterms:modified xsi:type="dcterms:W3CDTF">2015-01-11T11:41:18Z</dcterms:modified>
  <cp:revision>351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