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F2E-B9E5-438B-8269-A4731BAF1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FF0-1680-490F-AEAB-FE5F3DDF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7F7-5700-45F4-9D72-3B0D7777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77F-1263-4927-AC2E-E9D6E044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89B-839E-4E82-A8B3-AE67E21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4D2-F864-41AE-A0F4-8A05789F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15F-B1B3-4D57-A2E4-9C7FB9A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F8C-3D9C-409F-AA53-4D13968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B72-4A68-47CB-ACDE-6F5C1E59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934-4374-4C4A-9B09-396C140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EBE-35DE-4490-A876-18F95E6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1F8-BDD3-4568-8296-D2B849F4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e2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1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2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3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4" marL="343080" indent="-343080">
              <a:spcBef>
                <a:spcPts val="799"/>
              </a:spcBef>
              <a:buClr>
                <a:srgbClr val="123a52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a52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fe8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5C20-3C17-4291-B09D-96AD1CCDE9AA}" type="datetime">
              <a:rPr b="1" lang="zh-CN" sz="1200" spc="-1" strike="noStrike">
                <a:solidFill>
                  <a:srgbClr val="cfe8cc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01960"/>
            <a:ext cx="28958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01960"/>
            <a:ext cx="21337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fe8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F716-FFCF-46CC-995B-A6C0707AA866}" type="slidenum">
              <a:rPr b="1" lang="zh-CN" sz="1200" spc="-1" strike="noStrike">
                <a:solidFill>
                  <a:srgbClr val="cfe8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2130120"/>
            <a:ext cx="8178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71e28"/>
                </a:solidFill>
                <a:latin typeface="宋体"/>
              </a:rPr>
              <a:t>音乐</a:t>
            </a: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2c15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6950160" y="6237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71e28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3a52"/>
              </a:solidFill>
              <a:latin typeface="Cambria"/>
            </a:endParaRPr>
          </a:p>
        </p:txBody>
      </p:sp>
      <p:sp>
        <p:nvSpPr>
          <p:cNvPr id="46" name=""/>
          <p:cNvSpPr/>
          <p:nvPr/>
        </p:nvSpPr>
        <p:spPr>
          <a:xfrm>
            <a:off x="1748880" y="64040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b9f25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cfe8c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b9f2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0:07:00Z</dcterms:created>
  <dc:creator>Sx</dc:creator>
  <dc:description/>
  <dc:language>en-US</dc:language>
  <cp:lastModifiedBy/>
  <cp:lastPrinted>1899-12-30T00:00:00Z</cp:lastPrinted>
  <dcterms:modified xsi:type="dcterms:W3CDTF">2014-06-06T07:08:0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010362640</vt:lpwstr>
  </property>
</Properties>
</file>