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B854-9A06-4E69-AA41-947A8378B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5674-38FC-44CF-A6C3-865C83FE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726A-4E3B-4BF6-95B8-ACFC269D9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44F4-78B4-4098-93C0-DF6164368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74E8-D48A-4E75-8499-655C7F5A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4D09-F417-4FB4-866E-609211DC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2589-D0A3-4CA0-BDA0-4707EEAB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5520-F214-4E42-B5D4-6C4EBD8E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7A9C-3157-4E3B-AAAB-D8BB99C1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65BF-E2CF-49AE-9B54-B190B0CC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835C-1A25-48C4-B5CF-D1C42F8C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2474-001E-4502-8B42-49B3181F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33C1-2B6B-4A3B-A4EF-D822666C8D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0090511_7c6a1181ec8d7d43eaba6z81131hf_pHP"/>
          <p:cNvPicPr/>
          <p:nvPr/>
        </p:nvPicPr>
        <p:blipFill>
          <a:blip r:embed="rId1"/>
          <a:stretch/>
        </p:blipFill>
        <p:spPr>
          <a:xfrm>
            <a:off x="-28440" y="1440"/>
            <a:ext cx="9172440" cy="6878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00812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008814135451238_2"/>
          <p:cNvPicPr/>
          <p:nvPr/>
        </p:nvPicPr>
        <p:blipFill>
          <a:blip r:embed="rId1"/>
          <a:stretch/>
        </p:blipFill>
        <p:spPr>
          <a:xfrm>
            <a:off x="-27000" y="0"/>
            <a:ext cx="9171000" cy="6885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2008814135451238_2"/>
          <p:cNvPicPr/>
          <p:nvPr/>
        </p:nvPicPr>
        <p:blipFill>
          <a:blip r:embed="rId1"/>
          <a:stretch/>
        </p:blipFill>
        <p:spPr>
          <a:xfrm>
            <a:off x="0" y="0"/>
            <a:ext cx="9177480" cy="6885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0812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2008814135451238_2"/>
          <p:cNvPicPr/>
          <p:nvPr/>
        </p:nvPicPr>
        <p:blipFill>
          <a:blip r:embed="rId1"/>
          <a:stretch/>
        </p:blipFill>
        <p:spPr>
          <a:xfrm>
            <a:off x="-27000" y="0"/>
            <a:ext cx="9171000" cy="6885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3T19:31:44Z</dcterms:created>
  <dc:creator/>
  <dc:description/>
  <dc:language>en-US</dc:language>
  <cp:lastModifiedBy>king</cp:lastModifiedBy>
  <dcterms:modified xsi:type="dcterms:W3CDTF">2015-01-11T07:31:2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