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5A5BD-7E42-4C94-97E3-4C28F3B3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641A4-ECF6-4885-BFE4-BBB1891C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C80A0-F004-4DFF-AE26-F8BDF46C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B42A4-50FE-4017-A7A2-85C70E86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0F0D1-9898-4746-A23F-17E56577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E2271-B34A-4210-9CA7-D4502582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F9A51-573D-466C-8007-7D123B97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EB448-F030-47BC-AB7B-684803A8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FB239-F7FA-44FB-AB9C-62D5604C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608A2-823A-4FAC-8569-C76780B5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01A7A-398C-4C47-B800-BEF7E8BD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E1A47-02FF-4663-A9EF-FA7A4940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nordridesign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25.xml"/><Relationship Id="rId20" Type="http://schemas.openxmlformats.org/officeDocument/2006/relationships/slideLayout" Target="../slideLayouts/slideLayout26.xml"/><Relationship Id="rId21" Type="http://schemas.openxmlformats.org/officeDocument/2006/relationships/slideLayout" Target="../slideLayouts/slideLayout27.xml"/><Relationship Id="rId22" Type="http://schemas.openxmlformats.org/officeDocument/2006/relationships/slideLayout" Target="../slideLayouts/slideLayout28.xml"/><Relationship Id="rId23" Type="http://schemas.openxmlformats.org/officeDocument/2006/relationships/slideLayout" Target="../slideLayouts/slideLayout29.xml"/><Relationship Id="rId24" Type="http://schemas.openxmlformats.org/officeDocument/2006/relationships/slideLayout" Target="../slideLayouts/slideLayout30.xml"/><Relationship Id="rId25" Type="http://schemas.openxmlformats.org/officeDocument/2006/relationships/slideLayout" Target="../slideLayouts/slideLayout31.xml"/><Relationship Id="rId26" Type="http://schemas.openxmlformats.org/officeDocument/2006/relationships/slideLayout" Target="../slideLayouts/slideLayout32.xml"/><Relationship Id="rId27" Type="http://schemas.openxmlformats.org/officeDocument/2006/relationships/slideLayout" Target="../slideLayouts/slideLayout33.xml"/><Relationship Id="rId28" Type="http://schemas.openxmlformats.org/officeDocument/2006/relationships/slideLayout" Target="../slideLayouts/slideLayout34.xml"/><Relationship Id="rId29" Type="http://schemas.openxmlformats.org/officeDocument/2006/relationships/slideLayout" Target="../slideLayouts/slideLayout35.xml"/><Relationship Id="rId30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>
            <a:hlinkClick r:id="rId3"/>
          </p:cNvPr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5040" y="46526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11A5-522B-43F0-85D8-1EB0E95E2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>
            <a:hlinkClick r:id="rId5"/>
          </p:cNvPr>
          <p:cNvSpPr/>
          <p:nvPr/>
        </p:nvSpPr>
        <p:spPr>
          <a:xfrm>
            <a:off x="236844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7" name="" descr="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34792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8640" y="250704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2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>
            <a:hlinkClick r:id="rId13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>
            <a:hlinkClick r:id="rId1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>
            <a:hlinkClick r:id="rId15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6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9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125360"/>
              <a:ext cx="20170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183680"/>
              <a:ext cx="1728720" cy="4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34908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9"/>
    <p:sldLayoutId id="2147483676" r:id="rId20"/>
    <p:sldLayoutId id="2147483677" r:id="rId21"/>
    <p:sldLayoutId id="2147483678" r:id="rId22"/>
    <p:sldLayoutId id="2147483679" r:id="rId23"/>
    <p:sldLayoutId id="2147483680" r:id="rId24"/>
    <p:sldLayoutId id="2147483681" r:id="rId25"/>
    <p:sldLayoutId id="2147483682" r:id="rId26"/>
    <p:sldLayoutId id="2147483683" r:id="rId27"/>
    <p:sldLayoutId id="2147483684" r:id="rId28"/>
    <p:sldLayoutId id="2147483685" r:id="rId29"/>
    <p:sldLayoutId id="2147483686" r:id="rId3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94200" y="492588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5840" y="558972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3272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在【格式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设计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配色方案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添加修改在【视图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直接选择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【视图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486900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32200" y="595008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8f8f8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f8f8f8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f8f8f8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/>
  <dc:description/>
  <dc:language>en-US</dc:language>
  <cp:lastModifiedBy>小田</cp:lastModifiedBy>
  <dcterms:modified xsi:type="dcterms:W3CDTF">2015-01-11T12:01:03Z</dcterms:modified>
  <cp:revision>5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